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B10C-9D08-42B5-AE19-6D6C80AB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61548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0BB-E5ED-4674-A787-C69E5098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6154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6154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9958-C14B-4113-A1EB-18C2000F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6154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6154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6154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2E8-217C-4B67-8616-FD6FDC38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271D-D597-4551-85E5-AFC6CF62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29CA-B2DA-428B-873F-A0E286C3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33E6-95AC-4CC5-B197-04724326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4530-E2DB-436B-B73C-371FC6CF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613-4360-49BE-8776-133E47AD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6154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259-BC41-44E7-B870-AF24EDFA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6154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3850-8AFC-4A1E-AACF-9C992BF3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1548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AB81-B94F-4554-84FE-FDEB14E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2485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8 Dan McCreary &amp;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D878-18DB-4EF7-A652-F6B1791B275F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5829480"/>
            <a:ext cx="774720" cy="790560"/>
            <a:chOff x="228600" y="5829480"/>
            <a:chExt cx="774720" cy="790560"/>
          </a:xfrm>
        </p:grpSpPr>
        <p:sp>
          <p:nvSpPr>
            <p:cNvPr id="6" name=""/>
            <p:cNvSpPr/>
            <p:nvPr/>
          </p:nvSpPr>
          <p:spPr>
            <a:xfrm>
              <a:off x="228600" y="5829480"/>
              <a:ext cx="325440" cy="33336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880" y="6286680"/>
              <a:ext cx="325440" cy="33336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" name=""/>
            <p:cNvCxnSpPr/>
            <p:nvPr/>
          </p:nvCxnSpPr>
          <p:spPr>
            <a:xfrm>
              <a:off x="506520" y="6127920"/>
              <a:ext cx="219600" cy="194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" name=""/>
          <p:cNvGrpSpPr/>
          <p:nvPr/>
        </p:nvGrpSpPr>
        <p:grpSpPr>
          <a:xfrm>
            <a:off x="0" y="1257480"/>
            <a:ext cx="9144000" cy="75960"/>
            <a:chOff x="0" y="1257480"/>
            <a:chExt cx="9144000" cy="75960"/>
          </a:xfrm>
        </p:grpSpPr>
        <p:sp>
          <p:nvSpPr>
            <p:cNvPr id="10" name=""/>
            <p:cNvSpPr/>
            <p:nvPr/>
          </p:nvSpPr>
          <p:spPr>
            <a:xfrm>
              <a:off x="0" y="1333440"/>
              <a:ext cx="9144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1257480"/>
              <a:ext cx="914400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Importing XML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orting, Splitting and Updating XML Data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e: 9/30/200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57800" y="45716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20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73520" y="2546280"/>
            <a:ext cx="9360" cy="9360"/>
            <a:chOff x="4673520" y="2546280"/>
            <a:chExt cx="9360" cy="9360"/>
          </a:xfrm>
        </p:grpSpPr>
        <p:grpSp>
          <p:nvGrpSpPr>
            <p:cNvPr id="52" name=""/>
            <p:cNvGrpSpPr/>
            <p:nvPr/>
          </p:nvGrpSpPr>
          <p:grpSpPr>
            <a:xfrm>
              <a:off x="4678200" y="2550960"/>
              <a:ext cx="360" cy="360"/>
              <a:chOff x="4678200" y="2550960"/>
              <a:chExt cx="360" cy="360"/>
            </a:xfrm>
          </p:grpSpPr>
          <p:sp>
            <p:nvSpPr>
              <p:cNvPr id="53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673520" y="2546280"/>
              <a:ext cx="9360" cy="9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3080" y="5143680"/>
            <a:ext cx="2209320" cy="1383120"/>
            <a:chOff x="343080" y="5143680"/>
            <a:chExt cx="2209320" cy="1383120"/>
          </a:xfrm>
        </p:grpSpPr>
        <p:sp>
          <p:nvSpPr>
            <p:cNvPr id="57" name=""/>
            <p:cNvSpPr/>
            <p:nvPr/>
          </p:nvSpPr>
          <p:spPr>
            <a:xfrm>
              <a:off x="808200" y="5143680"/>
              <a:ext cx="464400" cy="46440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89240" y="5724360"/>
              <a:ext cx="465120" cy="46512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57" idx="5"/>
              <a:endCxn id="58" idx="1"/>
            </p:cNvCxnSpPr>
            <p:nvPr/>
          </p:nvCxnSpPr>
          <p:spPr>
            <a:xfrm>
              <a:off x="1204560" y="5540040"/>
              <a:ext cx="253080" cy="252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343080" y="6189480"/>
              <a:ext cx="22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etadata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4A7-BCE6-44B6-A793-E741F6F6C7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esults of Renam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14680" y="10288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06E5-AE27-4B6B-BD6A-A2FBD517D5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emove All Underscor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57680" y="1714680"/>
            <a:ext cx="3743280" cy="383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C54D-FB50-4DC7-9D8A-4E160CFBC3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ints on Using Replac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o include the “&gt;” at the end to replace all begin and end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“OldName&gt;” with “NewName&gt;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lectively use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se regular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use XPath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D397-1AAC-4C09-A88E-8C99704066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inal Resul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485720"/>
            <a:ext cx="77724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countri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countr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CountryNam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GHANISTAN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Country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PrimaryAuthor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PrimaryAutho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StartDat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795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Start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FirstDraftDat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803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FirstDraft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FirstReviewDat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815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FirstReview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AuthorRedraftDat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829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AuthorRedraft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SecondReviewerNam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y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SecondReviewer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SecondReviewDat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858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SecondReview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SecondReviewFinalDat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872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SecondReviewFinal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CompleationDate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885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Compleation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countr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B5D0-36A7-4D0F-846D-20E799C0ED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plitting Large Fil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large XML files can be considered collections of uniform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preadsheet is a collection of “row”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sometimes advantageous to put each object in its own XM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rd Lock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llows a file to be locked by a single user for ed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he database automatically can keep track of when these records were created and when they were modified (document-meta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ach object can have its own version his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99E2-15CA-4AE9-B9CB-1F3ADC4622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Missing Updates Problem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257800" y="1636560"/>
            <a:ext cx="3200400" cy="39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happens when two people load a record into the web client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lice reads the record before the Bob does his save, Bobs updates will be lost when Alice does her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71880" y="1714680"/>
            <a:ext cx="914400" cy="1028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d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tem 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00680" y="2629080"/>
            <a:ext cx="1028520" cy="1143000"/>
          </a:xfrm>
          <a:prstGeom prst="can">
            <a:avLst>
              <a:gd name="adj" fmla="val 250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71880" y="3314880"/>
            <a:ext cx="914400" cy="10285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d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tem 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71600" y="1943280"/>
            <a:ext cx="228600" cy="570600"/>
            <a:chOff x="1371600" y="1943280"/>
            <a:chExt cx="228600" cy="570600"/>
          </a:xfrm>
        </p:grpSpPr>
        <p:sp>
          <p:nvSpPr>
            <p:cNvPr id="102" name=""/>
            <p:cNvSpPr/>
            <p:nvPr/>
          </p:nvSpPr>
          <p:spPr>
            <a:xfrm>
              <a:off x="1371600" y="1943280"/>
              <a:ext cx="228600" cy="228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86080" y="217152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2286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371600" y="2399760"/>
              <a:ext cx="11448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1485720" y="2399760"/>
              <a:ext cx="114120" cy="11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371600" y="3429000"/>
            <a:ext cx="228600" cy="571680"/>
            <a:chOff x="1371600" y="3429000"/>
            <a:chExt cx="228600" cy="571680"/>
          </a:xfrm>
        </p:grpSpPr>
        <p:sp>
          <p:nvSpPr>
            <p:cNvPr id="108" name=""/>
            <p:cNvSpPr/>
            <p:nvPr/>
          </p:nvSpPr>
          <p:spPr>
            <a:xfrm>
              <a:off x="1371600" y="3429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86080" y="3657600"/>
              <a:ext cx="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71600" y="37720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371600" y="3886200"/>
              <a:ext cx="11448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1485720" y="3886200"/>
              <a:ext cx="11412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3" name=""/>
          <p:cNvCxnSpPr>
            <a:stCxn id="98" idx="3"/>
            <a:endCxn id="99" idx="2"/>
          </p:cNvCxnSpPr>
          <p:nvPr/>
        </p:nvCxnSpPr>
        <p:spPr>
          <a:xfrm>
            <a:off x="3086280" y="2228400"/>
            <a:ext cx="915120" cy="972360"/>
          </a:xfrm>
          <a:prstGeom prst="curvedConnector5">
            <a:avLst>
              <a:gd name="adj1" fmla="val 49980"/>
              <a:gd name="adj2" fmla="val 50000"/>
              <a:gd name="adj3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0" idx="3"/>
            <a:endCxn id="99" idx="2"/>
          </p:cNvCxnSpPr>
          <p:nvPr/>
        </p:nvCxnSpPr>
        <p:spPr>
          <a:xfrm flipV="1">
            <a:off x="3086280" y="3200040"/>
            <a:ext cx="915120" cy="629280"/>
          </a:xfrm>
          <a:prstGeom prst="curvedConnector5">
            <a:avLst>
              <a:gd name="adj1" fmla="val 49980"/>
              <a:gd name="adj2" fmla="val 49971"/>
              <a:gd name="adj3" fmla="val 4998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258560" y="2514600"/>
            <a:ext cx="5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o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60360" y="400068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l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582948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1240" y="5052960"/>
            <a:ext cx="8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ob O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dit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55080" y="5052960"/>
            <a:ext cx="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lice O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Edit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3080" y="5052960"/>
            <a:ext cx="822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ob S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50360" y="5052960"/>
            <a:ext cx="116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Alice Over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ob’s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54864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54864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429000" y="54864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54864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4160" y="5829480"/>
            <a:ext cx="48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7CD-2CA4-450A-9B01-11043CECE0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3080" y="114120"/>
            <a:ext cx="811512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Solution: Run File Through a “Splitter”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small XQuery called a “splitter” to break a single file into many small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t each “row” and create a new file with the row’s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counter to create the file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xml, 2.xml, 3.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known as an “artificial ke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3ED1-014B-4AE9-9E72-D8DC7CB489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Using the store funct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XML databases provide a function that allows you to store a new file into a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eXist this is called xmldb:stor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mldb:store($collection, $filename, $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colle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place you want to store the new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file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name of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$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data you want to put into the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100-F2BE-4896-B879-3CDFF8FA7C6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Basic splitter.xq Structur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943280"/>
            <a:ext cx="8458200" cy="26287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at 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0" lang="en-US" sz="28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6400"/>
                </a:solidFill>
                <a:latin typeface="Arial"/>
              </a:rPr>
              <a:t>do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-file)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name 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6400"/>
                </a:solidFill>
                <a:latin typeface="Arial"/>
              </a:rPr>
              <a:t>conc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, </a:t>
            </a:r>
            <a:r>
              <a:rPr b="0" lang="en-US" sz="2800" spc="-1" strike="noStrike">
                <a:solidFill>
                  <a:srgbClr val="640064"/>
                </a:solidFill>
                <a:latin typeface="Arial"/>
              </a:rPr>
              <a:t>'.xml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6400"/>
                </a:solidFill>
                <a:latin typeface="Arial"/>
              </a:rPr>
              <a:t>st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, 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name, 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fa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8200" y="5143680"/>
            <a:ext cx="83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e that file names are a concatenation of the count and the suffix “.xm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A46-DACC-4931-81D1-5152526D0A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esting Step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t a test splitter (splitter-test.xq) with the store line commented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he test to make sure the data is exactly the way you want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comment the line and save to splitter.x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he script (only o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ew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F027-627A-4174-864B-ED26EB7AB2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utlin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Import data from a Microsoft Excel spread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Xygen’s “Import Excel” to create a single XM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global replace to clean-up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the XML file to a new collection and create a test XQuery using the doc()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n “splitter” XQuery that will split the single XML file into multiple XML files, one file per 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new XQuery using the collection()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how to run update scripts to add data elements to an existing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EDDA-13F9-4E9F-B1A8-52C5AEBC0A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Doc Workflow Exampl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468648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80" y="114480"/>
            <a:ext cx="8572320" cy="66294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-file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'/db/apps/doc-reviewer/import.xml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-collection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'/db/apps/doc-reviewer/dat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(: the login used must have write access to the collection 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-collection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xmldb:log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-collection,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‘login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‘password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litResult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ry at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do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-file)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rie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name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conc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,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'.xml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(: let $store-return := xmldb:store($data-collection, $filename, $country) 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}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sto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{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-collection}, {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name}, {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ry})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litResult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1160" y="8002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litter-test.x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ECA-CE6C-47E6-8BC5-A1CF08D8E8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est Run Result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4638600" cy="4390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2F53-3FA1-453B-BF27-F1F2C19CBA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Doc Workflow Exampl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468648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3080" y="114480"/>
            <a:ext cx="8572320" cy="66294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-file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'/db/apps/doc-reviewer/import.xml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-collection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'/db/apps/doc-reviewer/dat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(: the login used must have write access to the collection :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-collection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xmldb:log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-collection,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‘login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‘password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litResult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ry at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 </a:t>
            </a: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do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-file)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rie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name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conc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,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'.xml'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e-return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a6400"/>
                </a:solidFill>
                <a:latin typeface="Arial"/>
              </a:rPr>
              <a:t>xmldb:sto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-collection,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name,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}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sto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{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-collection}, {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name}, {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ry})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-return}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litResult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01160" y="8002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plitter-test.x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91D-46AC-4D4A-8415-6562C52B5C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ctual Ru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24080" y="1362240"/>
            <a:ext cx="4695840" cy="4133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71880" y="4915080"/>
            <a:ext cx="4114800" cy="571320"/>
          </a:xfrm>
          <a:prstGeom prst="ellipse">
            <a:avLst/>
          </a:prstGeom>
          <a:noFill/>
          <a:ln w="2844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17F4-0A10-4B72-A418-611B80B8FF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Inspecting Result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00280" y="1486080"/>
            <a:ext cx="7286400" cy="443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4C2C-AE79-4630-99AE-5616EFD04B4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reate XQuery Update Script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XQuery scripts to run batch updates on all the rec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insert to “update insert” to a new elements into each XM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localhost:8080/exist/update_ext.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C624-DCAF-4D3A-B6F3-80DA92325B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dd Joe a the FAQ Author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343080" y="1486080"/>
            <a:ext cx="8572320" cy="44575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'/db/apps/faqs/dat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q </a:t>
            </a: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coll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)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q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ult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update insert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e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hor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}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-result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}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-result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E9C1-611D-452A-9027-A1A3C49B7D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nly Insert if Not Already Presen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0766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640064"/>
                </a:solidFill>
                <a:latin typeface="Arial"/>
              </a:rPr>
              <a:t>'/db/apps/faqs/data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q </a:t>
            </a: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a6400"/>
                </a:solidFill>
                <a:latin typeface="Arial"/>
              </a:rPr>
              <a:t>coll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)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q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600" spc="-1" strike="noStrike">
                <a:solidFill>
                  <a:srgbClr val="fa6400"/>
                </a:solidFill>
                <a:latin typeface="Arial"/>
              </a:rPr>
              <a:t>no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uthor)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q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let $result := update insert &lt;author&gt;joe&lt;/author&gt; into $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}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-result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{</a:t>
            </a:r>
            <a:r>
              <a:rPr b="0" lang="en-US" sz="1600" spc="-1" strike="noStrike">
                <a:solidFill>
                  <a:srgbClr val="008c00"/>
                </a:solidFill>
                <a:latin typeface="Arial"/>
              </a:rPr>
              <a:t>$result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}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-result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16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93A-06AA-4794-BAAD-4AD4A2F410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Befor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32004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faq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id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/i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faq-category-id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/faq-category-i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question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is it called the Department of State?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/ques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answer&gt;</a:t>
            </a:r>
            <a:r>
              <a:rPr b="0" lang="en-US" sz="2000" spc="-1" strike="noStrike">
                <a:solidFill>
                  <a:srgbClr val="008c00"/>
                </a:solidFill>
                <a:latin typeface="Times New Roman"/>
              </a:rPr>
              <a:t>On September 15, 1789, Congress passed "An Act to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c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8c00"/>
                </a:solidFill>
                <a:latin typeface="Times New Roman"/>
              </a:rPr>
              <a:t>provide for the safe keeping of the Acts, Records, and Seal of the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c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8c00"/>
                </a:solidFill>
                <a:latin typeface="Times New Roman"/>
              </a:rPr>
              <a:t>United States, and for other purposes." Thi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c00"/>
                </a:solidFill>
                <a:latin typeface="Times New Roman"/>
              </a:rPr>
              <a:t>       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c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8c00"/>
                </a:solidFill>
                <a:latin typeface="Times New Roman"/>
              </a:rPr>
              <a:t>public inquiries.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/answ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/faq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B82-1825-48AD-AE62-F1CEDA2EC2E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fter Insert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4290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faq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id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/i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faq-category-id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/faq-category-i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question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 is it called the Department of State?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/ques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answer&gt;</a:t>
            </a:r>
            <a:r>
              <a:rPr b="0" lang="en-US" sz="2000" spc="-1" strike="noStrike">
                <a:solidFill>
                  <a:srgbClr val="008c00"/>
                </a:solidFill>
                <a:latin typeface="Times New Roman"/>
              </a:rPr>
              <a:t>&lt;On September 15, 1789, Congress passed "An Act to provide for the safe keeping of the Acts, Records, and Seal of the United States, and for other purposes." This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c00"/>
                </a:solidFill>
                <a:latin typeface="Times New Roman"/>
              </a:rPr>
              <a:t>     …</a:t>
            </a:r>
            <a:r>
              <a:rPr b="0" lang="en-US" sz="2000" spc="-1" strike="noStrike">
                <a:solidFill>
                  <a:srgbClr val="008c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c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8c00"/>
                </a:solidFill>
                <a:latin typeface="Times New Roman"/>
              </a:rPr>
              <a:t>public inquiries.&gt;</a:t>
            </a: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/answ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96"/>
                </a:solidFill>
                <a:latin typeface="Times New Roman"/>
              </a:rPr>
              <a:t>&lt;author&g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oe</a:t>
            </a:r>
            <a:r>
              <a:rPr b="1" lang="en-US" sz="2000" spc="-1" strike="noStrike">
                <a:solidFill>
                  <a:srgbClr val="000096"/>
                </a:solidFill>
                <a:latin typeface="Times New Roman"/>
              </a:rPr>
              <a:t>&lt;/autho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6"/>
                </a:solidFill>
                <a:latin typeface="Times New Roman"/>
              </a:rPr>
              <a:t>&lt;/faq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F619-0B31-41C1-AC2E-2CC37FF680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riginal Spreadsheet Header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382240" cy="19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1CC-FE33-4C9D-932D-4E8AD8675F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Update Inser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71680" y="1371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inse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 into | following | preceding 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rSin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5143680"/>
            <a:ext cx="6972480" cy="9169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$results :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insert &lt;DocumentCreatedBy&gt;joe&lt;/DocumentCreatedB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o $i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97240" y="1943280"/>
            <a:ext cx="5558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The content is appended after the last 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de of the specified el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llow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The content is inserted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fter the node specified in exprSi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cedin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The content is inserted befor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de specified in exprSi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4CEF-845B-46D2-8A0D-35A323F9ED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Inserting Into Item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468648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with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o $item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ll add the new element to the end of the list of the children of a complex 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86080" y="2514600"/>
            <a:ext cx="1028520" cy="343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1828800"/>
            <a:ext cx="1257480" cy="343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eme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2400480"/>
            <a:ext cx="1257480" cy="342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eme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2971800"/>
            <a:ext cx="1257480" cy="343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emen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7" idx="3"/>
            <a:endCxn id="168" idx="1"/>
          </p:cNvCxnSpPr>
          <p:nvPr/>
        </p:nvCxnSpPr>
        <p:spPr>
          <a:xfrm flipV="1">
            <a:off x="2514240" y="1999440"/>
            <a:ext cx="686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7" idx="3"/>
            <a:endCxn id="169" idx="1"/>
          </p:cNvCxnSpPr>
          <p:nvPr/>
        </p:nvCxnSpPr>
        <p:spPr>
          <a:xfrm flipV="1">
            <a:off x="2514240" y="2571120"/>
            <a:ext cx="68652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7" idx="3"/>
            <a:endCxn id="170" idx="1"/>
          </p:cNvCxnSpPr>
          <p:nvPr/>
        </p:nvCxnSpPr>
        <p:spPr>
          <a:xfrm>
            <a:off x="2514240" y="268596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3200400" y="3543480"/>
            <a:ext cx="1714680" cy="34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w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" name=""/>
          <p:cNvCxnSpPr>
            <a:stCxn id="167" idx="3"/>
            <a:endCxn id="174" idx="1"/>
          </p:cNvCxnSpPr>
          <p:nvPr/>
        </p:nvCxnSpPr>
        <p:spPr>
          <a:xfrm>
            <a:off x="2514240" y="2685960"/>
            <a:ext cx="686520" cy="1029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" name=""/>
          <p:cNvSpPr/>
          <p:nvPr/>
        </p:nvSpPr>
        <p:spPr>
          <a:xfrm flipH="1">
            <a:off x="4914720" y="3200400"/>
            <a:ext cx="194292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75000" y="2629080"/>
            <a:ext cx="17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w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ert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2511-1B7E-489D-8B84-17109DBE79F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Insert Following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468648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using “following $item/element2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86080" y="2514600"/>
            <a:ext cx="1028520" cy="343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1828800"/>
            <a:ext cx="1257480" cy="343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eme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2400480"/>
            <a:ext cx="1257480" cy="342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eme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543480"/>
            <a:ext cx="1257480" cy="342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emen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0" idx="3"/>
            <a:endCxn id="181" idx="1"/>
          </p:cNvCxnSpPr>
          <p:nvPr/>
        </p:nvCxnSpPr>
        <p:spPr>
          <a:xfrm flipV="1">
            <a:off x="2514240" y="1999440"/>
            <a:ext cx="686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80" idx="3"/>
            <a:endCxn id="182" idx="1"/>
          </p:cNvCxnSpPr>
          <p:nvPr/>
        </p:nvCxnSpPr>
        <p:spPr>
          <a:xfrm flipV="1">
            <a:off x="2514240" y="2571120"/>
            <a:ext cx="686520" cy="114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  <a:endCxn id="183" idx="1"/>
          </p:cNvCxnSpPr>
          <p:nvPr/>
        </p:nvCxnSpPr>
        <p:spPr>
          <a:xfrm>
            <a:off x="2514240" y="2685960"/>
            <a:ext cx="686520" cy="1029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3200400" y="2971800"/>
            <a:ext cx="1714680" cy="34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w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0" idx="3"/>
            <a:endCxn id="187" idx="1"/>
          </p:cNvCxnSpPr>
          <p:nvPr/>
        </p:nvCxnSpPr>
        <p:spPr>
          <a:xfrm>
            <a:off x="2514240" y="268596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" name=""/>
          <p:cNvSpPr/>
          <p:nvPr/>
        </p:nvSpPr>
        <p:spPr>
          <a:xfrm flipH="1">
            <a:off x="5029200" y="2743200"/>
            <a:ext cx="194328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975000" y="2057400"/>
            <a:ext cx="17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w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ert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534-DC48-4F26-8D08-30012E358D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Insert Preceding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68648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 using “preceding $item/element2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57480" y="2629080"/>
            <a:ext cx="1028520" cy="342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1943280"/>
            <a:ext cx="1257480" cy="342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emen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3086280"/>
            <a:ext cx="1257480" cy="342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emen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3657600"/>
            <a:ext cx="1257480" cy="3430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lemen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3" idx="3"/>
            <a:endCxn id="194" idx="1"/>
          </p:cNvCxnSpPr>
          <p:nvPr/>
        </p:nvCxnSpPr>
        <p:spPr>
          <a:xfrm flipV="1">
            <a:off x="2285640" y="2113920"/>
            <a:ext cx="68652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" name=""/>
          <p:cNvCxnSpPr>
            <a:stCxn id="193" idx="3"/>
            <a:endCxn id="195" idx="1"/>
          </p:cNvCxnSpPr>
          <p:nvPr/>
        </p:nvCxnSpPr>
        <p:spPr>
          <a:xfrm>
            <a:off x="2285640" y="2800440"/>
            <a:ext cx="686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" name=""/>
          <p:cNvCxnSpPr>
            <a:stCxn id="193" idx="3"/>
            <a:endCxn id="196" idx="1"/>
          </p:cNvCxnSpPr>
          <p:nvPr/>
        </p:nvCxnSpPr>
        <p:spPr>
          <a:xfrm>
            <a:off x="2285640" y="2800080"/>
            <a:ext cx="68652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" name=""/>
          <p:cNvSpPr/>
          <p:nvPr/>
        </p:nvSpPr>
        <p:spPr>
          <a:xfrm>
            <a:off x="2971800" y="2514600"/>
            <a:ext cx="1714680" cy="343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w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93" idx="3"/>
            <a:endCxn id="200" idx="1"/>
          </p:cNvCxnSpPr>
          <p:nvPr/>
        </p:nvCxnSpPr>
        <p:spPr>
          <a:xfrm flipV="1">
            <a:off x="2285640" y="2685600"/>
            <a:ext cx="6865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 flipH="1">
            <a:off x="4800240" y="2286000"/>
            <a:ext cx="1714680" cy="4572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631920" y="1714680"/>
            <a:ext cx="175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ew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erted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FC7-81E0-4781-B412-F251AB783B9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Update Valu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00280" y="274320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can be used to update the text values of elements with a new value.  Useful for putting consistent values into elemen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10000" y="1714680"/>
            <a:ext cx="7547760" cy="4597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t $results := update $item/my-element/text() with ‘new-value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729B-880A-4571-9938-55F2312E07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ank You!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ontact me for more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XM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Regi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Oriented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Intelligence and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,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tadata Strategy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3B2-F286-4F41-A159-9A3872D15E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ample ISO Data Element Term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400480"/>
            <a:ext cx="1943280" cy="3504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5257800"/>
            <a:ext cx="50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e http://en.wikipedia.org/wiki/Representation_ter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a complete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2200" y="2251080"/>
            <a:ext cx="44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ocumentApprovalD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343400" y="2286000"/>
            <a:ext cx="685800" cy="1828800"/>
          </a:xfrm>
          <a:custGeom>
            <a:avLst/>
            <a:gdLst>
              <a:gd name="textAreaLeft" fmla="*/ 0 w 685800"/>
              <a:gd name="textAreaRight" fmla="*/ 247680 w 6858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5400000">
            <a:off x="6057720" y="2400480"/>
            <a:ext cx="685800" cy="1600200"/>
          </a:xfrm>
          <a:custGeom>
            <a:avLst/>
            <a:gdLst>
              <a:gd name="textAreaLeft" fmla="*/ 0 w 685800"/>
              <a:gd name="textAreaRight" fmla="*/ 247680 w 6858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7257960" y="2800440"/>
            <a:ext cx="685800" cy="799920"/>
          </a:xfrm>
          <a:custGeom>
            <a:avLst/>
            <a:gdLst>
              <a:gd name="textAreaLeft" fmla="*/ 0 w 685800"/>
              <a:gd name="textAreaRight" fmla="*/ 247680 w 685800"/>
              <a:gd name="textAreaTop" fmla="*/ 20520 h 799920"/>
              <a:gd name="textAreaBottom" fmla="*/ 779400 h 79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6960" y="3657600"/>
            <a:ext cx="95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bjec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6800" y="3772080"/>
            <a:ext cx="12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02520" y="3772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6320" y="1486080"/>
            <a:ext cx="28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mple of ISO 111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presentation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495-CA0B-4532-9244-ED2EE6D0B9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olumn Headers with Representation Term Suffix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28600" y="1943280"/>
            <a:ext cx="8572680" cy="211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BB1A-A567-4E59-8737-1DD487EFF0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elect the Shee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52640" y="2000160"/>
            <a:ext cx="5238720" cy="2857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1AB7-E85E-4FC1-A781-26351BDE64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Import Default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714680" y="80028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A8A-1F69-4926-B8FA-1E3FB68E5D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hange Root and Row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476600" cy="5438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6FC2-08FD-42CB-B57D-49F2783BC98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emantic Root and Row Nam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266920" y="1028880"/>
            <a:ext cx="46101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8B5-5596-48A2-95A7-CA7A18616C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5:28:23Z</dcterms:created>
  <dc:creator>HP Authorized Customer</dc:creator>
  <dc:description/>
  <dc:language>en-US</dc:language>
  <cp:lastModifiedBy>Dan McCreary</cp:lastModifiedBy>
  <dcterms:modified xsi:type="dcterms:W3CDTF">2008-10-09T02:59:09Z</dcterms:modified>
  <cp:revision>8</cp:revision>
  <dc:subject/>
  <dc:title>Importing XML Importing and Splitting XML Data Date: 9/30/2008</dc:title>
</cp:coreProperties>
</file>