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9619-CCCE-4B62-9562-BCF1C59B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B34B-D69F-47D0-900B-E53FD3091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819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6E46-6A21-4C00-957E-784A76A3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81960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81960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F1D6-E5FA-4D67-BBC0-E2431373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5B0-3789-49E6-8F4B-2CF98846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E429-6D19-4BBE-8EF2-A28236D6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7897-BE77-4ADF-B169-4D6B3B29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DAE-6ADD-44DA-9A05-6C0FC191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14120"/>
            <a:ext cx="77724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876-2C03-4835-B321-48F45F84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0E2-FC4D-4DA9-ADA2-906A7B4F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819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BD8-565E-4588-8328-21F242E69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519-5EB9-4866-91DB-6EBDC5FA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560" y="62485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8 Dan McCreary &amp; Assoc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8FA3-A4A7-4305-81C7-73E8C8130977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5829480"/>
            <a:ext cx="774720" cy="790560"/>
            <a:chOff x="228600" y="5829480"/>
            <a:chExt cx="774720" cy="790560"/>
          </a:xfrm>
        </p:grpSpPr>
        <p:sp>
          <p:nvSpPr>
            <p:cNvPr id="6" name=""/>
            <p:cNvSpPr/>
            <p:nvPr/>
          </p:nvSpPr>
          <p:spPr>
            <a:xfrm>
              <a:off x="228600" y="5829480"/>
              <a:ext cx="325440" cy="33336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7880" y="6286680"/>
              <a:ext cx="325440" cy="33336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" name=""/>
            <p:cNvCxnSpPr/>
            <p:nvPr/>
          </p:nvCxnSpPr>
          <p:spPr>
            <a:xfrm>
              <a:off x="506520" y="6127920"/>
              <a:ext cx="219600" cy="194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" name=""/>
          <p:cNvGrpSpPr/>
          <p:nvPr/>
        </p:nvGrpSpPr>
        <p:grpSpPr>
          <a:xfrm>
            <a:off x="0" y="1143000"/>
            <a:ext cx="9144000" cy="75960"/>
            <a:chOff x="0" y="1143000"/>
            <a:chExt cx="9144000" cy="75960"/>
          </a:xfrm>
        </p:grpSpPr>
        <p:sp>
          <p:nvSpPr>
            <p:cNvPr id="10" name=""/>
            <p:cNvSpPr/>
            <p:nvPr/>
          </p:nvSpPr>
          <p:spPr>
            <a:xfrm>
              <a:off x="0" y="1218960"/>
              <a:ext cx="91440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1143000"/>
              <a:ext cx="9144000" cy="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ow to Build an Rich Text Editor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sing XBL to add a Custom Contro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e: 10/16/200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57800" y="457164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 McCr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 McCreary &amp; Assoc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@danmccrea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952) 931-91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20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673520" y="2546280"/>
            <a:ext cx="9360" cy="9360"/>
            <a:chOff x="4673520" y="2546280"/>
            <a:chExt cx="9360" cy="9360"/>
          </a:xfrm>
        </p:grpSpPr>
        <p:grpSp>
          <p:nvGrpSpPr>
            <p:cNvPr id="52" name=""/>
            <p:cNvGrpSpPr/>
            <p:nvPr/>
          </p:nvGrpSpPr>
          <p:grpSpPr>
            <a:xfrm>
              <a:off x="4678200" y="2550960"/>
              <a:ext cx="360" cy="360"/>
              <a:chOff x="4678200" y="2550960"/>
              <a:chExt cx="360" cy="360"/>
            </a:xfrm>
          </p:grpSpPr>
          <p:sp>
            <p:nvSpPr>
              <p:cNvPr id="53" name=""/>
              <p:cNvSpPr/>
              <p:nvPr/>
            </p:nvSpPr>
            <p:spPr>
              <a:xfrm>
                <a:off x="4678200" y="2550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78200" y="2550960"/>
                <a:ext cx="36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673520" y="2546280"/>
              <a:ext cx="9360" cy="9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3080" y="5143680"/>
            <a:ext cx="2209320" cy="1383120"/>
            <a:chOff x="343080" y="5143680"/>
            <a:chExt cx="2209320" cy="1383120"/>
          </a:xfrm>
        </p:grpSpPr>
        <p:sp>
          <p:nvSpPr>
            <p:cNvPr id="57" name=""/>
            <p:cNvSpPr/>
            <p:nvPr/>
          </p:nvSpPr>
          <p:spPr>
            <a:xfrm>
              <a:off x="808200" y="5143680"/>
              <a:ext cx="464400" cy="46440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89240" y="5724360"/>
              <a:ext cx="465120" cy="46512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>
              <a:stCxn id="57" idx="5"/>
              <a:endCxn id="58" idx="1"/>
            </p:cNvCxnSpPr>
            <p:nvPr/>
          </p:nvCxnSpPr>
          <p:spPr>
            <a:xfrm>
              <a:off x="1204560" y="5540040"/>
              <a:ext cx="253080" cy="252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"/>
            <p:cNvSpPr/>
            <p:nvPr/>
          </p:nvSpPr>
          <p:spPr>
            <a:xfrm>
              <a:off x="343080" y="6189480"/>
              <a:ext cx="22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etadata 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0F4-37B2-4892-A82D-18A62EF459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verview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the wikib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70AE-CF15-4469-9EBE-AF6CBE6745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Viewing the Form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836" t="22126" r="6601" b="3564"/>
          <a:stretch/>
        </p:blipFill>
        <p:spPr>
          <a:xfrm>
            <a:off x="1919160" y="1298520"/>
            <a:ext cx="5146920" cy="531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64E-C781-4773-B01D-D817E3B2E3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Using the Rich Text Editor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979" t="21974" r="4903" b="3163"/>
          <a:stretch/>
        </p:blipFill>
        <p:spPr>
          <a:xfrm>
            <a:off x="1144440" y="1643040"/>
            <a:ext cx="6580440" cy="477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94F0-7E3C-4230-A4F0-4E1A31023E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hank You!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contact me for more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XM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Regi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Oriented 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Intelligence and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 McCreary,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 McCreary &amp; Associ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tadata Strategy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@danmccrear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952) 931-91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045-9D68-4FC7-9DF0-0780F4A92C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13:33:49Z</dcterms:created>
  <dc:creator>HP Authorized Customer</dc:creator>
  <dc:description/>
  <dc:language>en-US</dc:language>
  <cp:lastModifiedBy>HP Authorized Customer</cp:lastModifiedBy>
  <dcterms:modified xsi:type="dcterms:W3CDTF">2008-10-17T13:41:31Z</dcterms:modified>
  <cp:revision>1</cp:revision>
  <dc:subject/>
  <dc:title>How to Build an Rich Text Editor Using XBL to add a Custom Control Date: 10/16/2008</dc:title>
</cp:coreProperties>
</file>