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304-B718-4B72-BB84-C6C41B85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1960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0B78-4489-4AA2-9C6D-9CE66B608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19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A7FE-8F37-468A-9A13-C5041D0B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19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19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19600"/>
            <a:ext cx="25023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51F-3F56-47B9-8783-BD4E3A482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6CD-423B-4BF0-BBBD-9CE051A1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B655-BCB7-4449-BA57-EFE37FB3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6D70-0095-41E5-BD4C-BEB4DC25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457-0EE6-49A6-BDE9-B403B9C9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421-660B-44B8-90EC-998E0D2D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962-D608-42A4-A7C3-174D5CBF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19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3FC9-3AC8-4D1F-A46E-B66C6C76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19600"/>
            <a:ext cx="7772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3034-C908-4BFA-8ED7-04E40BEF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2485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8 Dan McCreary &amp;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54AA2-BE27-4D5A-BA3A-7C5B4E70F9E2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6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" name=""/>
            <p:cNvCxnSpPr/>
            <p:nvPr/>
          </p:nvCxnSpPr>
          <p:spPr>
            <a:xfrm>
              <a:off x="506520" y="6127920"/>
              <a:ext cx="219600" cy="19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" name=""/>
          <p:cNvGrpSpPr/>
          <p:nvPr/>
        </p:nvGrpSpPr>
        <p:grpSpPr>
          <a:xfrm>
            <a:off x="0" y="1143000"/>
            <a:ext cx="9144000" cy="75960"/>
            <a:chOff x="0" y="1143000"/>
            <a:chExt cx="9144000" cy="75960"/>
          </a:xfrm>
        </p:grpSpPr>
        <p:sp>
          <p:nvSpPr>
            <p:cNvPr id="10" name=""/>
            <p:cNvSpPr/>
            <p:nvPr/>
          </p:nvSpPr>
          <p:spPr>
            <a:xfrm>
              <a:off x="0" y="121896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ulltext Searching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ethods for finding things in big blocks of tex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e: 10/2/200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57800" y="45716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20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73520" y="2546280"/>
            <a:ext cx="9360" cy="9360"/>
            <a:chOff x="4673520" y="2546280"/>
            <a:chExt cx="9360" cy="9360"/>
          </a:xfrm>
        </p:grpSpPr>
        <p:grpSp>
          <p:nvGrpSpPr>
            <p:cNvPr id="52" name=""/>
            <p:cNvGrpSpPr/>
            <p:nvPr/>
          </p:nvGrpSpPr>
          <p:grpSpPr>
            <a:xfrm>
              <a:off x="4678200" y="2550960"/>
              <a:ext cx="360" cy="360"/>
              <a:chOff x="4678200" y="2550960"/>
              <a:chExt cx="360" cy="360"/>
            </a:xfrm>
          </p:grpSpPr>
          <p:sp>
            <p:nvSpPr>
              <p:cNvPr id="53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673520" y="2546280"/>
              <a:ext cx="9360" cy="9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3080" y="5143680"/>
            <a:ext cx="2209320" cy="1383120"/>
            <a:chOff x="343080" y="5143680"/>
            <a:chExt cx="2209320" cy="1383120"/>
          </a:xfrm>
        </p:grpSpPr>
        <p:sp>
          <p:nvSpPr>
            <p:cNvPr id="57" name=""/>
            <p:cNvSpPr/>
            <p:nvPr/>
          </p:nvSpPr>
          <p:spPr>
            <a:xfrm>
              <a:off x="808200" y="5143680"/>
              <a:ext cx="464400" cy="46440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89240" y="5724360"/>
              <a:ext cx="465120" cy="4651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7" idx="5"/>
              <a:endCxn id="58" idx="1"/>
            </p:cNvCxnSpPr>
            <p:nvPr/>
          </p:nvCxnSpPr>
          <p:spPr>
            <a:xfrm>
              <a:off x="1204560" y="5540040"/>
              <a:ext cx="253080" cy="252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343080" y="618948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etadata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150A-2FFC-4C59-A58D-C5482D9B40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ulltext Searching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fulltext searc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supported with XQuery and eXi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I use it in an appl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722-2333-4522-B96E-37A48A39A9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43000" y="4229280"/>
            <a:ext cx="2286000" cy="2057400"/>
          </a:xfrm>
          <a:prstGeom prst="can">
            <a:avLst>
              <a:gd name="adj" fmla="val 1234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at is Fulltext Searching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each individual “word” in a text object gets indexed as you add the item to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efault indexing engine with 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3886200"/>
            <a:ext cx="3543480" cy="825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e quick brown fox jumps over a lazy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03720" y="52578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60360" y="45720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4520" y="3657600"/>
            <a:ext cx="162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ord Ind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59640" y="5257800"/>
            <a:ext cx="5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60360" y="56008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jum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60360" y="491508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03360" y="4572000"/>
            <a:ext cx="6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02640" y="4915080"/>
            <a:ext cx="6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66" idx="2"/>
            <a:endCxn id="63" idx="4"/>
          </p:cNvCxnSpPr>
          <p:nvPr/>
        </p:nvCxnSpPr>
        <p:spPr>
          <a:xfrm rot="5400000">
            <a:off x="4282200" y="3882960"/>
            <a:ext cx="521280" cy="22294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4695120" y="5143680"/>
            <a:ext cx="379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ows fast searching for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ywhere in the system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ear sc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F912-1C86-4E69-803D-8370AB25C3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ow do I Use It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ny XQuery function to find a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e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 all keywor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 any keyword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8D7E-4D08-46AB-A0A9-384AA89A1B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ome satisfi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0280" y="1714680"/>
            <a:ext cx="7772400" cy="35431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for $b in document("book.xml")//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where </a:t>
            </a:r>
            <a:r>
              <a:rPr b="1" lang="en-US" sz="3200" spc="-1" strike="noStrike">
                <a:solidFill>
                  <a:srgbClr val="dd2300"/>
                </a:solidFill>
                <a:latin typeface="TimesNewRomanPS-BoldMT"/>
              </a:rPr>
              <a:t>some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$p </a:t>
            </a:r>
            <a:r>
              <a:rPr b="1" lang="en-US" sz="3200" spc="-1" strike="noStrike">
                <a:solidFill>
                  <a:srgbClr val="dd2300"/>
                </a:solidFill>
                <a:latin typeface="TimesNewRomanPS-BoldMT"/>
              </a:rPr>
              <a:t>in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$b//p </a:t>
            </a:r>
            <a:r>
              <a:rPr b="1" lang="en-US" sz="3200" spc="-1" strike="noStrike">
                <a:solidFill>
                  <a:srgbClr val="dd2300"/>
                </a:solidFill>
                <a:latin typeface="TimesNewRomanPS-BoldMT"/>
              </a:rPr>
              <a:t>satisf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(contains($p,"sailing"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contains($p,"windsurfing")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$b/ancestor::teiHeader//title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1A0D-CCED-419A-A026-5C023E1F0AD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very satisfi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00280" y="1714680"/>
            <a:ext cx="7772400" cy="35431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for $b in document("book.xml")//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where </a:t>
            </a:r>
            <a:r>
              <a:rPr b="1" lang="en-US" sz="3200" spc="-1" strike="noStrike">
                <a:solidFill>
                  <a:srgbClr val="dd2300"/>
                </a:solidFill>
                <a:latin typeface="TimesNewRomanPS-BoldMT"/>
              </a:rPr>
              <a:t>every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$p </a:t>
            </a:r>
            <a:r>
              <a:rPr b="1" lang="en-US" sz="3200" spc="-1" strike="noStrike">
                <a:solidFill>
                  <a:srgbClr val="dd2300"/>
                </a:solidFill>
                <a:latin typeface="TimesNewRomanPS-BoldMT"/>
              </a:rPr>
              <a:t>in </a:t>
            </a: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$b//p </a:t>
            </a:r>
            <a:r>
              <a:rPr b="1" lang="en-US" sz="3200" spc="-1" strike="noStrike">
                <a:solidFill>
                  <a:srgbClr val="dd2300"/>
                </a:solidFill>
                <a:latin typeface="TimesNewRomanPS-BoldMT"/>
              </a:rPr>
              <a:t>satisf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contains($p,"sailing"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NewRomanPS-BoldMT"/>
              </a:rPr>
              <a:t>return $b/ancestor::teiHeader//title[1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D78-9FC8-4EB2-BF6D-E97FA47CED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ontact me for mor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Reg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Oriented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Intelligence and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,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tadata Strategy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6210-89C5-4A38-918E-A97EEA18BE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18:12:48Z</dcterms:created>
  <dc:creator>HP Authorized Customer</dc:creator>
  <dc:description/>
  <dc:language>en-US</dc:language>
  <cp:lastModifiedBy>HP Authorized Customer</cp:lastModifiedBy>
  <dcterms:modified xsi:type="dcterms:W3CDTF">2008-10-02T22:01:11Z</dcterms:modified>
  <cp:revision>2</cp:revision>
  <dc:subject/>
  <dc:title>Fulltext Searching Methods for finding things in big blocks of text Date: 10/2/2008</dc:title>
</cp:coreProperties>
</file>