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BABC-1080-4B2B-9198-B8248E7FF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37C-D983-4884-9880-CD33E9FD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588E-3C76-4852-BD38-27752444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7A0-355E-46BB-BE8A-1274B26B8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519F-3552-4F85-842D-01D3FFE5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C40-99F8-4C75-BA60-05ABB8E7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6871-8FF1-42B6-B09C-2F8498E3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765A-17F8-418B-9365-FAEEE596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FC83-92FE-4B72-A95F-472A4317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2DB8-34E1-426E-8441-DA2C32AD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E41A-20DC-4505-B837-79506CF9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DE09-E389-4246-8CC8-14F0E0F0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7B38-A224-4D7A-9704-957AD95AF1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9680" y="533520"/>
            <a:ext cx="8734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229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543800" cy="60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90600" y="800280"/>
            <a:ext cx="6562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305560" cy="61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element-to-nested-t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exi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@*|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exi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 clas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text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el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@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 clas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attribute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@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ibute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 clas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element"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local:element-to-nested-t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e)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men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d-Cou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declare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xqwb:word-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st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) as </a:t>
            </a: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el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distinct-val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st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-count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6400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list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[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fa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count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640064"/>
                </a:solidFill>
                <a:latin typeface="Arial"/>
              </a:rPr>
              <a:t>"{$term-count}"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}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r>
              <a:rPr b="0" lang="en-US" sz="2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9200" y="809640"/>
            <a:ext cx="790560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10:47:47Z</dcterms:created>
  <dc:creator>Dan McCreary</dc:creator>
  <dc:description/>
  <dc:language>en-US</dc:language>
  <cp:lastModifiedBy>Dan McCreary</cp:lastModifiedBy>
  <dcterms:modified xsi:type="dcterms:W3CDTF">2008-10-08T10:56:45Z</dcterms:modified>
  <cp:revision>1</cp:revision>
  <dc:subject/>
  <dc:title>Slide 1</dc:title>
</cp:coreProperties>
</file>