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31480" y="690480"/>
            <a:ext cx="45975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658C-6236-4B5A-A956-197631D06C58}" type="slidenum">
              <a:rPr b="1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7039-7DC6-434D-9505-19DFD887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6154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0B70-7D83-40FC-BE9C-AB608C51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8880-1E49-486B-96F7-38CCADF0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4860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4860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6154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6154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615480"/>
            <a:ext cx="250236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C90-6F86-49F9-B086-EDCB327E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FB6-4906-415C-9B4F-BD6EDAEB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406-9C7D-4EC4-B880-70EDC8561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4F11-F15C-4F8E-B8EF-87386337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82C-066E-41E0-B5E9-7FC0E99E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454B-05F6-46AB-922B-ECAA52FC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A328-DB33-444E-9A30-AEC84084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6154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3A0-2BDF-4CED-AE20-CB86AC7E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486080"/>
            <a:ext cx="37926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15480"/>
            <a:ext cx="7772400" cy="19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E7E-1CB1-4945-8DC1-BD8BCE6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2485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pyright 2008 Dan McCreary &amp; Associ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715E-CC80-467F-8561-F257E8A3916A}" type="slidenum">
              <a:rPr b="1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5829480"/>
            <a:ext cx="774720" cy="790560"/>
            <a:chOff x="228600" y="5829480"/>
            <a:chExt cx="774720" cy="790560"/>
          </a:xfrm>
        </p:grpSpPr>
        <p:sp>
          <p:nvSpPr>
            <p:cNvPr id="6" name=""/>
            <p:cNvSpPr/>
            <p:nvPr/>
          </p:nvSpPr>
          <p:spPr>
            <a:xfrm>
              <a:off x="228600" y="5829480"/>
              <a:ext cx="325440" cy="33336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77880" y="6286680"/>
              <a:ext cx="325440" cy="33336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" name=""/>
            <p:cNvCxnSpPr/>
            <p:nvPr/>
          </p:nvCxnSpPr>
          <p:spPr>
            <a:xfrm>
              <a:off x="506520" y="6127920"/>
              <a:ext cx="219600" cy="1944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9" name=""/>
          <p:cNvGrpSpPr/>
          <p:nvPr/>
        </p:nvGrpSpPr>
        <p:grpSpPr>
          <a:xfrm>
            <a:off x="0" y="1257480"/>
            <a:ext cx="9144000" cy="75960"/>
            <a:chOff x="0" y="1257480"/>
            <a:chExt cx="9144000" cy="75960"/>
          </a:xfrm>
        </p:grpSpPr>
        <p:sp>
          <p:nvSpPr>
            <p:cNvPr id="10" name=""/>
            <p:cNvSpPr/>
            <p:nvPr/>
          </p:nvSpPr>
          <p:spPr>
            <a:xfrm>
              <a:off x="0" y="133344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125748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view of XML and HTML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ndation Materials for XRX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: 9/30/200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257800" y="4571640"/>
            <a:ext cx="35812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20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673520" y="2546280"/>
            <a:ext cx="9360" cy="9360"/>
            <a:chOff x="4673520" y="2546280"/>
            <a:chExt cx="9360" cy="9360"/>
          </a:xfrm>
        </p:grpSpPr>
        <p:grpSp>
          <p:nvGrpSpPr>
            <p:cNvPr id="59" name=""/>
            <p:cNvGrpSpPr/>
            <p:nvPr/>
          </p:nvGrpSpPr>
          <p:grpSpPr>
            <a:xfrm>
              <a:off x="4678200" y="2550960"/>
              <a:ext cx="360" cy="360"/>
              <a:chOff x="4678200" y="2550960"/>
              <a:chExt cx="360" cy="360"/>
            </a:xfrm>
          </p:grpSpPr>
          <p:sp>
            <p:nvSpPr>
              <p:cNvPr id="60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678200" y="2550960"/>
                <a:ext cx="36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4673520" y="2546280"/>
              <a:ext cx="9360" cy="9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43080" y="5143680"/>
            <a:ext cx="2209320" cy="1383120"/>
            <a:chOff x="343080" y="5143680"/>
            <a:chExt cx="2209320" cy="1383120"/>
          </a:xfrm>
        </p:grpSpPr>
        <p:sp>
          <p:nvSpPr>
            <p:cNvPr id="64" name=""/>
            <p:cNvSpPr/>
            <p:nvPr/>
          </p:nvSpPr>
          <p:spPr>
            <a:xfrm>
              <a:off x="808200" y="5143680"/>
              <a:ext cx="464400" cy="464400"/>
            </a:xfrm>
            <a:prstGeom prst="ellipse">
              <a:avLst/>
            </a:prstGeom>
            <a:solidFill>
              <a:srgbClr val="ff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89240" y="5724360"/>
              <a:ext cx="465120" cy="465120"/>
            </a:xfrm>
            <a:prstGeom prst="ellipse">
              <a:avLst/>
            </a:prstGeom>
            <a:solidFill>
              <a:srgbClr val="cc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"/>
            <p:cNvCxnSpPr>
              <a:stCxn id="64" idx="5"/>
              <a:endCxn id="65" idx="1"/>
            </p:cNvCxnSpPr>
            <p:nvPr/>
          </p:nvCxnSpPr>
          <p:spPr>
            <a:xfrm>
              <a:off x="1204560" y="5540040"/>
              <a:ext cx="253080" cy="25272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7" name=""/>
            <p:cNvSpPr/>
            <p:nvPr/>
          </p:nvSpPr>
          <p:spPr>
            <a:xfrm>
              <a:off x="343080" y="6189480"/>
              <a:ext cx="22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Metadata 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78AB-DA82-4E63-BFDB-026E74BF0C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asy to View With Web Browser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90760" y="1486080"/>
            <a:ext cx="4267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browsers will “recognizes” XML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ML Header Processing Instructi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&lt;?..?&g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in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e brackets, equals, quotes and backslashes in </a:t>
            </a:r>
            <a:r>
              <a:rPr b="1" lang="en-US" sz="2800" spc="-1" strike="noStrike">
                <a:solidFill>
                  <a:srgbClr val="0000ff"/>
                </a:solidFill>
                <a:latin typeface="Arial Narrow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gs and attributes in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ual data is 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181320" cy="2295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 flipV="1">
            <a:off x="533520" y="3276360"/>
            <a:ext cx="304560" cy="1143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9080" y="4402080"/>
            <a:ext cx="167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</a:rPr>
              <a:t>Open/Close but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CCD-C0C7-4359-9597-23AC5E28A8F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lement Tree is Created 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10080" y="1486080"/>
            <a:ext cx="289584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ode is called an “elemen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ments are linked in hierarch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 tree has one and only one root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1676520"/>
            <a:ext cx="11430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352680"/>
            <a:ext cx="2171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rstName=Joh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3352680"/>
            <a:ext cx="190476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Name=Do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5" idx="4"/>
            <a:endCxn id="216" idx="0"/>
          </p:cNvCxnSpPr>
          <p:nvPr/>
        </p:nvCxnSpPr>
        <p:spPr>
          <a:xfrm flipH="1">
            <a:off x="1923840" y="2147760"/>
            <a:ext cx="1086480" cy="119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19" name=""/>
          <p:cNvCxnSpPr>
            <a:stCxn id="215" idx="4"/>
            <a:endCxn id="217" idx="0"/>
          </p:cNvCxnSpPr>
          <p:nvPr/>
        </p:nvCxnSpPr>
        <p:spPr>
          <a:xfrm>
            <a:off x="3009600" y="2147760"/>
            <a:ext cx="1220040" cy="11916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3FB-3409-496A-93D8-D03BDBFA4A2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ell Formed, Conform and Valid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8120" y="1486080"/>
            <a:ext cx="541008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documen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ell form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it meet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yntac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rules of the XML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an appropriate XML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 a single root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ching tags: &lt;tag&gt; &lt;/ta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n XML docume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orm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ith the content model defined by an XML Schema, it is said to b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with respect to that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t follows all rules defined by the Sch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066680" y="1980360"/>
            <a:ext cx="914400" cy="1143000"/>
          </a:xfrm>
          <a:prstGeom prst="foldedCorner">
            <a:avLst>
              <a:gd name="adj" fmla="val 26305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2840" y="1995480"/>
            <a:ext cx="1281240" cy="1268280"/>
          </a:xfrm>
          <a:custGeom>
            <a:avLst/>
            <a:gdLst/>
            <a:ahLst/>
            <a:rect l="l" t="t" r="r" b="b"/>
            <a:pathLst>
              <a:path w="807" h="799">
                <a:moveTo>
                  <a:pt x="807" y="0"/>
                </a:moveTo>
                <a:cubicBezTo>
                  <a:pt x="748" y="124"/>
                  <a:pt x="449" y="676"/>
                  <a:pt x="316" y="766"/>
                </a:cubicBezTo>
                <a:cubicBezTo>
                  <a:pt x="152" y="799"/>
                  <a:pt x="16" y="591"/>
                  <a:pt x="8" y="543"/>
                </a:cubicBezTo>
                <a:cubicBezTo>
                  <a:pt x="0" y="495"/>
                  <a:pt x="14" y="379"/>
                  <a:pt x="93" y="281"/>
                </a:cubicBezTo>
                <a:cubicBezTo>
                  <a:pt x="165" y="366"/>
                  <a:pt x="204" y="439"/>
                  <a:pt x="309" y="504"/>
                </a:cubicBezTo>
                <a:cubicBezTo>
                  <a:pt x="525" y="210"/>
                  <a:pt x="606" y="97"/>
                  <a:pt x="689" y="13"/>
                </a:cubicBezTo>
                <a:lnTo>
                  <a:pt x="807" y="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round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073160" y="3795120"/>
            <a:ext cx="914400" cy="1143000"/>
          </a:xfrm>
          <a:prstGeom prst="foldedCorner">
            <a:avLst>
              <a:gd name="adj" fmla="val 26305"/>
            </a:avLst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19320" y="3809880"/>
            <a:ext cx="1280880" cy="1268640"/>
          </a:xfrm>
          <a:custGeom>
            <a:avLst/>
            <a:gdLst/>
            <a:ahLst/>
            <a:rect l="l" t="t" r="r" b="b"/>
            <a:pathLst>
              <a:path w="807" h="799">
                <a:moveTo>
                  <a:pt x="807" y="0"/>
                </a:moveTo>
                <a:cubicBezTo>
                  <a:pt x="748" y="124"/>
                  <a:pt x="449" y="676"/>
                  <a:pt x="316" y="766"/>
                </a:cubicBezTo>
                <a:cubicBezTo>
                  <a:pt x="152" y="799"/>
                  <a:pt x="16" y="591"/>
                  <a:pt x="8" y="543"/>
                </a:cubicBezTo>
                <a:cubicBezTo>
                  <a:pt x="0" y="495"/>
                  <a:pt x="14" y="379"/>
                  <a:pt x="93" y="281"/>
                </a:cubicBezTo>
                <a:cubicBezTo>
                  <a:pt x="165" y="366"/>
                  <a:pt x="204" y="439"/>
                  <a:pt x="309" y="504"/>
                </a:cubicBezTo>
                <a:cubicBezTo>
                  <a:pt x="525" y="210"/>
                  <a:pt x="606" y="97"/>
                  <a:pt x="689" y="13"/>
                </a:cubicBezTo>
                <a:lnTo>
                  <a:pt x="807" y="0"/>
                </a:lnTo>
                <a:close/>
              </a:path>
            </a:pathLst>
          </a:custGeom>
          <a:solidFill>
            <a:srgbClr val="66ff33"/>
          </a:solidFill>
          <a:ln w="57240">
            <a:solidFill>
              <a:srgbClr val="000000"/>
            </a:solidFill>
            <a:round/>
          </a:ln>
          <a:effectLst>
            <a:outerShdw dist="81185" dir="30780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4E10-AE23-419B-B558-E9538DBEC83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ML Examp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86080"/>
            <a:ext cx="7772400" cy="407664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tm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xmln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w3.org/1999/xhtm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ea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itl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ea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od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Header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text of a para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d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d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lic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up anywhere in the text.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bod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html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9CA-7C83-4AA3-BB56-D32D2C6235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Unordered Lis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5143680" cy="407664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tm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xmln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3.org/1999/xhtm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ea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rdered Lis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ea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ody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ion of an unordered list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u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u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ody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tm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858000" y="3200400"/>
            <a:ext cx="1444680" cy="1600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31" name=""/>
          <p:cNvSpPr/>
          <p:nvPr/>
        </p:nvSpPr>
        <p:spPr>
          <a:xfrm>
            <a:off x="7086960" y="251460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E7E5-3EBD-4EA0-9B49-5E1718CA61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rdered Lis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5143680" cy="4076640"/>
          </a:xfrm>
          <a:prstGeom prst="rect">
            <a:avLst/>
          </a:prstGeom>
          <a:solidFill>
            <a:srgbClr val="dddddd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tml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xmln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w3.org/1999/xhtm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ea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ed List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title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ead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ody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nstration of an ordered list.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1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3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m 4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l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o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ody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tml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360" y="2514600"/>
            <a:ext cx="10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743880" y="3086280"/>
            <a:ext cx="1292040" cy="1371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3ADB-9EEE-4E39-AE7D-6F9BFFF3D9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TML Tab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0" y="1600200"/>
            <a:ext cx="4191120" cy="443088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able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border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hon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ohn Do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23-4567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r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2400" spc="-1" strike="noStrike">
                <a:solidFill>
                  <a:srgbClr val="800000"/>
                </a:solidFill>
                <a:latin typeface="Courier New"/>
              </a:rPr>
              <a:t>table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553080" y="2590920"/>
            <a:ext cx="2210040" cy="1066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9" name=""/>
          <p:cNvSpPr/>
          <p:nvPr/>
        </p:nvSpPr>
        <p:spPr>
          <a:xfrm>
            <a:off x="579240" y="1605960"/>
            <a:ext cx="124308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art of 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880" y="2177640"/>
            <a:ext cx="202932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art of New Table 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6800" y="2672640"/>
            <a:ext cx="102348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able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95360" y="232416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828800" y="2743200"/>
            <a:ext cx="118116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66960" y="18288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71880" y="3886200"/>
            <a:ext cx="57132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4400" y="3739680"/>
            <a:ext cx="180828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Start of Second R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238880" y="2209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AC38-40B6-4358-9087-E444522C01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HTML Table With Header and Body 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057400" y="1486080"/>
            <a:ext cx="4229280" cy="5029200"/>
          </a:xfrm>
          <a:prstGeom prst="rect">
            <a:avLst/>
          </a:pr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abl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hea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r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h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 1 Header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h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h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 2 Header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h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r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hea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body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r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w 1 col 1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w 1 col 2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r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r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w 2 col 1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ow 2 col 2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d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r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body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Courier New"/>
              </a:rPr>
              <a:t>table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4720" y="1605960"/>
            <a:ext cx="12276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able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86080" y="1828800"/>
            <a:ext cx="102852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71600" y="3429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4720" y="3206160"/>
            <a:ext cx="1080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able B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86600" y="2514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400800" y="2971800"/>
            <a:ext cx="2400480" cy="957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A590-62FF-4B05-AE8E-BB93A18B559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ank You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ease contact me for more inform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XML Datab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adata Regi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Oriented Archite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iness Intelligence and Data Ware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,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 McCreary &amp; Assoc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tadata Strategy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n@danmccrear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(952) 931-91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47D-DD53-4425-8985-247B23A1B2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fil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ML document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BE92-7F2E-490C-B01C-2155751163D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ML is a Hierarchical Data Structure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690560" y="1932840"/>
            <a:ext cx="6272280" cy="3474720"/>
            <a:chOff x="1690560" y="1932840"/>
            <a:chExt cx="6272280" cy="3474720"/>
          </a:xfrm>
        </p:grpSpPr>
        <p:sp>
          <p:nvSpPr>
            <p:cNvPr id="72" name=""/>
            <p:cNvSpPr/>
            <p:nvPr/>
          </p:nvSpPr>
          <p:spPr>
            <a:xfrm>
              <a:off x="3669480" y="1932840"/>
              <a:ext cx="770400" cy="520200"/>
            </a:xfrm>
            <a:prstGeom prst="ellipse">
              <a:avLst/>
            </a:prstGeom>
            <a:solidFill>
              <a:srgbClr val="ffcc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roo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66000" y="2469960"/>
              <a:ext cx="1283400" cy="520200"/>
            </a:xfrm>
            <a:prstGeom prst="ellipse">
              <a:avLst/>
            </a:prstGeom>
            <a:solidFill>
              <a:srgbClr val="c8965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ranch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26480" y="2538000"/>
              <a:ext cx="1283400" cy="520200"/>
            </a:xfrm>
            <a:prstGeom prst="ellipse">
              <a:avLst/>
            </a:prstGeom>
            <a:solidFill>
              <a:srgbClr val="c8965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ranch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90560" y="327564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1080" y="414900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83440" y="3275640"/>
              <a:ext cx="1283400" cy="520200"/>
            </a:xfrm>
            <a:prstGeom prst="ellipse">
              <a:avLst/>
            </a:prstGeom>
            <a:solidFill>
              <a:srgbClr val="c8965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ranch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90760" y="408024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14280" y="334224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52080" y="3340800"/>
              <a:ext cx="1283400" cy="520200"/>
            </a:xfrm>
            <a:prstGeom prst="ellipse">
              <a:avLst/>
            </a:prstGeom>
            <a:solidFill>
              <a:srgbClr val="c8965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ranch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9080" y="4149000"/>
              <a:ext cx="1283400" cy="520200"/>
            </a:xfrm>
            <a:prstGeom prst="ellipse">
              <a:avLst/>
            </a:prstGeom>
            <a:solidFill>
              <a:srgbClr val="c8965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branch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2" idx="3"/>
              <a:endCxn id="73" idx="7"/>
            </p:cNvCxnSpPr>
            <p:nvPr/>
          </p:nvCxnSpPr>
          <p:spPr>
            <a:xfrm flipH="1">
              <a:off x="3492000" y="2355840"/>
              <a:ext cx="308520" cy="210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"/>
            <p:cNvCxnSpPr>
              <a:stCxn id="72" idx="5"/>
              <a:endCxn id="74" idx="1"/>
            </p:cNvCxnSpPr>
            <p:nvPr/>
          </p:nvCxnSpPr>
          <p:spPr>
            <a:xfrm>
              <a:off x="4308120" y="2355480"/>
              <a:ext cx="275400" cy="27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4" name=""/>
            <p:cNvCxnSpPr>
              <a:stCxn id="73" idx="3"/>
              <a:endCxn id="75" idx="7"/>
            </p:cNvCxnSpPr>
            <p:nvPr/>
          </p:nvCxnSpPr>
          <p:spPr>
            <a:xfrm flipH="1">
              <a:off x="2277360" y="2894400"/>
              <a:ext cx="445320" cy="4766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5" name=""/>
            <p:cNvCxnSpPr>
              <a:stCxn id="73" idx="4"/>
              <a:endCxn id="77" idx="0"/>
            </p:cNvCxnSpPr>
            <p:nvPr/>
          </p:nvCxnSpPr>
          <p:spPr>
            <a:xfrm>
              <a:off x="3108600" y="2958840"/>
              <a:ext cx="218160" cy="347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6" name=""/>
            <p:cNvCxnSpPr>
              <a:stCxn id="77" idx="4"/>
              <a:endCxn id="76" idx="7"/>
            </p:cNvCxnSpPr>
            <p:nvPr/>
          </p:nvCxnSpPr>
          <p:spPr>
            <a:xfrm flipH="1">
              <a:off x="2658960" y="3763440"/>
              <a:ext cx="667440" cy="4802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7" name=""/>
            <p:cNvCxnSpPr>
              <a:stCxn id="77" idx="4"/>
              <a:endCxn id="78" idx="0"/>
            </p:cNvCxnSpPr>
            <p:nvPr/>
          </p:nvCxnSpPr>
          <p:spPr>
            <a:xfrm>
              <a:off x="3326040" y="3763080"/>
              <a:ext cx="319680" cy="348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8" name=""/>
            <p:cNvCxnSpPr>
              <a:stCxn id="74" idx="4"/>
              <a:endCxn id="79" idx="0"/>
            </p:cNvCxnSpPr>
            <p:nvPr/>
          </p:nvCxnSpPr>
          <p:spPr>
            <a:xfrm>
              <a:off x="4969080" y="3024360"/>
              <a:ext cx="200880" cy="348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89" name=""/>
            <p:cNvCxnSpPr>
              <a:stCxn id="74" idx="4"/>
              <a:endCxn id="80" idx="0"/>
            </p:cNvCxnSpPr>
            <p:nvPr/>
          </p:nvCxnSpPr>
          <p:spPr>
            <a:xfrm>
              <a:off x="4969080" y="3024360"/>
              <a:ext cx="1426320" cy="348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sp>
          <p:nvSpPr>
            <p:cNvPr id="90" name=""/>
            <p:cNvSpPr/>
            <p:nvPr/>
          </p:nvSpPr>
          <p:spPr>
            <a:xfrm>
              <a:off x="6262560" y="414900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53280" y="414900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81480" y="488736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348160" y="4887360"/>
              <a:ext cx="709560" cy="520200"/>
            </a:xfrm>
            <a:prstGeom prst="ellipse">
              <a:avLst/>
            </a:prstGeom>
            <a:solidFill>
              <a:srgbClr val="009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lea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4" name=""/>
            <p:cNvCxnSpPr>
              <a:stCxn id="80" idx="4"/>
              <a:endCxn id="81" idx="0"/>
            </p:cNvCxnSpPr>
            <p:nvPr/>
          </p:nvCxnSpPr>
          <p:spPr>
            <a:xfrm flipH="1">
              <a:off x="5250960" y="3830400"/>
              <a:ext cx="1143720" cy="348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5" name=""/>
            <p:cNvCxnSpPr>
              <a:stCxn id="80" idx="4"/>
              <a:endCxn id="90" idx="0"/>
            </p:cNvCxnSpPr>
            <p:nvPr/>
          </p:nvCxnSpPr>
          <p:spPr>
            <a:xfrm>
              <a:off x="6394320" y="3830400"/>
              <a:ext cx="222840" cy="34884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6" name=""/>
            <p:cNvCxnSpPr>
              <a:endCxn id="91" idx="0"/>
            </p:cNvCxnSpPr>
            <p:nvPr/>
          </p:nvCxnSpPr>
          <p:spPr>
            <a:xfrm>
              <a:off x="6438960" y="3851280"/>
              <a:ext cx="1169280" cy="327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7" name=""/>
            <p:cNvCxnSpPr>
              <a:stCxn id="81" idx="4"/>
              <a:endCxn id="92" idx="0"/>
            </p:cNvCxnSpPr>
            <p:nvPr/>
          </p:nvCxnSpPr>
          <p:spPr>
            <a:xfrm flipH="1">
              <a:off x="4635000" y="4636440"/>
              <a:ext cx="616680" cy="28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98" name=""/>
            <p:cNvCxnSpPr>
              <a:stCxn id="81" idx="4"/>
              <a:endCxn id="93" idx="0"/>
            </p:cNvCxnSpPr>
            <p:nvPr/>
          </p:nvCxnSpPr>
          <p:spPr>
            <a:xfrm>
              <a:off x="5251680" y="4636440"/>
              <a:ext cx="451440" cy="281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966A-6EA4-48FF-808F-A540FB53F1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ML Examp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85920" y="1485720"/>
            <a:ext cx="2971800" cy="468612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root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ranch1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ranch3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ft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ft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ft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ft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ranch3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ranch1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ranch2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ranch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ranch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ranch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eaf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ranch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ranch2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root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3F3-3BBB-4A6D-8705-BFB7BE5131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ables, Trees and Graph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44720"/>
            <a:ext cx="1523880" cy="1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124000"/>
            <a:ext cx="1523880" cy="17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2303640"/>
            <a:ext cx="1523880" cy="1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2482920"/>
            <a:ext cx="1523880" cy="1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2662200"/>
            <a:ext cx="1523880" cy="179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944720"/>
            <a:ext cx="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944720"/>
            <a:ext cx="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1944720"/>
            <a:ext cx="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944720"/>
            <a:ext cx="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1944720"/>
            <a:ext cx="0" cy="89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87880" y="1494720"/>
            <a:ext cx="755640" cy="5173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6080" y="2176200"/>
            <a:ext cx="690840" cy="43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88000" y="2084760"/>
            <a:ext cx="708120" cy="43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68760" y="2724480"/>
            <a:ext cx="425520" cy="38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29280" y="2743560"/>
            <a:ext cx="228600" cy="38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2" idx="4"/>
            <a:endCxn id="113" idx="0"/>
          </p:cNvCxnSpPr>
          <p:nvPr/>
        </p:nvCxnSpPr>
        <p:spPr>
          <a:xfrm flipH="1">
            <a:off x="3092040" y="2015640"/>
            <a:ext cx="573840" cy="156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2" idx="4"/>
            <a:endCxn id="114" idx="0"/>
          </p:cNvCxnSpPr>
          <p:nvPr/>
        </p:nvCxnSpPr>
        <p:spPr>
          <a:xfrm>
            <a:off x="3665160" y="2015640"/>
            <a:ext cx="578520" cy="64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4" idx="4"/>
            <a:endCxn id="115" idx="0"/>
          </p:cNvCxnSpPr>
          <p:nvPr/>
        </p:nvCxnSpPr>
        <p:spPr>
          <a:xfrm flipH="1">
            <a:off x="3880800" y="2520720"/>
            <a:ext cx="362520" cy="199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21" idx="0"/>
          </p:cNvCxnSpPr>
          <p:nvPr/>
        </p:nvCxnSpPr>
        <p:spPr>
          <a:xfrm>
            <a:off x="4242960" y="2520720"/>
            <a:ext cx="554760" cy="222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692600" y="2748240"/>
            <a:ext cx="209520" cy="38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4" idx="4"/>
            <a:endCxn id="116" idx="0"/>
          </p:cNvCxnSpPr>
          <p:nvPr/>
        </p:nvCxnSpPr>
        <p:spPr>
          <a:xfrm>
            <a:off x="4243320" y="2521080"/>
            <a:ext cx="100800" cy="218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7086600" y="1496880"/>
            <a:ext cx="358920" cy="26856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45520" y="1944720"/>
            <a:ext cx="358560" cy="270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45240" y="1944720"/>
            <a:ext cx="358920" cy="270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88040" y="2394000"/>
            <a:ext cx="358920" cy="268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88320" y="2394000"/>
            <a:ext cx="358560" cy="268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02720" y="2394000"/>
            <a:ext cx="358560" cy="268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3" idx="5"/>
            <a:endCxn id="124" idx="1"/>
          </p:cNvCxnSpPr>
          <p:nvPr/>
        </p:nvCxnSpPr>
        <p:spPr>
          <a:xfrm>
            <a:off x="7392600" y="1725120"/>
            <a:ext cx="10548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3" idx="3"/>
            <a:endCxn id="125" idx="0"/>
          </p:cNvCxnSpPr>
          <p:nvPr/>
        </p:nvCxnSpPr>
        <p:spPr>
          <a:xfrm flipH="1">
            <a:off x="6824160" y="1725120"/>
            <a:ext cx="315360" cy="219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5" idx="3"/>
            <a:endCxn id="126" idx="7"/>
          </p:cNvCxnSpPr>
          <p:nvPr/>
        </p:nvCxnSpPr>
        <p:spPr>
          <a:xfrm flipH="1">
            <a:off x="6493680" y="2174400"/>
            <a:ext cx="20412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5" idx="5"/>
            <a:endCxn id="127" idx="1"/>
          </p:cNvCxnSpPr>
          <p:nvPr/>
        </p:nvCxnSpPr>
        <p:spPr>
          <a:xfrm>
            <a:off x="6951240" y="2174400"/>
            <a:ext cx="8964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5"/>
            <a:endCxn id="128" idx="1"/>
          </p:cNvCxnSpPr>
          <p:nvPr/>
        </p:nvCxnSpPr>
        <p:spPr>
          <a:xfrm>
            <a:off x="7751880" y="2174400"/>
            <a:ext cx="20376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6645240" y="2932200"/>
            <a:ext cx="358920" cy="268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45320" y="2932200"/>
            <a:ext cx="358560" cy="268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6" idx="3"/>
            <a:endCxn id="135" idx="0"/>
          </p:cNvCxnSpPr>
          <p:nvPr/>
        </p:nvCxnSpPr>
        <p:spPr>
          <a:xfrm flipH="1">
            <a:off x="6024240" y="2622600"/>
            <a:ext cx="21672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26" idx="5"/>
            <a:endCxn id="134" idx="1"/>
          </p:cNvCxnSpPr>
          <p:nvPr/>
        </p:nvCxnSpPr>
        <p:spPr>
          <a:xfrm>
            <a:off x="6494040" y="2622600"/>
            <a:ext cx="204120" cy="349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>
            <a:off x="6302520" y="3379680"/>
            <a:ext cx="358560" cy="270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02440" y="3379680"/>
            <a:ext cx="358920" cy="270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5" idx="5"/>
            <a:endCxn id="138" idx="1"/>
          </p:cNvCxnSpPr>
          <p:nvPr/>
        </p:nvCxnSpPr>
        <p:spPr>
          <a:xfrm>
            <a:off x="6151680" y="3160440"/>
            <a:ext cx="20376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5"/>
            <a:endCxn id="139" idx="1"/>
          </p:cNvCxnSpPr>
          <p:nvPr/>
        </p:nvCxnSpPr>
        <p:spPr>
          <a:xfrm>
            <a:off x="6951240" y="3160440"/>
            <a:ext cx="20412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7445520" y="2932200"/>
            <a:ext cx="358560" cy="2682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39" idx="7"/>
            <a:endCxn id="142" idx="4"/>
          </p:cNvCxnSpPr>
          <p:nvPr/>
        </p:nvCxnSpPr>
        <p:spPr>
          <a:xfrm flipV="1">
            <a:off x="7408800" y="3199680"/>
            <a:ext cx="216720" cy="219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42" idx="0"/>
            <a:endCxn id="128" idx="3"/>
          </p:cNvCxnSpPr>
          <p:nvPr/>
        </p:nvCxnSpPr>
        <p:spPr>
          <a:xfrm flipV="1">
            <a:off x="7624440" y="2622240"/>
            <a:ext cx="330840" cy="31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461880" y="3200400"/>
            <a:ext cx="165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e li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ery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6880" y="3830760"/>
            <a:ext cx="16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irected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K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W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ery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PAR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3314880"/>
            <a:ext cx="2021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axonom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imple Concept Ma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Query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Path/XQu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1360" y="164448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uni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-48240" y="21222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2" idx="1"/>
            <a:endCxn id="127" idx="5"/>
          </p:cNvCxnSpPr>
          <p:nvPr/>
        </p:nvCxnSpPr>
        <p:spPr>
          <a:xfrm flipH="1" flipV="1">
            <a:off x="7294320" y="2622240"/>
            <a:ext cx="203760" cy="349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6ED-D0DD-4F8B-A8BF-74B1B3C4E3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ree Ways to Represent Dat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7640" y="4146480"/>
            <a:ext cx="7772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ML is abou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boreal analogies are as abundant as as “trees in the rainfore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640" y="2095560"/>
            <a:ext cx="2210040" cy="1676520"/>
          </a:xfrm>
          <a:prstGeom prst="rect">
            <a:avLst/>
          </a:prstGeom>
          <a:solidFill>
            <a:srgbClr val="ffcc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57480" y="209556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90640" y="209556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24160" y="209556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640" y="240048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47640" y="278136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640" y="316224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640" y="3467160"/>
            <a:ext cx="221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44520" y="1522440"/>
            <a:ext cx="9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003560" y="148608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17440" y="148608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05240" y="2019240"/>
            <a:ext cx="304920" cy="304920"/>
          </a:xfrm>
          <a:prstGeom prst="ellipse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629080"/>
            <a:ext cx="304920" cy="304560"/>
          </a:xfrm>
          <a:prstGeom prst="ellipse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86480" y="2629080"/>
            <a:ext cx="304560" cy="304560"/>
          </a:xfrm>
          <a:prstGeom prst="ellipse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67160" y="3314880"/>
            <a:ext cx="304920" cy="304560"/>
          </a:xfrm>
          <a:prstGeom prst="ellipse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52960" y="3314880"/>
            <a:ext cx="304920" cy="304560"/>
          </a:xfrm>
          <a:prstGeom prst="ellipse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67360" y="3314880"/>
            <a:ext cx="304920" cy="304560"/>
          </a:xfrm>
          <a:prstGeom prst="ellipse">
            <a:avLst/>
          </a:prstGeom>
          <a:solidFill>
            <a:srgbClr val="66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64" idx="3"/>
            <a:endCxn id="165" idx="7"/>
          </p:cNvCxnSpPr>
          <p:nvPr/>
        </p:nvCxnSpPr>
        <p:spPr>
          <a:xfrm flipH="1">
            <a:off x="4183920" y="2293920"/>
            <a:ext cx="16596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4" idx="5"/>
            <a:endCxn id="166" idx="1"/>
          </p:cNvCxnSpPr>
          <p:nvPr/>
        </p:nvCxnSpPr>
        <p:spPr>
          <a:xfrm>
            <a:off x="4565160" y="2293920"/>
            <a:ext cx="165960" cy="365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5" idx="3"/>
            <a:endCxn id="167" idx="7"/>
          </p:cNvCxnSpPr>
          <p:nvPr/>
        </p:nvCxnSpPr>
        <p:spPr>
          <a:xfrm flipH="1">
            <a:off x="3727080" y="2903400"/>
            <a:ext cx="241920" cy="442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5" idx="5"/>
            <a:endCxn id="168" idx="0"/>
          </p:cNvCxnSpPr>
          <p:nvPr/>
        </p:nvCxnSpPr>
        <p:spPr>
          <a:xfrm>
            <a:off x="4184280" y="2903040"/>
            <a:ext cx="121320" cy="39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6" idx="5"/>
            <a:endCxn id="169" idx="0"/>
          </p:cNvCxnSpPr>
          <p:nvPr/>
        </p:nvCxnSpPr>
        <p:spPr>
          <a:xfrm>
            <a:off x="4946760" y="2903040"/>
            <a:ext cx="273240" cy="397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6858000" y="2057400"/>
            <a:ext cx="304920" cy="304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62640" y="2705040"/>
            <a:ext cx="304920" cy="304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72480" y="3086280"/>
            <a:ext cx="304560" cy="304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75" idx="3"/>
            <a:endCxn id="176" idx="0"/>
          </p:cNvCxnSpPr>
          <p:nvPr/>
        </p:nvCxnSpPr>
        <p:spPr>
          <a:xfrm flipH="1">
            <a:off x="6514560" y="2332080"/>
            <a:ext cx="387720" cy="358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6" idx="5"/>
            <a:endCxn id="177" idx="2"/>
          </p:cNvCxnSpPr>
          <p:nvPr/>
        </p:nvCxnSpPr>
        <p:spPr>
          <a:xfrm>
            <a:off x="6622560" y="2979360"/>
            <a:ext cx="335880" cy="259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6438960" y="3619440"/>
            <a:ext cx="304920" cy="304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77" idx="3"/>
            <a:endCxn id="180" idx="7"/>
          </p:cNvCxnSpPr>
          <p:nvPr/>
        </p:nvCxnSpPr>
        <p:spPr>
          <a:xfrm flipH="1">
            <a:off x="6699240" y="3360240"/>
            <a:ext cx="317880" cy="289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2" name=""/>
          <p:cNvSpPr/>
          <p:nvPr/>
        </p:nvSpPr>
        <p:spPr>
          <a:xfrm>
            <a:off x="7581960" y="3619440"/>
            <a:ext cx="304920" cy="30492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7" idx="5"/>
            <a:endCxn id="182" idx="1"/>
          </p:cNvCxnSpPr>
          <p:nvPr/>
        </p:nvCxnSpPr>
        <p:spPr>
          <a:xfrm>
            <a:off x="7232400" y="3360240"/>
            <a:ext cx="394200" cy="289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4" name=""/>
          <p:cNvSpPr/>
          <p:nvPr/>
        </p:nvSpPr>
        <p:spPr>
          <a:xfrm>
            <a:off x="7543800" y="2629080"/>
            <a:ext cx="304920" cy="304560"/>
          </a:xfrm>
          <a:prstGeom prst="ellipse">
            <a:avLst/>
          </a:prstGeom>
          <a:solidFill>
            <a:srgbClr val="33cc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77" idx="7"/>
            <a:endCxn id="184" idx="3"/>
          </p:cNvCxnSpPr>
          <p:nvPr/>
        </p:nvCxnSpPr>
        <p:spPr>
          <a:xfrm flipV="1">
            <a:off x="7232400" y="2902680"/>
            <a:ext cx="356040" cy="2134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4" idx="1"/>
            <a:endCxn id="175" idx="5"/>
          </p:cNvCxnSpPr>
          <p:nvPr/>
        </p:nvCxnSpPr>
        <p:spPr>
          <a:xfrm flipH="1" flipV="1">
            <a:off x="7117560" y="2331720"/>
            <a:ext cx="470520" cy="327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007-8D91-463E-8BD9-35772C3216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asics of XML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943240" y="1828800"/>
            <a:ext cx="2924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Note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the text to the le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ve as test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n file with web brow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Files of type: All Fi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 you se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do the colors tell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happens when you click on the "+" sig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2286000"/>
            <a:ext cx="4876920" cy="20822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urier New"/>
              </a:rPr>
              <a:t>&lt;?xml version="1.0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erson</a:t>
            </a: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irstName</a:t>
            </a: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John</a:t>
            </a: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FirstName</a:t>
            </a: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lt;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stName</a:t>
            </a: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e</a:t>
            </a: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astName</a:t>
            </a: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lt;/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Person</a:t>
            </a:r>
            <a:r>
              <a:rPr b="1" lang="en-US" sz="2000" spc="-1" strike="noStrike">
                <a:solidFill>
                  <a:srgbClr val="0099ff"/>
                </a:solidFill>
                <a:latin typeface="Courier New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219320" y="4495680"/>
            <a:ext cx="1011240" cy="1143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2743200" y="4572000"/>
            <a:ext cx="914400" cy="9000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914400" y="5676840"/>
            <a:ext cx="3390840" cy="276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72080" y="5486400"/>
            <a:ext cx="68580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657240" y="190512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58080" y="1484280"/>
            <a:ext cx="42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XML Header (Processing Instru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DE05-2684-48BB-BC46-1EF038362EA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ML Elements and Tag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800600" y="1447560"/>
            <a:ext cx="365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s surrounded by angl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begin with a Start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s end with an End Tag that starts with a “/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etween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gs can not begin with a number or contain sp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an contain any amount of white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2514600"/>
            <a:ext cx="2590560" cy="13737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ata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Nam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160020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</a:rPr>
              <a:t>Start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1676160" y="2057400"/>
            <a:ext cx="5331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4343400"/>
            <a:ext cx="1218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</a:rPr>
              <a:t>End T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1143000" y="3809880"/>
            <a:ext cx="53352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28954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3124080" y="32004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B71D-0DE2-43BC-B928-3B180C37186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43000" y="3657240"/>
            <a:ext cx="742968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nested within the begin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only have a single attribute name within an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can not be n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are not as flexible as elements and are not used in many federal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3080" y="1828800"/>
            <a:ext cx="8229600" cy="137376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2800" spc="-1" strike="noStrike">
                <a:solidFill>
                  <a:srgbClr val="800000"/>
                </a:solidFill>
                <a:latin typeface="Courier New"/>
              </a:rPr>
              <a:t>root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2800" spc="-1" strike="noStrike">
                <a:solidFill>
                  <a:srgbClr val="800000"/>
                </a:solidFill>
                <a:latin typeface="Courier New"/>
              </a:rPr>
              <a:t>element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attr1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o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attr2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ar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"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lt;/</a:t>
            </a:r>
            <a:r>
              <a:rPr b="1" lang="en-US" sz="2800" spc="-1" strike="noStrike">
                <a:solidFill>
                  <a:srgbClr val="800000"/>
                </a:solidFill>
                <a:latin typeface="Courier New"/>
              </a:rPr>
              <a:t>root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BFE0-95AF-4DD7-BC08-F492C1CF769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2:01:14Z</dcterms:created>
  <dc:creator>HP Authorized Customer</dc:creator>
  <dc:description/>
  <dc:language>en-US</dc:language>
  <cp:lastModifiedBy>HP Authorized Customer</cp:lastModifiedBy>
  <dcterms:modified xsi:type="dcterms:W3CDTF">2008-10-01T12:51:51Z</dcterms:modified>
  <cp:revision>3</cp:revision>
  <dc:subject/>
  <dc:title>Title Subtitle Date: x/x/2008</dc:title>
</cp:coreProperties>
</file>