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D8BF-D3CA-4745-A584-49C8C527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D940-EBB8-49CA-BA83-7B4D1E20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8E7-1418-4F0A-9B58-EEBBDC97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EA4-7B5E-4DC3-819F-71E405408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520-0918-4E0F-9FA3-D6CD5849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7DFE-B9E4-4854-96F7-E45169A5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F152-C430-491B-AC84-3D2DF3F4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ECFF-4759-4A23-AF5C-02557B8AD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EF22-F023-47E4-A3A5-A6F6184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F71F-E9CA-4C45-A313-E7865E0A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077-12DB-47DA-98A7-919A2069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3DA-C670-4A6D-9D1B-35C72166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8B75-7D40-4B81-9CD6-E4D1D39B2ED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990720"/>
            <a:ext cx="9144000" cy="75960"/>
            <a:chOff x="0" y="990720"/>
            <a:chExt cx="9144000" cy="75960"/>
          </a:xfrm>
        </p:grpSpPr>
        <p:sp>
          <p:nvSpPr>
            <p:cNvPr id="6" name="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804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Data Model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McCre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 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1C06-49BF-4595-B908-974B227E2A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feren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3.org/TR/xmlschema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3.org/TR/xmlschema-2/#sh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4D3-1281-40CA-864F-4BE69FDD2A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underlying data structures use in XQuery and the termi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types for atomic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DF49-4BD1-4F51-AB37-418FDE8E06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ML Notation Re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57440" y="198072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ion (contain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15242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905120"/>
            <a:ext cx="1905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gre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3"/>
            <a:endCxn id="52" idx="1"/>
          </p:cNvCxnSpPr>
          <p:nvPr/>
        </p:nvCxnSpPr>
        <p:spPr>
          <a:xfrm>
            <a:off x="1905120" y="2171520"/>
            <a:ext cx="121968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54" name=""/>
          <p:cNvSpPr/>
          <p:nvPr/>
        </p:nvSpPr>
        <p:spPr>
          <a:xfrm>
            <a:off x="2212200" y="2286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81080" y="3429000"/>
            <a:ext cx="1523880" cy="533520"/>
            <a:chOff x="1981080" y="3429000"/>
            <a:chExt cx="1523880" cy="533520"/>
          </a:xfrm>
        </p:grpSpPr>
        <p:sp>
          <p:nvSpPr>
            <p:cNvPr id="56" name=""/>
            <p:cNvSpPr/>
            <p:nvPr/>
          </p:nvSpPr>
          <p:spPr>
            <a:xfrm>
              <a:off x="2819160" y="3429000"/>
              <a:ext cx="38124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33360" y="3429000"/>
              <a:ext cx="38124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3429000"/>
              <a:ext cx="1523880" cy="533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Anim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120" y="4648320"/>
            <a:ext cx="1904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m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4648320"/>
            <a:ext cx="19047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p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"/>
          <p:cNvCxnSpPr>
            <a:stCxn id="60" idx="0"/>
            <a:endCxn id="62" idx="3"/>
          </p:cNvCxnSpPr>
          <p:nvPr/>
        </p:nvCxnSpPr>
        <p:spPr>
          <a:xfrm flipH="1" flipV="1">
            <a:off x="3107880" y="4119120"/>
            <a:ext cx="664560" cy="5292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63" name=""/>
          <p:cNvSpPr/>
          <p:nvPr/>
        </p:nvSpPr>
        <p:spPr>
          <a:xfrm>
            <a:off x="5410080" y="4419720"/>
            <a:ext cx="33530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ypes (inheri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824920" y="3848040"/>
            <a:ext cx="370080" cy="380880"/>
            <a:chOff x="2824920" y="3848040"/>
            <a:chExt cx="370080" cy="380880"/>
          </a:xfrm>
        </p:grpSpPr>
        <p:sp>
          <p:nvSpPr>
            <p:cNvPr id="65" name=""/>
            <p:cNvSpPr/>
            <p:nvPr/>
          </p:nvSpPr>
          <p:spPr>
            <a:xfrm flipH="1" flipV="1">
              <a:off x="2921400" y="3965400"/>
              <a:ext cx="1767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8563400">
              <a:off x="2857320" y="392400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816920" y="3870000"/>
            <a:ext cx="948240" cy="794880"/>
            <a:chOff x="1816920" y="3870000"/>
            <a:chExt cx="948240" cy="794880"/>
          </a:xfrm>
        </p:grpSpPr>
        <p:cxnSp>
          <p:nvCxnSpPr>
            <p:cNvPr id="67" name=""/>
            <p:cNvCxnSpPr>
              <a:endCxn id="68" idx="3"/>
            </p:cNvCxnSpPr>
            <p:nvPr/>
          </p:nvCxnSpPr>
          <p:spPr>
            <a:xfrm flipV="1">
              <a:off x="1816920" y="4137480"/>
              <a:ext cx="664920" cy="5277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grpSp>
          <p:nvGrpSpPr>
            <p:cNvPr id="69" name=""/>
            <p:cNvGrpSpPr/>
            <p:nvPr/>
          </p:nvGrpSpPr>
          <p:grpSpPr>
            <a:xfrm>
              <a:off x="2398320" y="3870000"/>
              <a:ext cx="366840" cy="380880"/>
              <a:chOff x="2398320" y="3870000"/>
              <a:chExt cx="366840" cy="380880"/>
            </a:xfrm>
          </p:grpSpPr>
          <p:sp>
            <p:nvSpPr>
              <p:cNvPr id="70" name=""/>
              <p:cNvSpPr/>
              <p:nvPr/>
            </p:nvSpPr>
            <p:spPr>
              <a:xfrm flipV="1">
                <a:off x="2491200" y="3990600"/>
                <a:ext cx="181440" cy="13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3145800">
                <a:off x="2429280" y="3945960"/>
                <a:ext cx="30456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8AEC-CF9C-46E1-A4BD-A0B924DEF6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ML Diagram Not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quence contains 0 to many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76520" y="1600200"/>
            <a:ext cx="15238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15000" y="1600200"/>
            <a:ext cx="13716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"/>
          <p:cNvCxnSpPr>
            <a:stCxn id="73" idx="3"/>
            <a:endCxn id="74" idx="1"/>
          </p:cNvCxnSpPr>
          <p:nvPr/>
        </p:nvCxnSpPr>
        <p:spPr>
          <a:xfrm>
            <a:off x="3200040" y="1866600"/>
            <a:ext cx="2515320" cy="1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6" name=""/>
          <p:cNvSpPr/>
          <p:nvPr/>
        </p:nvSpPr>
        <p:spPr>
          <a:xfrm>
            <a:off x="4101120" y="194004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0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F5A1-481E-4268-A46C-3658D24DDE7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wo Subtypes of Ite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3962520"/>
            <a:ext cx="8229600" cy="21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sub-types of items.  Nodes and atomic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1447920"/>
            <a:ext cx="152388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15242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2819520"/>
            <a:ext cx="221004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omic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endCxn id="83" idx="3"/>
          </p:cNvCxnSpPr>
          <p:nvPr/>
        </p:nvCxnSpPr>
        <p:spPr>
          <a:xfrm flipH="1" flipV="1">
            <a:off x="4936320" y="2138040"/>
            <a:ext cx="756360" cy="6768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84" name=""/>
          <p:cNvGrpSpPr/>
          <p:nvPr/>
        </p:nvGrpSpPr>
        <p:grpSpPr>
          <a:xfrm>
            <a:off x="4653720" y="1867320"/>
            <a:ext cx="370080" cy="380520"/>
            <a:chOff x="4653720" y="1867320"/>
            <a:chExt cx="370080" cy="380520"/>
          </a:xfrm>
        </p:grpSpPr>
        <p:sp>
          <p:nvSpPr>
            <p:cNvPr id="85" name=""/>
            <p:cNvSpPr/>
            <p:nvPr/>
          </p:nvSpPr>
          <p:spPr>
            <a:xfrm flipH="1" flipV="1">
              <a:off x="4749840" y="1984680"/>
              <a:ext cx="1767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8563400">
              <a:off x="4686120" y="19432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233600" y="1928520"/>
            <a:ext cx="371880" cy="333360"/>
            <a:chOff x="4233600" y="1928520"/>
            <a:chExt cx="371880" cy="333360"/>
          </a:xfrm>
        </p:grpSpPr>
        <p:sp>
          <p:nvSpPr>
            <p:cNvPr id="87" name=""/>
            <p:cNvSpPr/>
            <p:nvPr/>
          </p:nvSpPr>
          <p:spPr>
            <a:xfrm flipV="1">
              <a:off x="4372920" y="1990800"/>
              <a:ext cx="9360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452000">
              <a:off x="4266720" y="1980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9" name=""/>
          <p:cNvCxnSpPr>
            <a:stCxn id="80" idx="0"/>
            <a:endCxn id="88" idx="3"/>
          </p:cNvCxnSpPr>
          <p:nvPr/>
        </p:nvCxnSpPr>
        <p:spPr>
          <a:xfrm flipV="1">
            <a:off x="3657240" y="2210760"/>
            <a:ext cx="708840" cy="60876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DFE6-DD1A-47C5-B5F9-89E63DD08A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ix Subtypes of No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487692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ix subtypes of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s and PIs are 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447920"/>
            <a:ext cx="22860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57800" y="39625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962520"/>
            <a:ext cx="1447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96" idx="0"/>
            <a:endCxn id="97" idx="3"/>
          </p:cNvCxnSpPr>
          <p:nvPr/>
        </p:nvCxnSpPr>
        <p:spPr>
          <a:xfrm flipH="1" flipV="1">
            <a:off x="5698800" y="2137680"/>
            <a:ext cx="2417040" cy="18248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5415840" y="1867320"/>
            <a:ext cx="370080" cy="380520"/>
            <a:chOff x="5415840" y="1867320"/>
            <a:chExt cx="370080" cy="380520"/>
          </a:xfrm>
        </p:grpSpPr>
        <p:sp>
          <p:nvSpPr>
            <p:cNvPr id="99" name=""/>
            <p:cNvSpPr/>
            <p:nvPr/>
          </p:nvSpPr>
          <p:spPr>
            <a:xfrm flipH="1" flipV="1">
              <a:off x="5511960" y="1984680"/>
              <a:ext cx="176760" cy="14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563400">
              <a:off x="5448240" y="194328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162600" y="1915560"/>
            <a:ext cx="380520" cy="359640"/>
            <a:chOff x="3162600" y="1915560"/>
            <a:chExt cx="380520" cy="359640"/>
          </a:xfrm>
        </p:grpSpPr>
        <p:sp>
          <p:nvSpPr>
            <p:cNvPr id="101" name=""/>
            <p:cNvSpPr/>
            <p:nvPr/>
          </p:nvSpPr>
          <p:spPr>
            <a:xfrm flipV="1">
              <a:off x="3289320" y="2000160"/>
              <a:ext cx="127440" cy="19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2028000">
              <a:off x="3200040" y="1980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3" name=""/>
          <p:cNvCxnSpPr>
            <a:stCxn id="94" idx="0"/>
            <a:endCxn id="102" idx="3"/>
          </p:cNvCxnSpPr>
          <p:nvPr/>
        </p:nvCxnSpPr>
        <p:spPr>
          <a:xfrm flipV="1">
            <a:off x="1104480" y="2199600"/>
            <a:ext cx="2175480" cy="17629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3581280" y="3962520"/>
            <a:ext cx="1447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772400" y="3962520"/>
            <a:ext cx="6858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962520"/>
            <a:ext cx="5335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3962520"/>
            <a:ext cx="14479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700440" y="1928520"/>
            <a:ext cx="371520" cy="333360"/>
            <a:chOff x="3700440" y="1928520"/>
            <a:chExt cx="371520" cy="333360"/>
          </a:xfrm>
        </p:grpSpPr>
        <p:sp>
          <p:nvSpPr>
            <p:cNvPr id="108" name=""/>
            <p:cNvSpPr/>
            <p:nvPr/>
          </p:nvSpPr>
          <p:spPr>
            <a:xfrm flipV="1">
              <a:off x="3839400" y="1990800"/>
              <a:ext cx="93600" cy="20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452000">
              <a:off x="3733560" y="1980720"/>
              <a:ext cx="30456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108320" y="1972440"/>
            <a:ext cx="317880" cy="245880"/>
            <a:chOff x="4108320" y="1972440"/>
            <a:chExt cx="317880" cy="245880"/>
          </a:xfrm>
        </p:grpSpPr>
        <p:sp>
          <p:nvSpPr>
            <p:cNvPr id="111" name=""/>
            <p:cNvSpPr/>
            <p:nvPr/>
          </p:nvSpPr>
          <p:spPr>
            <a:xfrm flipV="1">
              <a:off x="4260960" y="1981080"/>
              <a:ext cx="1332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200400">
              <a:off x="4114440" y="198108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464000" y="1931760"/>
            <a:ext cx="368640" cy="326880"/>
            <a:chOff x="4464000" y="1931760"/>
            <a:chExt cx="368640" cy="326880"/>
          </a:xfrm>
        </p:grpSpPr>
        <p:sp>
          <p:nvSpPr>
            <p:cNvPr id="114" name=""/>
            <p:cNvSpPr/>
            <p:nvPr/>
          </p:nvSpPr>
          <p:spPr>
            <a:xfrm flipH="1" flipV="1">
              <a:off x="4605120" y="1989000"/>
              <a:ext cx="8640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0269800">
              <a:off x="4495680" y="1980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916520" y="1921320"/>
            <a:ext cx="377640" cy="348120"/>
            <a:chOff x="4916520" y="1921320"/>
            <a:chExt cx="377640" cy="348120"/>
          </a:xfrm>
        </p:grpSpPr>
        <p:sp>
          <p:nvSpPr>
            <p:cNvPr id="117" name=""/>
            <p:cNvSpPr/>
            <p:nvPr/>
          </p:nvSpPr>
          <p:spPr>
            <a:xfrm flipH="1" flipV="1">
              <a:off x="5049720" y="1995120"/>
              <a:ext cx="111240" cy="19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9854000">
              <a:off x="4952520" y="1980720"/>
              <a:ext cx="304920" cy="228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9" name=""/>
          <p:cNvCxnSpPr>
            <a:stCxn id="106" idx="0"/>
            <a:endCxn id="109" idx="3"/>
          </p:cNvCxnSpPr>
          <p:nvPr/>
        </p:nvCxnSpPr>
        <p:spPr>
          <a:xfrm flipV="1">
            <a:off x="2704680" y="2211120"/>
            <a:ext cx="1127880" cy="175176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04" idx="0"/>
            <a:endCxn id="112" idx="3"/>
          </p:cNvCxnSpPr>
          <p:nvPr/>
        </p:nvCxnSpPr>
        <p:spPr>
          <a:xfrm flipH="1" flipV="1">
            <a:off x="4257360" y="2221920"/>
            <a:ext cx="48240" cy="174060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21" name=""/>
          <p:cNvCxnSpPr>
            <a:stCxn id="93" idx="0"/>
            <a:endCxn id="115" idx="3"/>
          </p:cNvCxnSpPr>
          <p:nvPr/>
        </p:nvCxnSpPr>
        <p:spPr>
          <a:xfrm flipH="1" flipV="1">
            <a:off x="4695480" y="2212560"/>
            <a:ext cx="1362960" cy="175032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22" name=""/>
          <p:cNvCxnSpPr>
            <a:stCxn id="105" idx="0"/>
            <a:endCxn id="118" idx="3"/>
          </p:cNvCxnSpPr>
          <p:nvPr/>
        </p:nvCxnSpPr>
        <p:spPr>
          <a:xfrm flipH="1" flipV="1">
            <a:off x="5167080" y="2206080"/>
            <a:ext cx="2110320" cy="1756440"/>
          </a:xfrm>
          <a:prstGeom prst="straightConnector1">
            <a:avLst/>
          </a:prstGeom>
          <a:ln w="572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F87-CAAB-44C3-9E84-B37289C637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28600"/>
            <a:ext cx="7086600" cy="6305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768A-C325-4F88-B48A-5DF65A46CC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ange limits for some tim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E4DF-4119-482E-8FE3-F127DDAB76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Ke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5677200" cy="12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6A7-1C6E-4792-81C3-71906678AD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3:09:12Z</dcterms:created>
  <dc:creator>Dan McCreary</dc:creator>
  <dc:description/>
  <dc:language>en-US</dc:language>
  <cp:lastModifiedBy>Dan McCreary</cp:lastModifiedBy>
  <dcterms:modified xsi:type="dcterms:W3CDTF">2008-10-09T01:30:49Z</dcterms:modified>
  <cp:revision>23</cp:revision>
  <dc:subject/>
  <dc:title>XQuery A Foundation of a SOA-Driven Metadata Strategy</dc:title>
</cp:coreProperties>
</file>