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F206-3848-4C4C-9DA7-8E29DF4E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B21-6C9A-4079-BA8C-1BE75529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668-904B-42C3-92B2-EB620814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0C6-3599-4786-B6A0-1973D44A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9225-DF07-4CA5-A357-BAA22DCA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43C7-C8A9-4F67-A489-D46B93D40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F115-C95A-4649-98C5-68A8CDB7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7E72-292F-498E-9786-A7895BD3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DCB3-D24E-4A72-A8C2-0ED04F67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FDB-0E10-4820-8983-1FEC7BB1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197-8E7C-430B-A6AD-B6D126DF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BA06-A485-46E2-81BC-D3632574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BBBB-E47E-48D8-B578-EFDD66E6BEFE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371600"/>
            <a:ext cx="9144000" cy="75960"/>
            <a:chOff x="0" y="137160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44756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37160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886880" cy="22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Narrow"/>
              </a:rPr>
              <a:t>Using oXygen</a:t>
            </a:r>
            <a:br>
              <a:rPr sz="4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ing oXygen to build and execut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Query applications on eXis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ate: September 2008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15080" y="43430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2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53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457200" y="5029200"/>
            <a:ext cx="2209320" cy="1383480"/>
            <a:chOff x="457200" y="5029200"/>
            <a:chExt cx="2209320" cy="1383480"/>
          </a:xfrm>
        </p:grpSpPr>
        <p:sp>
          <p:nvSpPr>
            <p:cNvPr id="57" name=""/>
            <p:cNvSpPr/>
            <p:nvPr/>
          </p:nvSpPr>
          <p:spPr>
            <a:xfrm>
              <a:off x="922320" y="502920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03360" y="561024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"/>
            <p:cNvCxnSpPr>
              <a:stCxn id="57" idx="5"/>
              <a:endCxn id="58" idx="1"/>
            </p:cNvCxnSpPr>
            <p:nvPr/>
          </p:nvCxnSpPr>
          <p:spPr>
            <a:xfrm>
              <a:off x="1318680" y="5425560"/>
              <a:ext cx="253080" cy="253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"/>
            <p:cNvSpPr/>
            <p:nvPr/>
          </p:nvSpPr>
          <p:spPr>
            <a:xfrm>
              <a:off x="457200" y="607536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B340-9AFC-40EC-87E7-AD3C66F35D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7886880" cy="590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5335-09D1-4857-A4D9-D8118420B4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ajor Screen Area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ase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tabs on the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Path Expression Bui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761-33F0-4B78-9E4A-7D2B325C29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ello World in XQuer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00280" y="1828800"/>
            <a:ext cx="7772400" cy="312408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a"/>
                </a:solidFill>
                <a:latin typeface="Times New Roman"/>
              </a:rPr>
              <a:t>xquery vers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40064"/>
                </a:solidFill>
                <a:latin typeface="Times New Roman"/>
              </a:rPr>
              <a:t>"1.0"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a"/>
                </a:solidFill>
                <a:latin typeface="Times New Roman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6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</a:t>
            </a:r>
            <a:r>
              <a:rPr b="0" lang="en-US" sz="3200" spc="-1" strike="noStrike">
                <a:solidFill>
                  <a:srgbClr val="000096"/>
                </a:solidFill>
                <a:latin typeface="Times New Roman"/>
              </a:rPr>
              <a:t>: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40064"/>
                </a:solidFill>
                <a:latin typeface="Times New Roman"/>
              </a:rPr>
              <a:t>'Hello World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a"/>
                </a:solidFill>
                <a:latin typeface="Times New Roman"/>
              </a:rPr>
              <a:t>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96"/>
                </a:solidFill>
                <a:latin typeface="Times New Roman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F3E-D508-4E02-9628-967CBC6D30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71880" y="228600"/>
            <a:ext cx="6624360" cy="589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7480" y="1143000"/>
            <a:ext cx="914400" cy="2514600"/>
          </a:xfrm>
          <a:custGeom>
            <a:avLst/>
            <a:gdLst>
              <a:gd name="textAreaLeft" fmla="*/ 584280 w 914400"/>
              <a:gd name="textAreaRight" fmla="*/ 914760 w 9144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57480" y="3886200"/>
            <a:ext cx="914400" cy="2057400"/>
          </a:xfrm>
          <a:custGeom>
            <a:avLst/>
            <a:gdLst>
              <a:gd name="textAreaLeft" fmla="*/ 584280 w 914400"/>
              <a:gd name="textAreaRight" fmla="*/ 914760 w 9144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3800" y="21718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0640" y="4686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86400" y="685800"/>
            <a:ext cx="571680" cy="571680"/>
          </a:xfrm>
          <a:prstGeom prst="ellipse">
            <a:avLst/>
          </a:prstGeom>
          <a:noFill/>
          <a:ln w="284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44080" y="914400"/>
            <a:ext cx="571320" cy="571680"/>
          </a:xfrm>
          <a:prstGeom prst="ellipse">
            <a:avLst/>
          </a:prstGeom>
          <a:noFill/>
          <a:ln w="28440">
            <a:solidFill>
              <a:srgbClr val="ff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489640" y="13716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33"/>
                </a:solidFill>
                <a:latin typeface="Arial Narrow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80520" y="160020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33"/>
                </a:solidFill>
                <a:latin typeface="Arial Narrow"/>
              </a:rPr>
              <a:t>Valid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106-FE2B-49D2-8ED7-FD8116C5F5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ransformation Scenario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ransformation senerio is a specific configuration on how you want to run your trans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use oXygen’s built-in Saxon XQuery processor for doing standard XQuery testing on small local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xon is highly compliant with XQuery 1.0 and because it runs as part of oXygen you can do advanced stepwise debugging within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will not be able to use Saxon if you are using any of eXist’s XQuery extension in your X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05E4-D972-4349-A1DB-B78740DE8B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esting with Sax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400480"/>
            <a:ext cx="36576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46080" y="194328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4572000"/>
            <a:ext cx="125748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ax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200400" y="2857680"/>
            <a:ext cx="1028880" cy="1257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4914720" y="2857320"/>
            <a:ext cx="1028880" cy="1257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1" idx="1"/>
            <a:endCxn id="110" idx="0"/>
          </p:cNvCxnSpPr>
          <p:nvPr/>
        </p:nvCxnSpPr>
        <p:spPr>
          <a:xfrm>
            <a:off x="3714840" y="4000320"/>
            <a:ext cx="80064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10" idx="0"/>
            <a:endCxn id="112" idx="1"/>
          </p:cNvCxnSpPr>
          <p:nvPr/>
        </p:nvCxnSpPr>
        <p:spPr>
          <a:xfrm flipV="1">
            <a:off x="4514760" y="3999960"/>
            <a:ext cx="915120" cy="572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C947-C60E-48DB-86E7-09D9405B7B4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xecuting on eXi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2514600"/>
            <a:ext cx="3657600" cy="308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8680" y="2057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14680" y="4800600"/>
            <a:ext cx="194292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 “jar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16200000">
            <a:off x="1143000" y="2971440"/>
            <a:ext cx="1028520" cy="125712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2857680" y="2971440"/>
            <a:ext cx="1028520" cy="125748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9" idx="1"/>
            <a:endCxn id="118" idx="0"/>
          </p:cNvCxnSpPr>
          <p:nvPr/>
        </p:nvCxnSpPr>
        <p:spPr>
          <a:xfrm>
            <a:off x="1657080" y="4114440"/>
            <a:ext cx="102888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8" idx="0"/>
            <a:endCxn id="120" idx="1"/>
          </p:cNvCxnSpPr>
          <p:nvPr/>
        </p:nvCxnSpPr>
        <p:spPr>
          <a:xfrm flipV="1">
            <a:off x="2685600" y="4114080"/>
            <a:ext cx="686520" cy="686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743880" y="3429000"/>
            <a:ext cx="1371600" cy="182880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8" idx="3"/>
            <a:endCxn id="123" idx="2"/>
          </p:cNvCxnSpPr>
          <p:nvPr/>
        </p:nvCxnSpPr>
        <p:spPr>
          <a:xfrm flipV="1">
            <a:off x="3657240" y="4342680"/>
            <a:ext cx="3087000" cy="686520"/>
          </a:xfrm>
          <a:prstGeom prst="curvedConnector5">
            <a:avLst>
              <a:gd name="adj1" fmla="val 59248"/>
              <a:gd name="adj2" fmla="val 50000"/>
              <a:gd name="adj3" fmla="val 59248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23" idx="2"/>
            <a:endCxn id="118" idx="3"/>
          </p:cNvCxnSpPr>
          <p:nvPr/>
        </p:nvCxnSpPr>
        <p:spPr>
          <a:xfrm flipV="1" rot="10800000">
            <a:off x="3656880" y="4342320"/>
            <a:ext cx="3087000" cy="686520"/>
          </a:xfrm>
          <a:prstGeom prst="curvedConnector5">
            <a:avLst>
              <a:gd name="adj1" fmla="val 54152"/>
              <a:gd name="adj2" fmla="val 50000"/>
              <a:gd name="adj3" fmla="val 541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E901-F8FC-4D86-960F-29D9069AC24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turn results from eXist to oXygen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028880" y="1028880"/>
            <a:ext cx="720072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FC11-BC26-4A78-AAC8-36E4C863A2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Rendering Within oXyge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537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gure oXygen to render resul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into web browser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is is part of the transformation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190600" y="1504800"/>
            <a:ext cx="4762800" cy="38484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0200" y="3772080"/>
            <a:ext cx="800280" cy="571320"/>
          </a:xfrm>
          <a:prstGeom prst="line">
            <a:avLst/>
          </a:prstGeom>
          <a:ln w="5724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520" y="3198960"/>
            <a:ext cx="92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D71E-9E6F-4219-9297-C6C2DC1DB9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Output in Lower Windo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71600" y="1257480"/>
            <a:ext cx="6515280" cy="492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ABE-F0EA-4B4E-AFDC-F03009D399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oXyg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izing screen lay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XPath 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33E-3941-4A72-865A-8AE94C3E4B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No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ntext-aware functions that will run correctly if executed from a browser may not run within oXy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currently no way to configure what rendering engine oXygen uses (IE, FireFox, Chrome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best results, test in at least two different browsers, especially if you are using complex CSS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B76-4EDC-4B0A-9D49-3CD66F61E2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oolbar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customized to your p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recommended for this clas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F13-6164-40C8-BFAE-2C4B127B94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28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onfigure Toolbars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3695760" cy="63151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flipH="1">
            <a:off x="6419880" y="3271680"/>
            <a:ext cx="2171520" cy="0"/>
          </a:xfrm>
          <a:prstGeom prst="line">
            <a:avLst/>
          </a:prstGeom>
          <a:ln w="2844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305040" y="3271680"/>
            <a:ext cx="2171880" cy="0"/>
          </a:xfrm>
          <a:prstGeom prst="line">
            <a:avLst/>
          </a:prstGeom>
          <a:ln w="2844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533640" y="3614760"/>
            <a:ext cx="2171880" cy="0"/>
          </a:xfrm>
          <a:prstGeom prst="line">
            <a:avLst/>
          </a:prstGeom>
          <a:ln w="2844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6533640" y="1785960"/>
            <a:ext cx="2171880" cy="0"/>
          </a:xfrm>
          <a:prstGeom prst="line">
            <a:avLst/>
          </a:prstGeom>
          <a:ln w="28440">
            <a:solidFill>
              <a:srgbClr val="ff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2215-61C2-451A-A200-49E4A43740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ving Your Perspectiv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4686480"/>
            <a:ext cx="77724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will save the positions of all your views within oXyg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00480" y="1257480"/>
            <a:ext cx="3409920" cy="24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C909-17A8-4026-A0C3-70E67107B7D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ubvers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sion control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 stored at Googl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xrx.googlecode.com/svn/trunk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“checkout” a read-only copy using Subversion’s Subversion Client (Syncro SV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oXyg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ls -&gt; SVN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1570-ED7D-40C5-B2A2-1021D8EFD0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02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ubversion Acces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71680" y="1257480"/>
            <a:ext cx="8229600" cy="486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F0BB-3AF4-4AFD-B416-D8751DF542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D9F-F6A1-438F-9D88-3BA877195B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oXygen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29080" y="1828440"/>
            <a:ext cx="5829120" cy="40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 are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has become the premiere tool for working with 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 will be our primary XQuery development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important that people feel comfortable with both the tools and the theory behind X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to know your tools will make you more 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92120" y="1697040"/>
            <a:ext cx="1787400" cy="1778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140D-FAB3-43AD-B848-6064449418E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Xygen Data Sourc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00400" y="1247760"/>
            <a:ext cx="5324400" cy="4881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31480" y="171468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ols -&gt;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6CD-1E96-4BD4-A28D-F56D7D0642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3 “jar” fi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14440" y="1447560"/>
            <a:ext cx="4343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files are part of the eXist distribution but are used by oXygen to connect to the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.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db.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rpc-1.2-patched.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952720" cy="31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AC1E-C33E-4A65-80CD-AAE80FCF1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ata Source Driver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00480" y="1828800"/>
            <a:ext cx="3867120" cy="414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4284-64D9-46F1-AE34-A3E62D3A9B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nnection to Localho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4743360" cy="3514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375200" y="5486400"/>
            <a:ext cx="62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XML DB URI: xmldb:exist://localhost:8080/exist/xml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85AB-69A2-42AA-95AF-C967EBBF8B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indows WebDAV Fold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880" y="5600520"/>
            <a:ext cx="7657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ocalhost:8080/exist/webdav/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772080" y="1714680"/>
            <a:ext cx="3074760" cy="377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00280" y="1828800"/>
            <a:ext cx="22860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66F-4313-40CD-8581-837B5FB0E5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ebDAV vs Re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72080" y="4457880"/>
            <a:ext cx="4000320" cy="17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using the windows Add Network Place make sure to use the WebDAV u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14400" y="4457880"/>
            <a:ext cx="2286000" cy="100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93920" y="171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1680" y="2171880"/>
            <a:ext cx="7657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ocalhost:8080/exist/rest/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3429000"/>
            <a:ext cx="765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localhost:8080/exist/webdav/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280" y="1828800"/>
            <a:ext cx="47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eb Browser (to execute any XQue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0760" y="308628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 File System (drag and dr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68CB-996C-4CA3-ACA2-3DF0208E13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3:03:19Z</dcterms:created>
  <dc:creator>HP Authorized Customer</dc:creator>
  <dc:description/>
  <dc:language>en-US</dc:language>
  <cp:lastModifiedBy>HP Authorized Customer</cp:lastModifiedBy>
  <dcterms:modified xsi:type="dcterms:W3CDTF">2008-09-30T15:19:15Z</dcterms:modified>
  <cp:revision>6</cp:revision>
  <dc:subject/>
  <dc:title>Using oXygen Using oXygen to build XRX applications Date: September 2008</dc:title>
</cp:coreProperties>
</file>