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7A1-A73B-44D3-9143-5CC092CE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AF8-7885-46EB-B926-054347E8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1E63-A66F-4FBC-B230-ECC2F5DBD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F5F8-FD29-4D39-B3F3-87015835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D35-F2BB-4B0D-A3E4-7CA0DD92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F988-5C8F-4D20-B8E8-15369623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718-89BF-47C6-B22F-5D9329F3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7620-67A3-491B-921C-9FA9C30A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2EA-1777-4076-82EF-932EA347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C0F-68D2-434C-A52B-E0A22409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8EF-6DF3-42BF-8949-10354C4D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0A53-A1A4-4B4B-BB48-747EB58A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EF1CF-7D2B-4E3B-8D4F-42F6AD59C83D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cursive Functio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Hierarchical Repor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9/30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F25-0612-4D09-A4C6-3847367F028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Using oXygen to Create Collect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943280" y="1257480"/>
            <a:ext cx="3511440" cy="46861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 flipH="1">
            <a:off x="5028840" y="3314880"/>
            <a:ext cx="2057400" cy="1028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32280" y="24004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ove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B236-870D-4C24-AD5F-0762A46A25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get-child-collections(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unction takes a single input collection path returns a a set of strings, each string is a child of the current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7240" y="3429000"/>
            <a:ext cx="802188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mldb:get-child-collections($collection as xs:string) as xs:string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2960" y="4915080"/>
            <a:ext cx="70020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t $children := xmldb:get-child-collections(‘/db/webroo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6040" y="28576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6680" y="422928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BC05-A0B4-46FE-934A-D27F215DA1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ing get-child-collec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6629400" cy="2514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28440" y="4686480"/>
            <a:ext cx="7450200" cy="11912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resul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children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out faqs training products support</a:t>
            </a: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/childre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/resul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41148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9680" y="240048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B15F-2CEB-4D80-B206-21EDCBC916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Loop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99840" y="4343400"/>
            <a:ext cx="2971800" cy="1828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result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qs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result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0200" y="1600200"/>
            <a:ext cx="6743880" cy="2514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9680" y="262908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9760" y="5029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A87-DEC2-4646-9C22-DC7A0EBA86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clare Sitemap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369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D2E9-6434-4745-9B3D-C0B3C7797C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369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B78-1B15-4257-997C-E8553D95E0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17600" y="1714320"/>
            <a:ext cx="2911680" cy="4343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si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q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orm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25520" y="2629080"/>
            <a:ext cx="2553840" cy="3385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si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1A8-1A55-4182-AD7B-75F7162166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86080" y="1828800"/>
            <a:ext cx="5943600" cy="4114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map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7D78-3B0D-4A11-B919-CD483265B3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UL 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1916280" cy="422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774-7D17-4F0A-B13F-D00174171D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HTML Link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72680" cy="41133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{concat('/exist/rest', $collection, '/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$child)}"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6CD-15AF-4F88-B662-B9C3EA62D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ule Outlin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recursive fun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map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DAFF-7ED5-4758-8045-E76E7F94BC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194796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3327120" y="2286000"/>
            <a:ext cx="54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ttp://localhost:8080/exist/rest/db/webroot/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1828800"/>
            <a:ext cx="102888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653-E498-4FDE-881E-B00B9EEEC19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Level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nother parameter called “level” to the sitemap function that is of type integer. Start the root with level 0 and increment the level each time you call yoursel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57480" y="4114800"/>
            <a:ext cx="6172200" cy="1600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B787-E3CD-4D44-A741-455C2AF572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Tit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1640" y="171432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itemaps create a “user friendly” title that might include mixed case and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lookup table that store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itle for each collection.  The title might include spaces and other special characters that are not used in collection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9240" y="1828800"/>
            <a:ext cx="3592800" cy="25275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code-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path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db/webroot/training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title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aining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path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db/webroot/faqs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title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requently Asked Questions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code-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95840" y="5600880"/>
            <a:ext cx="476784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title := $code-table/item[$path=path]/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237D-B138-4097-9A3F-D12460474E6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629080" y="1600200"/>
            <a:ext cx="3585960" cy="468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1E3-EBD6-465F-A861-C4067D1EB5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axonom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eratical classification system based on subjec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86280" y="240048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57880" y="388620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886200"/>
            <a:ext cx="125748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86080" y="388620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9480" y="38862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900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20108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7228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2" idx="0"/>
            <a:endCxn id="699" idx="3"/>
          </p:cNvCxnSpPr>
          <p:nvPr/>
        </p:nvCxnSpPr>
        <p:spPr>
          <a:xfrm flipV="1">
            <a:off x="2114640" y="2999520"/>
            <a:ext cx="115632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1" idx="0"/>
            <a:endCxn id="699" idx="4"/>
          </p:cNvCxnSpPr>
          <p:nvPr/>
        </p:nvCxnSpPr>
        <p:spPr>
          <a:xfrm flipV="1">
            <a:off x="3600360" y="3099600"/>
            <a:ext cx="115200" cy="7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0" idx="0"/>
            <a:endCxn id="699" idx="5"/>
          </p:cNvCxnSpPr>
          <p:nvPr/>
        </p:nvCxnSpPr>
        <p:spPr>
          <a:xfrm flipH="1" flipV="1">
            <a:off x="4158720" y="2999520"/>
            <a:ext cx="92808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3" idx="0"/>
          </p:cNvCxnSpPr>
          <p:nvPr/>
        </p:nvCxnSpPr>
        <p:spPr>
          <a:xfrm flipH="1" flipV="1">
            <a:off x="4343040" y="2742480"/>
            <a:ext cx="2286720" cy="11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4" idx="0"/>
            <a:endCxn id="703" idx="4"/>
          </p:cNvCxnSpPr>
          <p:nvPr/>
        </p:nvCxnSpPr>
        <p:spPr>
          <a:xfrm flipV="1">
            <a:off x="4228920" y="4585680"/>
            <a:ext cx="240084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6" idx="0"/>
            <a:endCxn id="703" idx="4"/>
          </p:cNvCxnSpPr>
          <p:nvPr/>
        </p:nvCxnSpPr>
        <p:spPr>
          <a:xfrm flipV="1">
            <a:off x="6172200" y="4585680"/>
            <a:ext cx="45792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5" idx="0"/>
            <a:endCxn id="703" idx="4"/>
          </p:cNvCxnSpPr>
          <p:nvPr/>
        </p:nvCxnSpPr>
        <p:spPr>
          <a:xfrm flipH="1" flipV="1">
            <a:off x="6629040" y="4585680"/>
            <a:ext cx="137232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A3F-13E0-4B2A-BD14-AAD55BCD88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axonomy Lab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imple hierarchical taxonomy management system similar to the Dewey decimal system for libra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ndividual items in XML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e root item “Thing”.  Create narrower terms for “Person”, “Event”, “Organization”, “Place” and “Public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“item” has one-and-only-one broader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functions for get-narrower-items(), and get-hierarch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38880" y="3772080"/>
            <a:ext cx="5558760" cy="1923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id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label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son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labe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definition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 individual Human Being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defini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broader-id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broader-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44CF-FDCA-491F-8467-5A0CF61141C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A160-75BB-4685-B3BF-7045DF65E7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Use Recursive Function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evelopers to create very simple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ierarchical view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 are usually very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evelopers to put different types of data at any level of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A20E-19C4-4C00-A3DB-A097F31B53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at is Recursion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that contain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ders that contain sub-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that contain sub-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s that have sub-group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systems that have sub-classification systems (aka Taxonom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E40F-7FD2-44CB-8FB8-2C6A52F448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Loop vs. Recur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3280" y="2629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43280" y="320040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4328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3280" y="434340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43280" y="4915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08628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43880" y="27432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45788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8860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-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43880" y="34290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41148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8" idx="6"/>
            <a:endCxn id="69" idx="2"/>
          </p:cNvCxnSpPr>
          <p:nvPr/>
        </p:nvCxnSpPr>
        <p:spPr>
          <a:xfrm flipV="1">
            <a:off x="1614240" y="2856960"/>
            <a:ext cx="3150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8" idx="6"/>
            <a:endCxn id="70" idx="2"/>
          </p:cNvCxnSpPr>
          <p:nvPr/>
        </p:nvCxnSpPr>
        <p:spPr>
          <a:xfrm flipV="1">
            <a:off x="1614240" y="3428640"/>
            <a:ext cx="315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8" idx="6"/>
            <a:endCxn id="71" idx="2"/>
          </p:cNvCxnSpPr>
          <p:nvPr/>
        </p:nvCxnSpPr>
        <p:spPr>
          <a:xfrm>
            <a:off x="1614240" y="4000320"/>
            <a:ext cx="315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8" idx="6"/>
            <a:endCxn id="72" idx="2"/>
          </p:cNvCxnSpPr>
          <p:nvPr/>
        </p:nvCxnSpPr>
        <p:spPr>
          <a:xfrm>
            <a:off x="1614240" y="4000320"/>
            <a:ext cx="31500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68" idx="6"/>
            <a:endCxn id="73" idx="2"/>
          </p:cNvCxnSpPr>
          <p:nvPr/>
        </p:nvCxnSpPr>
        <p:spPr>
          <a:xfrm>
            <a:off x="1614240" y="4000320"/>
            <a:ext cx="3150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4" idx="6"/>
            <a:endCxn id="75" idx="2"/>
          </p:cNvCxnSpPr>
          <p:nvPr/>
        </p:nvCxnSpPr>
        <p:spPr>
          <a:xfrm flipV="1">
            <a:off x="5043240" y="3314160"/>
            <a:ext cx="20052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6"/>
            <a:endCxn id="77" idx="2"/>
          </p:cNvCxnSpPr>
          <p:nvPr/>
        </p:nvCxnSpPr>
        <p:spPr>
          <a:xfrm>
            <a:off x="5043240" y="4000320"/>
            <a:ext cx="20052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6"/>
            <a:endCxn id="76" idx="2"/>
          </p:cNvCxnSpPr>
          <p:nvPr/>
        </p:nvCxnSpPr>
        <p:spPr>
          <a:xfrm flipV="1">
            <a:off x="6414840" y="2971080"/>
            <a:ext cx="3150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5" idx="6"/>
            <a:endCxn id="79" idx="2"/>
          </p:cNvCxnSpPr>
          <p:nvPr/>
        </p:nvCxnSpPr>
        <p:spPr>
          <a:xfrm>
            <a:off x="6414840" y="3314880"/>
            <a:ext cx="315000" cy="343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7" idx="6"/>
            <a:endCxn id="80" idx="2"/>
          </p:cNvCxnSpPr>
          <p:nvPr/>
        </p:nvCxnSpPr>
        <p:spPr>
          <a:xfrm flipV="1">
            <a:off x="6414840" y="4342680"/>
            <a:ext cx="3150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6743880" y="48006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7" idx="6"/>
            <a:endCxn id="91" idx="2"/>
          </p:cNvCxnSpPr>
          <p:nvPr/>
        </p:nvCxnSpPr>
        <p:spPr>
          <a:xfrm>
            <a:off x="6414840" y="4686480"/>
            <a:ext cx="315000" cy="343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5390280" y="18860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6FA-EC05-4F50-B513-427C06E6BC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486400" y="160020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261288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62592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63860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Does It Work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537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ine a bug crawling up a tree.  When it hits a branch it spawns a new bug for each bran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7"/>
            <a:endCxn id="102" idx="2"/>
          </p:cNvCxnSpPr>
          <p:nvPr/>
        </p:nvCxnSpPr>
        <p:spPr>
          <a:xfrm flipV="1">
            <a:off x="2576160" y="2364480"/>
            <a:ext cx="610200" cy="740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1" idx="5"/>
            <a:endCxn id="104" idx="2"/>
          </p:cNvCxnSpPr>
          <p:nvPr/>
        </p:nvCxnSpPr>
        <p:spPr>
          <a:xfrm>
            <a:off x="2576160" y="3569760"/>
            <a:ext cx="56124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102" idx="7"/>
            <a:endCxn id="94" idx="2"/>
          </p:cNvCxnSpPr>
          <p:nvPr/>
        </p:nvCxnSpPr>
        <p:spPr>
          <a:xfrm flipV="1">
            <a:off x="4176720" y="1909440"/>
            <a:ext cx="129600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2" idx="5"/>
            <a:endCxn id="95" idx="2"/>
          </p:cNvCxnSpPr>
          <p:nvPr/>
        </p:nvCxnSpPr>
        <p:spPr>
          <a:xfrm>
            <a:off x="4176720" y="2597040"/>
            <a:ext cx="129600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7" name=""/>
          <p:cNvGrpSpPr/>
          <p:nvPr/>
        </p:nvGrpSpPr>
        <p:grpSpPr>
          <a:xfrm>
            <a:off x="3429000" y="4229280"/>
            <a:ext cx="571680" cy="490320"/>
            <a:chOff x="3429000" y="4229280"/>
            <a:chExt cx="571680" cy="490320"/>
          </a:xfrm>
        </p:grpSpPr>
        <p:sp>
          <p:nvSpPr>
            <p:cNvPr id="108" name=""/>
            <p:cNvSpPr/>
            <p:nvPr/>
          </p:nvSpPr>
          <p:spPr>
            <a:xfrm>
              <a:off x="3429000" y="422928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8880" y="431172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7600" y="42447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0320" y="435600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3560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5200" y="445968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23560" y="458424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99520" y="4536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1400" y="458892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8600" y="459576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33400" y="431748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9880" y="433332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6800" y="434376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6160" y="443088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6320" y="44388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5160" y="435168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99000" y="444672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3320" y="44481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9080" y="445032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4480" y="44514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20240" y="445248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26000" y="44550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1400" y="445608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7520" y="445716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1840" y="445968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7600" y="446040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446148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58760" y="44640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0040" y="4358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55800" y="436068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1200" y="436284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5880" y="43653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71640" y="436644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7400" y="436860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82800" y="437112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7480" y="437328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3240" y="437436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99000" y="437652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3320" y="43790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9080" y="438084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000" y="436176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6680" y="437112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1080" y="438084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437652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19960" y="437904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74680" y="444240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2600" y="44503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433116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96200" y="433476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5200" y="43401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8360" y="43549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23280" y="43981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93760" y="43596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0120" y="440244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9000" y="440820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2280" y="436536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0" y="443556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3440" y="448200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9160" y="4335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00000" y="456840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160" y="45741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13680" y="44139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5880" y="436752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6720" y="44388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69200" y="448668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433656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4680" y="457056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457632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200" y="45129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6880" y="451836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1600" y="445608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19960" y="43822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0" name=""/>
          <p:cNvCxnSpPr>
            <a:stCxn id="104" idx="7"/>
            <a:endCxn id="96" idx="2"/>
          </p:cNvCxnSpPr>
          <p:nvPr/>
        </p:nvCxnSpPr>
        <p:spPr>
          <a:xfrm flipV="1">
            <a:off x="4127040" y="3934800"/>
            <a:ext cx="13453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04" idx="5"/>
            <a:endCxn id="97" idx="2"/>
          </p:cNvCxnSpPr>
          <p:nvPr/>
        </p:nvCxnSpPr>
        <p:spPr>
          <a:xfrm>
            <a:off x="4127040" y="4673160"/>
            <a:ext cx="13453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2" name=""/>
          <p:cNvGrpSpPr/>
          <p:nvPr/>
        </p:nvGrpSpPr>
        <p:grpSpPr>
          <a:xfrm>
            <a:off x="1943280" y="3086280"/>
            <a:ext cx="570960" cy="490320"/>
            <a:chOff x="1943280" y="3086280"/>
            <a:chExt cx="570960" cy="490320"/>
          </a:xfrm>
        </p:grpSpPr>
        <p:sp>
          <p:nvSpPr>
            <p:cNvPr id="183" name=""/>
            <p:cNvSpPr/>
            <p:nvPr/>
          </p:nvSpPr>
          <p:spPr>
            <a:xfrm>
              <a:off x="1943280" y="3086280"/>
              <a:ext cx="36936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2800" y="316872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61520" y="31017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64600" y="321300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73600" y="32130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9120" y="3316680"/>
              <a:ext cx="37512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37840" y="344124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3440" y="3393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45680" y="344592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52520" y="3452760"/>
              <a:ext cx="2124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7320" y="317448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4160" y="319032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1080" y="320076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80440" y="3287880"/>
              <a:ext cx="29556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0600" y="32958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9440" y="320868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12920" y="330372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7240" y="33051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23000" y="330732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28760" y="33084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4160" y="330948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9920" y="33120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45680" y="331308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1440" y="3314160"/>
              <a:ext cx="6984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5760" y="3316680"/>
              <a:ext cx="6084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1520" y="331740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7280" y="331848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3040" y="33210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4320" y="3215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9720" y="321768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75480" y="321984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80160" y="32223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5920" y="3223440"/>
              <a:ext cx="7884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91320" y="3225600"/>
              <a:ext cx="6984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97080" y="3228120"/>
              <a:ext cx="6084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01760" y="323028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7520" y="323136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2920" y="323352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17240" y="32360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3000" y="323784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5920" y="321876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70600" y="322812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5360" y="3237840"/>
              <a:ext cx="3924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28480" y="323352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4240" y="323604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8600" y="3299400"/>
              <a:ext cx="5184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96520" y="33073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7880" y="318816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0480" y="319176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9480" y="31971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02280" y="32119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37560" y="32551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7680" y="32166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4040" y="325944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3280" y="326520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6560" y="322236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56320" y="329256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77360" y="333900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3440" y="3192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4280" y="342540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42440" y="34311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7960" y="32709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80160" y="322452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1000" y="32958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3120" y="334368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38840" y="319356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18960" y="342756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47840" y="343332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66480" y="33699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70800" y="337536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05520" y="3313080"/>
              <a:ext cx="3024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4240" y="32392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43280" y="3200400"/>
            <a:ext cx="570960" cy="490320"/>
            <a:chOff x="1943280" y="3200400"/>
            <a:chExt cx="570960" cy="490320"/>
          </a:xfrm>
        </p:grpSpPr>
        <p:sp>
          <p:nvSpPr>
            <p:cNvPr id="256" name=""/>
            <p:cNvSpPr/>
            <p:nvPr/>
          </p:nvSpPr>
          <p:spPr>
            <a:xfrm flipV="1">
              <a:off x="1943280" y="3492000"/>
              <a:ext cx="36936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152800" y="359460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261520" y="36039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064600" y="353448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073600" y="35431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139120" y="3200400"/>
              <a:ext cx="37512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37840" y="330156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413440" y="33613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245680" y="326916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252520" y="3276360"/>
              <a:ext cx="2124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047320" y="330012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054160" y="330228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071080" y="338184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080440" y="3312360"/>
              <a:ext cx="29556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100600" y="332316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089440" y="340632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212920" y="338436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217240" y="338652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223000" y="339120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228760" y="339336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234160" y="339660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239920" y="34002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45680" y="340344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51440" y="3407040"/>
              <a:ext cx="6984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255760" y="3410640"/>
              <a:ext cx="6084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261520" y="34138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267280" y="341712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273040" y="34207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64320" y="34887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169720" y="349236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175480" y="349416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80160" y="34977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185920" y="3500280"/>
              <a:ext cx="7884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191320" y="3502440"/>
              <a:ext cx="6984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197080" y="3505680"/>
              <a:ext cx="6084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201760" y="350856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207520" y="351036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212920" y="35136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217240" y="35157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23000" y="35179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365920" y="348120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370600" y="348768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385360" y="3493440"/>
              <a:ext cx="3924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328480" y="34704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334240" y="347400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388600" y="3382920"/>
              <a:ext cx="5184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396520" y="34027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297880" y="354924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310480" y="355284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319480" y="355572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402280" y="35413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437560" y="34963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407680" y="35467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444040" y="35035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23280" y="34480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76560" y="352296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56320" y="344340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277360" y="33886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233440" y="3561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14280" y="331524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242440" y="33184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27960" y="34563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180160" y="352728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61000" y="344916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283120" y="33933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238840" y="356508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118960" y="332100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47840" y="33138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166480" y="33580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170800" y="336240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405520" y="3407760"/>
              <a:ext cx="3024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334240" y="34866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429000" y="2057400"/>
            <a:ext cx="571680" cy="490320"/>
            <a:chOff x="3429000" y="2057400"/>
            <a:chExt cx="571680" cy="490320"/>
          </a:xfrm>
        </p:grpSpPr>
        <p:sp>
          <p:nvSpPr>
            <p:cNvPr id="329" name=""/>
            <p:cNvSpPr/>
            <p:nvPr/>
          </p:nvSpPr>
          <p:spPr>
            <a:xfrm>
              <a:off x="3429000" y="205740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8880" y="213984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47600" y="207288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50320" y="218412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9320" y="21841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25200" y="228780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23560" y="241272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9520" y="236520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1400" y="241704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38600" y="242424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33400" y="214560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39880" y="216144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56800" y="217188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66160" y="225936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6320" y="226728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5160" y="217980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99000" y="227520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3320" y="227664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09080" y="227844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14480" y="227988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20240" y="228096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6000" y="228312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1400" y="228420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7520" y="228564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41840" y="228780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7600" y="22888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3000" y="228996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58760" y="22921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0040" y="218664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5800" y="218880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1200" y="219132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65880" y="219348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1640" y="219456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77400" y="219672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2800" y="219924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87480" y="220140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240" y="220248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99000" y="22050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03320" y="22071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9080" y="22093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52000" y="218988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56680" y="219924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1080" y="220932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14560" y="22050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9960" y="220716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4680" y="227088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2600" y="227844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83600" y="215928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96200" y="216288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5200" y="216864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8360" y="218304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3280" y="222660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3760" y="21877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0120" y="22309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09000" y="22366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62280" y="219348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42400" y="226368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63440" y="23104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19160" y="216396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00000" y="239688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28160" y="24022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3680" y="224208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65880" y="219564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46720" y="226728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69200" y="23151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24920" y="216504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04680" y="239904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3920" y="24048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2200" y="23410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6880" y="234684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91600" y="228420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9960" y="22104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429000" y="2171880"/>
            <a:ext cx="571680" cy="490320"/>
            <a:chOff x="3429000" y="2171880"/>
            <a:chExt cx="571680" cy="490320"/>
          </a:xfrm>
        </p:grpSpPr>
        <p:sp>
          <p:nvSpPr>
            <p:cNvPr id="402" name=""/>
            <p:cNvSpPr/>
            <p:nvPr/>
          </p:nvSpPr>
          <p:spPr>
            <a:xfrm flipV="1">
              <a:off x="3429000" y="246348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638880" y="256608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747600" y="257544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550320" y="250596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59320" y="25146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625200" y="217188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823560" y="227340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899520" y="233316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731400" y="224136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738600" y="224820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533400" y="227232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539880" y="227448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556800" y="235332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566160" y="228420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586320" y="22950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75160" y="237780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699000" y="235620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703320" y="23583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09080" y="236268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14480" y="23652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720240" y="236844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726000" y="237168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731400" y="237492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737520" y="237888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741840" y="238212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747600" y="238572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753000" y="238896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758760" y="23922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650040" y="246060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655800" y="246384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661200" y="246600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665880" y="246924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71640" y="247176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677400" y="247392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682800" y="247716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687480" y="248004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693240" y="248184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699000" y="248544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703320" y="24872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709080" y="248976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852000" y="245268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856680" y="245916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871080" y="246528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4560" y="244224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819960" y="244548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74680" y="235476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882600" y="237420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783600" y="252072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796200" y="252432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05200" y="25275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888360" y="251280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923280" y="246816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893760" y="25182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930120" y="247536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609000" y="241992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662280" y="249444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542400" y="241488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763440" y="236052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719160" y="253332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600000" y="228708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728160" y="22899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613680" y="242784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665880" y="249876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546720" y="24210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769200" y="236520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724920" y="253692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604680" y="229284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733920" y="228564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652200" y="23295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656880" y="233424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91600" y="237924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819960" y="24580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429000" y="4114800"/>
            <a:ext cx="571680" cy="490320"/>
            <a:chOff x="3429000" y="4114800"/>
            <a:chExt cx="571680" cy="490320"/>
          </a:xfrm>
        </p:grpSpPr>
        <p:sp>
          <p:nvSpPr>
            <p:cNvPr id="475" name=""/>
            <p:cNvSpPr/>
            <p:nvPr/>
          </p:nvSpPr>
          <p:spPr>
            <a:xfrm flipV="1">
              <a:off x="3429000" y="440640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638880" y="450900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747600" y="45183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550320" y="444888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559320" y="44575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625200" y="411480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823560" y="421596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899520" y="4275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731400" y="418356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738600" y="419076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33400" y="421452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539880" y="421668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556800" y="429624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566160" y="422676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586320" y="423756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575160" y="432072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699000" y="429876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703320" y="430092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709080" y="430560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714480" y="430776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720240" y="431100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726000" y="43146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731400" y="431784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737520" y="432144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741840" y="432504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747600" y="43282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753000" y="433152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758760" y="43351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650040" y="4403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655800" y="440676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661200" y="440856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665880" y="44121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71640" y="441468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677400" y="441684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682800" y="442008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687480" y="442296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693240" y="442476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699000" y="44280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703320" y="44301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709080" y="44323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852000" y="439560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56680" y="440208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871080" y="440784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814560" y="43848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819960" y="438840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874680" y="429732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882600" y="43171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783600" y="446364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796200" y="446724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805200" y="447012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888360" y="44557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923280" y="44107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893760" y="44611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930120" y="44179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609000" y="43624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662280" y="443736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542400" y="435780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763440" y="43030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719160" y="44762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600000" y="422964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728160" y="42328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613680" y="43707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665880" y="444168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546720" y="436356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769200" y="43077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724920" y="447948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604680" y="423540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733920" y="42282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3652200" y="42724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3656880" y="427680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3891600" y="432216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819960" y="44010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151080" y="4133880"/>
            <a:ext cx="1143000" cy="6159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029040"/>
            <a:ext cx="1143000" cy="6174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19560" y="2993760"/>
            <a:ext cx="530640" cy="705240"/>
            <a:chOff x="619560" y="2993760"/>
            <a:chExt cx="530640" cy="705240"/>
          </a:xfrm>
        </p:grpSpPr>
        <p:sp>
          <p:nvSpPr>
            <p:cNvPr id="548" name=""/>
            <p:cNvSpPr/>
            <p:nvPr/>
          </p:nvSpPr>
          <p:spPr>
            <a:xfrm rot="1587600">
              <a:off x="650520" y="30600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587600">
              <a:off x="847440" y="31680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587600">
              <a:off x="957960" y="31485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87600">
              <a:off x="747720" y="31773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587600">
              <a:off x="758160" y="31784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587600">
              <a:off x="691560" y="33588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587600">
              <a:off x="871560" y="34992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587600">
              <a:off x="956880" y="34995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587600">
              <a:off x="784440" y="34642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587600">
              <a:off x="790560" y="34732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587600">
              <a:off x="668160" y="32011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87600">
              <a:off x="676080" y="31924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587600">
              <a:off x="711720" y="31950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587600">
              <a:off x="679680" y="32947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587600">
              <a:off x="698760" y="33062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587600">
              <a:off x="731520" y="32054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587600">
              <a:off x="811800" y="33386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587600">
              <a:off x="816840" y="33400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87600">
              <a:off x="823320" y="33422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587600">
              <a:off x="828360" y="33440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587600">
              <a:off x="834120" y="33462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587600">
              <a:off x="839160" y="33480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587600">
              <a:off x="844560" y="33498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587600">
              <a:off x="850680" y="33516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587600">
              <a:off x="856080" y="33534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587600">
              <a:off x="861840" y="33555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587600">
              <a:off x="867240" y="33570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587600">
              <a:off x="873000" y="33595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587600">
              <a:off x="818640" y="32292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587600">
              <a:off x="823320" y="32320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587600">
              <a:off x="828360" y="32346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587600">
              <a:off x="833400" y="32374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587600">
              <a:off x="838800" y="32396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587600">
              <a:off x="843840" y="32421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587600">
              <a:off x="849240" y="32450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587600">
              <a:off x="853920" y="32475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587600">
              <a:off x="858960" y="32493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587600">
              <a:off x="864360" y="32522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587600">
              <a:off x="869400" y="32551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587600">
              <a:off x="874080" y="32572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587600">
              <a:off x="987480" y="33091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587600">
              <a:off x="991080" y="33174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587600">
              <a:off x="1002960" y="33289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587600">
              <a:off x="1010880" y="33408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587600">
              <a:off x="951480" y="33022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587600">
              <a:off x="956160" y="33051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587600">
              <a:off x="965520" y="33883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587600">
              <a:off x="974520" y="33991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587600">
              <a:off x="953640" y="32529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587600">
              <a:off x="964440" y="32576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587600">
              <a:off x="973080" y="32641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587600">
              <a:off x="1035720" y="33102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587600">
              <a:off x="1045440" y="33663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587600">
              <a:off x="1041840" y="33148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587600">
              <a:off x="1050840" y="33717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587600">
              <a:off x="764640" y="32457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587600">
              <a:off x="838800" y="32274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587600">
              <a:off x="702000" y="32439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587600">
              <a:off x="862560" y="33850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587600">
              <a:off x="902520" y="32263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87600">
              <a:off x="687960" y="33958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587600">
              <a:off x="796680" y="34552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587600">
              <a:off x="770400" y="32511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587600">
              <a:off x="842400" y="32302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587600">
              <a:off x="706680" y="32475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587600">
              <a:off x="868680" y="33876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587600">
              <a:off x="907200" y="32281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587600">
              <a:off x="693360" y="33980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7600">
              <a:off x="799200" y="34581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587600">
              <a:off x="754200" y="33681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587600">
              <a:off x="758880" y="33732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587600">
              <a:off x="983520" y="34066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587600">
              <a:off x="959400" y="33084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00400" y="2057400"/>
            <a:ext cx="1143000" cy="6159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E963-3814-4011-85FA-EFF2D3D749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0.15816 -0.00463 E">
                                      <p:cBhvr>
                                        <p:cTn id="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1625 -0.13333 E">
                                      <p:cBhvr>
                                        <p:cTn id="1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-0.01899 L 0.1625 0.1287 E">
                                      <p:cBhvr>
                                        <p:cTn id="1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667 L 0.26875 -0.05231 E">
                                      <p:cBhvr>
                                        <p:cTn id="18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5 0.06204 E">
                                      <p:cBhvr>
                                        <p:cTn id="2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129 L 0.25625 -0.08564 E">
                                      <p:cBhvr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.24375 0.08565 E">
                                      <p:cBhvr>
                                        <p:cTn id="27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te Map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maps are web pages that present a summary of the structure of a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llection can be associated with a cont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can be moved at any time so you don’t want to have to manually build a sit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357-98F7-4696-8B93-9E954CF55C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te Maps with eX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llection will be a cont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unction that will list all the child-collections of any given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that function to call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site root node and get all child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TML nested lists to display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7E87-C23C-4618-9A1B-98A9E0C4F2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Web Site Hierarch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"/>
          <p:cNvSpPr/>
          <p:nvPr/>
        </p:nvSpPr>
        <p:spPr>
          <a:xfrm>
            <a:off x="2954160" y="1801800"/>
            <a:ext cx="6051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61680" y="2741760"/>
            <a:ext cx="12027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3770640"/>
            <a:ext cx="74412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87440" y="3770640"/>
            <a:ext cx="12988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73000" y="3770640"/>
            <a:ext cx="115992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44960" y="3770640"/>
            <a:ext cx="9100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6" idx="2"/>
            <a:endCxn id="627" idx="0"/>
          </p:cNvCxnSpPr>
          <p:nvPr/>
        </p:nvCxnSpPr>
        <p:spPr>
          <a:xfrm>
            <a:off x="3257640" y="2309760"/>
            <a:ext cx="70704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7" idx="2"/>
            <a:endCxn id="628" idx="0"/>
          </p:cNvCxnSpPr>
          <p:nvPr/>
        </p:nvCxnSpPr>
        <p:spPr>
          <a:xfrm flipH="1">
            <a:off x="1631520" y="3249360"/>
            <a:ext cx="233280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7" idx="2"/>
            <a:endCxn id="629" idx="0"/>
          </p:cNvCxnSpPr>
          <p:nvPr/>
        </p:nvCxnSpPr>
        <p:spPr>
          <a:xfrm flipH="1">
            <a:off x="2936160" y="3249360"/>
            <a:ext cx="102780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7" idx="2"/>
            <a:endCxn id="630" idx="0"/>
          </p:cNvCxnSpPr>
          <p:nvPr/>
        </p:nvCxnSpPr>
        <p:spPr>
          <a:xfrm>
            <a:off x="3963600" y="3249360"/>
            <a:ext cx="198972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27" idx="2"/>
            <a:endCxn id="631" idx="0"/>
          </p:cNvCxnSpPr>
          <p:nvPr/>
        </p:nvCxnSpPr>
        <p:spPr>
          <a:xfrm>
            <a:off x="3963960" y="3249360"/>
            <a:ext cx="323784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5603400" y="4685040"/>
            <a:ext cx="10486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93400" y="3770640"/>
            <a:ext cx="11476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"/>
          <p:cNvCxnSpPr>
            <a:endCxn id="638" idx="0"/>
          </p:cNvCxnSpPr>
          <p:nvPr/>
        </p:nvCxnSpPr>
        <p:spPr>
          <a:xfrm>
            <a:off x="3886200" y="3314880"/>
            <a:ext cx="5814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"/>
          <p:cNvSpPr/>
          <p:nvPr/>
        </p:nvSpPr>
        <p:spPr>
          <a:xfrm>
            <a:off x="4344480" y="4685040"/>
            <a:ext cx="10641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8" idx="2"/>
            <a:endCxn id="640" idx="0"/>
          </p:cNvCxnSpPr>
          <p:nvPr/>
        </p:nvCxnSpPr>
        <p:spPr>
          <a:xfrm>
            <a:off x="4467240" y="4278240"/>
            <a:ext cx="410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8" idx="2"/>
            <a:endCxn id="637" idx="0"/>
          </p:cNvCxnSpPr>
          <p:nvPr/>
        </p:nvCxnSpPr>
        <p:spPr>
          <a:xfrm>
            <a:off x="4466880" y="4278240"/>
            <a:ext cx="1661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2626200" y="4681080"/>
            <a:ext cx="5230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38" idx="2"/>
            <a:endCxn id="643" idx="0"/>
          </p:cNvCxnSpPr>
          <p:nvPr/>
        </p:nvCxnSpPr>
        <p:spPr>
          <a:xfrm flipH="1">
            <a:off x="2887200" y="4278240"/>
            <a:ext cx="1580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 flipH="1">
            <a:off x="4571640" y="2286000"/>
            <a:ext cx="1257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30560" y="1943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2360" y="4685040"/>
            <a:ext cx="82764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>
            <a:stCxn id="638" idx="2"/>
            <a:endCxn id="647" idx="0"/>
          </p:cNvCxnSpPr>
          <p:nvPr/>
        </p:nvCxnSpPr>
        <p:spPr>
          <a:xfrm flipH="1">
            <a:off x="2015280" y="4278240"/>
            <a:ext cx="245196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"/>
          <p:cNvSpPr/>
          <p:nvPr/>
        </p:nvSpPr>
        <p:spPr>
          <a:xfrm>
            <a:off x="3429000" y="4685040"/>
            <a:ext cx="6922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38" idx="2"/>
            <a:endCxn id="649" idx="0"/>
          </p:cNvCxnSpPr>
          <p:nvPr/>
        </p:nvCxnSpPr>
        <p:spPr>
          <a:xfrm flipH="1">
            <a:off x="3774240" y="4278240"/>
            <a:ext cx="6930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FFB-EB95-4126-BE57-02BEC642F2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0:20:02Z</dcterms:created>
  <dc:creator>HP Authorized Customer</dc:creator>
  <dc:description/>
  <dc:language>en-US</dc:language>
  <cp:lastModifiedBy>HP Authorized Customer</cp:lastModifiedBy>
  <dcterms:modified xsi:type="dcterms:W3CDTF">2008-10-03T14:09:18Z</dcterms:modified>
  <cp:revision>9</cp:revision>
  <dc:subject/>
  <dc:title>Recursive Functions Creating Hierarchical Reports Date: 9/30/2008</dc:title>
</cp:coreProperties>
</file>