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CFCA-FE23-4B20-B45B-1E9ED0A2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2D2-17FA-4E37-BF3B-90FA39A5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E1B-5A2B-4928-81B6-F9E98FCF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430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45800"/>
            <a:ext cx="264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2040-0ACC-45F4-8A5A-E1F86BDD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55FB-5FDA-474D-9B1A-790D65EF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1D8B-9F10-4AAF-BF8F-C1A0FD22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ECFA-FD17-4CD7-B2C7-9CE6F8A9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E031-B811-45EC-B429-D3113AA7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3059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57C-3AF9-40D8-B319-F549A81A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67E-B0DC-4772-883A-C15BBFB8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458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7CD-5704-412A-A032-6792CEE0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08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43000"/>
            <a:ext cx="401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458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1BC-CEB7-4CC0-8902-785831F2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D4AD-27F2-48D6-8EDB-B11FA0D6F7D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990720"/>
            <a:ext cx="9144000" cy="75960"/>
            <a:chOff x="0" y="990720"/>
            <a:chExt cx="9144000" cy="75960"/>
          </a:xfrm>
        </p:grpSpPr>
        <p:sp>
          <p:nvSpPr>
            <p:cNvPr id="6" name=""/>
            <p:cNvSpPr/>
            <p:nvPr/>
          </p:nvSpPr>
          <p:spPr>
            <a:xfrm>
              <a:off x="0" y="1066680"/>
              <a:ext cx="9144000" cy="0"/>
            </a:xfrm>
            <a:prstGeom prst="line">
              <a:avLst/>
            </a:prstGeom>
            <a:ln w="7632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990720"/>
              <a:ext cx="9144000" cy="0"/>
            </a:xfrm>
            <a:prstGeom prst="line">
              <a:avLst/>
            </a:prstGeom>
            <a:ln w="7632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228600" y="5867280"/>
            <a:ext cx="80496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/index.php?title=Special:Booksources&amp;isbn=903934065X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anterbury.ac.uk/support/health-safety/images/word_icon.gif&amp;imgrefurl=http://www.canterbury.ac.uk/support/health-safety/health-and-safety/policies-and-forms.asp&amp;h=70&amp;w=70&amp;sz=4&amp;hl=en&amp;start=5&amp;sig2=qJBSI_2Wh91QAwhIGgB1jw&amp;tbnid=FEq1vZtnJVgeyM:&amp;tbnh=68&amp;tbnw=68&amp;ei=3XCXR_yvB6XWigHiyb3gCQ&amp;prev=/images%3Fq%3DMicrosoft%2BWord%2BIcon%26gbv%3D2%26svnum%3D10%26hl%3Den%26sa%3D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lifehacker.com/assets/2006/07/notepad.png&amp;imgrefurl=http://kylemaclean.com/reblog/out/%3Fuser%3D1&amp;h=126&amp;w=133&amp;sz=9&amp;hl=en&amp;start=1&amp;sig2=QTzdkMhUFo73qomjqSUSUA&amp;tbnid=1e_iUPtH7GshkM:&amp;tbnh=87&amp;tbnw=92&amp;ei=-XCXR6eGO6XWigHiyb3gCQ&amp;prev=/images%3Fq%3DMicrosoft%2BNotepad%2BIcon%26gbv%3D2%26svnum%3D10%26hl%3Den%26sa%3D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m/imgres?imgurl=http://digitalproductscentral.com/new-site/manage/products_images/excelicon.gif&amp;imgrefurl=http://cgi.ebay.it/Web-Business-Planner-How-To-Turn-Your-Website-To-Profit_W0QQitemZ140197721874QQihZ004QQcategoryZ184QQcmdZViewItem&amp;h=51&amp;w=51&amp;sz=3&amp;hl=en&amp;start=5&amp;sig2=2g1zRQqHhE3wKIUplriWUA&amp;tbnid=41uL5lFI2vLiBM:&amp;tbnh=51&amp;tbnw=51&amp;ei=53CXR5PgCJjuiwH09pTSCQ&amp;prev=/images%3Fq%3DMicrosoft%2BExcelIcon%26gbv%3D2%26svnum%3D10%26hl%3Den%26sa%3DG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com/imgres?imgurl=http://www.formationgratuite.com/comment-utiliser-apprendre/Microsoft-Visio/Visio_icon.gif&amp;imgrefurl=http://www.formationgratuite.com/comment-utiliser-apprendre/Microsoft-Visio/microsoft-visio.html&amp;h=40&amp;w=40&amp;sz=2&amp;hl=en&amp;start=6&amp;sig2=c-LA6k1rTF4LLrmJctnBfg&amp;tbnid=Pyh2g5QetDFohM:&amp;tbnh=40&amp;tbnw=40&amp;ei=PnGXR9ytH5juiwH29pTSCQ&amp;prev=/images%3Fq%3DMicrosoft%2BVisio%2BIcon%26gbv%3D2%26svnum%3D10%26hl%3Den%26sa%3DG" TargetMode="External"/><Relationship Id="rId8" Type="http://schemas.openxmlformats.org/officeDocument/2006/relationships/image" Target="../media/image17.jpeg"/><Relationship Id="rId9" Type="http://schemas.openxmlformats.org/officeDocument/2006/relationships/hyperlink" Target="http://images.google.com/imgres?imgurl=http://www.mrchear.info/images/icons/icon_powerpoint_lg.gif&amp;imgrefurl=http://www.mrchear.info/cms/Resource.aspx%3FResourceId%3D373&amp;h=45&amp;w=46&amp;sz=2&amp;hl=en&amp;start=7&amp;sig2=gc7zJ6k6t6YCC2IZEfCPtQ&amp;tbnid=Dsd4SMRp5xdU8M:&amp;tbnh=45&amp;tbnw=46&amp;ei=a3GXR4fFD4e6iwGF3qnWCQ&amp;prev=/images%3Fq%3DMicrosoft%2BPowerPoint%2BIcon%26gbv%3D2%26svnum%3D10%26hl%3Den%26sa%3DG" TargetMode="External"/><Relationship Id="rId10" Type="http://schemas.openxmlformats.org/officeDocument/2006/relationships/image" Target="../media/image18.jpeg"/><Relationship Id="rId11" Type="http://schemas.openxmlformats.org/officeDocument/2006/relationships/hyperlink" Target="http://images.google.com/imgres?imgurl=http://www.baccoubonneville.com/blogs/media/xmlspy.jpg&amp;imgrefurl=http://baccoubonneville.com/blogs/index.php/2005/08/&amp;h=62&amp;w=73&amp;sz=3&amp;hl=en&amp;start=40&amp;sig2=KzkAQtxFHNe7loLqL9zdQg&amp;tbnid=zKDm4dCVap-RSM:&amp;tbnh=59&amp;tbnw=70&amp;ei=y3GXR5q4MKjmigHzyp3UCQ&amp;prev=/images%3Fq%3DXMLSpy%2BIcon%26start%3D20%26gbv%3D2%26ndsp%3D20%26svnum%3D10%26hl%3Den%26sa%3DN" TargetMode="External"/><Relationship Id="rId12" Type="http://schemas.openxmlformats.org/officeDocument/2006/relationships/image" Target="../media/image19.jpeg"/><Relationship Id="rId13" Type="http://schemas.openxmlformats.org/officeDocument/2006/relationships/hyperlink" Target="http://dlficsb501:8080/exist/rest/db/mdr/data-elements/index.xhtml" TargetMode="External"/><Relationship Id="rId14" Type="http://schemas.openxmlformats.org/officeDocument/2006/relationships/image" Target="../media/image20.png"/><Relationship Id="rId15" Type="http://schemas.openxmlformats.org/officeDocument/2006/relationships/hyperlink" Target="http://images.google.com/imgres?imgurl=http://www.workticket.com/wt/Images/icons/if_icon.jpg&amp;imgrefurl=http://www.workticket.com/wt/tutorial1.asp%3FLanguage%3DSpanish&amp;h=225&amp;w=300&amp;sz=11&amp;hl=en&amp;start=3&amp;sig2=fkk2WAL34wWVfQSzpxhvFw&amp;tbnid=KyAgR2wwBQhjXM:&amp;tbnh=87&amp;tbnw=116&amp;ei=NHKXR_DiNpe8iAHD4qjXCQ&amp;prev=/images%3Fq%3DWorkflow%2BDecision%2BIcon%26gbv%3D2%26svnum%3D10%26hl%3Den%26sa%3DG" TargetMode="External"/><Relationship Id="rId16" Type="http://schemas.openxmlformats.org/officeDocument/2006/relationships/image" Target="../media/image21.jpeg"/><Relationship Id="rId17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mediagods.com/tools/images/spectrum.jpg&amp;imgrefurl=http://sara-intop.blogspot.com/2007/08/color-picker-in-flash.html&amp;h=400&amp;w=600&amp;sz=21&amp;hl=en&amp;start=26&amp;sig2=WhNNc9HoTtYl9kBCOnrLhQ&amp;tbnid=HguLqKMqh9ywVM:&amp;tbnh=90&amp;tbnw=135&amp;ei=hyuiR5_WMqXWigHSl-DCAQ&amp;prev=/images%3Fq%3DSpectrum%26start%3D20%26gbv%3D2%26ndsp%3D20%26hl%3Den%26sa%3DN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images.google.com/imgres?imgurl=http://lifehacker.com/assets/2006/07/notepad.png&amp;imgrefurl=http://kylemaclean.com/reblog/out/%3Fuser%3D1&amp;h=126&amp;w=133&amp;sz=9&amp;hl=en&amp;start=1&amp;sig2=QTzdkMhUFo73qomjqSUSUA&amp;tbnid=1e_iUPtH7GshkM:&amp;tbnh=87&amp;tbnw=92&amp;ei=-XCXR6eGO6XWigHiyb3gCQ&amp;prev=/images%3Fq%3DMicrosoft%2BNotepad%2BIcon%26gbv%3D2%26svnum%3D10%26hl%3Den%26sa%3D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m/imgres?imgurl=http://www.mrchear.info/images/icons/icon_powerpoint_lg.gif&amp;imgrefurl=http://www.mrchear.info/cms/Resource.aspx%3FResourceId%3D373&amp;h=45&amp;w=46&amp;sz=2&amp;hl=en&amp;start=7&amp;sig2=gc7zJ6k6t6YCC2IZEfCPtQ&amp;tbnid=Dsd4SMRp5xdU8M:&amp;tbnh=45&amp;tbnw=46&amp;ei=a3GXR4fFD4e6iwGF3qnWCQ&amp;prev=/images%3Fq%3DMicrosoft%2BPowerPoint%2BIcon%26gbv%3D2%26svnum%3D10%26hl%3Den%26sa%3DG" TargetMode="External"/><Relationship Id="rId6" Type="http://schemas.openxmlformats.org/officeDocument/2006/relationships/image" Target="../media/image18.jpeg"/><Relationship Id="rId7" Type="http://schemas.openxmlformats.org/officeDocument/2006/relationships/hyperlink" Target="http://images.google.com/imgres?imgurl=http://www.baccoubonneville.com/blogs/media/xmlspy.jpg&amp;imgrefurl=http://baccoubonneville.com/blogs/index.php/2005/08/&amp;h=62&amp;w=73&amp;sz=3&amp;hl=en&amp;start=40&amp;sig2=KzkAQtxFHNe7loLqL9zdQg&amp;tbnid=zKDm4dCVap-RSM:&amp;tbnh=59&amp;tbnw=70&amp;ei=y3GXR5q4MKjmigHzyp3UCQ&amp;prev=/images%3Fq%3DXMLSpy%2BIcon%26start%3D20%26gbv%3D2%26ndsp%3D20%26svnum%3D10%26hl%3Den%26sa%3DN" TargetMode="External"/><Relationship Id="rId8" Type="http://schemas.openxmlformats.org/officeDocument/2006/relationships/image" Target="../media/image19.jpeg"/><Relationship Id="rId9" Type="http://schemas.openxmlformats.org/officeDocument/2006/relationships/hyperlink" Target="http://images.google.com/imgres?imgurl=http://www.crowriver.com/images/questionmark.jpg&amp;imgrefurl=http://www.crowriver.com/coinop/index.htm&amp;h=250&amp;w=250&amp;sz=10&amp;hl=en&amp;start=3&amp;sig2=Dmpfo8GDjP70uAmRd9Td0Q&amp;tbnid=NWLvbQygNDDjnM:&amp;tbnh=111&amp;tbnw=111&amp;ei=NyyiR82bD5iiiAGfuomvAQ&amp;prev=/images%3Fq%3DQuestion%2BMark%2BIcon%26gbv%3D2%26hl%3Den%26sa%3DG" TargetMode="External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17.jpe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Query for Document Managemen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38098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owering the Historian with Advanced Markup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n McCre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ion 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A0F-AEA3-4302-9D42-DC9F811501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ommon Them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Query and XML databases can be very 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Query is a lot like SQL in nature but more power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DBCB-8CB5-4024-8CF1-C2306325D8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Query Quot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was immediately attracted to XQuery because it has an intuitive syntax that I enjoy using and stretching to its limits. Having spent many years using SQL, XQuery feels familiar, yet much more power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scilla Walmsl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0" y="5334120"/>
            <a:ext cx="44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ttp://www.stylusstudio.com/priscilla_walmsle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385E-E737-4B1C-9C42-2B8597A979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Brief History of XQuery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98 Jonathan Robie and Joe Lapp (then the principal architec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created a language called X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98, two query languages, XQL and XML-QL got a lot of interest within the W3C and a working group for XML-based querying languages was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ing group selected around 90 use cases and compared the ability of seven advanced query languages to execut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of the seven were perfect.  Each had some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king we took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part of each of the seven langu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reated the XQuery stand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1C7B-49F1-40F2-B561-E4A2AFE431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Database Vendors that Support XQuery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95680" y="129492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 (open sour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M DB2 Version 9 “PureXM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SQL Serv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acle 10g Release 2 Enterprise E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50 oth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" y="4343400"/>
            <a:ext cx="1905120" cy="495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90920" y="3505320"/>
            <a:ext cx="1798560" cy="228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rcRect l="0" t="33938" r="0" b="36400"/>
          <a:stretch/>
        </p:blipFill>
        <p:spPr>
          <a:xfrm>
            <a:off x="457200" y="2743200"/>
            <a:ext cx="2352600" cy="533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09480" y="1523880"/>
            <a:ext cx="2286000" cy="906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685800" y="3733920"/>
            <a:ext cx="1523880" cy="577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2895480" y="2209680"/>
            <a:ext cx="137160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BB00-BCBD-4700-A4D1-B9DF2A16C0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Overview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Query is a new way to query structured information and turn these into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Query allows non-programmers to quickly create services from almost any machine-readable 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lass describes how XQuery can be used to manage metadata and models and provide a foundation for qualit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0508-20AE-47A5-881A-47A0ECF360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No-Shredding!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al databases take a single hierarchical document and shred it into many pieces so it will fit in tabular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ve XML databases prevent this shre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3124080" y="1447560"/>
            <a:ext cx="2438640" cy="28191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14479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14800" y="14479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4479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1447920"/>
            <a:ext cx="0" cy="2819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57B-ECF0-4AA3-BBFC-546B8F71FB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ognitive Styl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61960" y="1371240"/>
            <a:ext cx="6095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solve problems is dependant o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know how to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shana Zuboff (198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the Age of the Smart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1828800" cy="266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2438280" y="3124080"/>
            <a:ext cx="5715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crea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ew ways of t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ew ways of approaching and solving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new sets of "Cognitive Styles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we share these cognitive styles that we will be able to create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he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echnology strategy that everyone underst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Query and XRX web development is a new way of solving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01840" y="6172200"/>
            <a:ext cx="55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Note: this is actually the most important slide in the entire cla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85CD-53CC-429A-90A0-967D557838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ow Many of You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familiar with  a little bit of HTM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,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familiar with SQ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.think that creating web services shoul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done by “programmer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miliar with HTML and SQL (BA, DBA, Testing staff) should be able to a create web servi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BA2B-2DD7-44D2-B76F-A5E982E5DC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 Recurring Patter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Query is easy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Query provides large benefits for managing metadata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46F-6A34-4BCF-8792-0830283924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XQuery is Easier To Learn Than XSLT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ies have shown that XQuery is much easier to learn than XSLT, especially if users have some SQL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15880" y="4648320"/>
            <a:ext cx="4732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Usability of XML Query Langu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Joris Graauma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SIKS Dissertation Series No 2005-16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 Narrow"/>
                <a:ea typeface="Arial"/>
                <a:hlinkClick r:id="rId1"/>
              </a:rPr>
              <a:t>ISBN 90-393-4065-X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1404-D90E-453B-B98E-FF58B40793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elcome!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Day XQuery Class (read-only applic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Day XForms (read-write fo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 L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s/Hands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 the Room Introd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,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experience with SQL, HTML or X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personal objectives for this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1D1-A3FB-4F7E-9E28-551F3679F3D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Query and SQL 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believe that XQuery is the logical “successor” to SQ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L returns only tabular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Query returns either tabular or hierarchical data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Query is a w3c standard with a large library of compatibilit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st has passed over 97% of the compatability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8E62-E94E-49A9-AFE7-5161203641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igh Level Comparis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04920" y="1676520"/>
          <a:ext cx="8458200" cy="2474640"/>
        </p:xfrm>
        <a:graphic>
          <a:graphicData uri="http://schemas.openxmlformats.org/drawingml/2006/table">
            <a:tbl>
              <a:tblPr/>
              <a:tblGrid>
                <a:gridCol w="4114800"/>
                <a:gridCol w="1295280"/>
                <a:gridCol w="1295280"/>
                <a:gridCol w="175284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S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Qu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ry tabular 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ry hierarchical da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y for people to lear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Y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161360" y="5867280"/>
            <a:ext cx="74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XQuery can be as easy to learn as SQL but also works with hierarchical data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165800" y="4343400"/>
            <a:ext cx="123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e winn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467480" y="4724280"/>
            <a:ext cx="733320" cy="620640"/>
            <a:chOff x="7467480" y="4724280"/>
            <a:chExt cx="733320" cy="620640"/>
          </a:xfrm>
        </p:grpSpPr>
        <p:sp>
          <p:nvSpPr>
            <p:cNvPr id="107" name=""/>
            <p:cNvSpPr/>
            <p:nvPr/>
          </p:nvSpPr>
          <p:spPr>
            <a:xfrm>
              <a:off x="7564320" y="4757400"/>
              <a:ext cx="636480" cy="587520"/>
            </a:xfrm>
            <a:custGeom>
              <a:avLst/>
              <a:gdLst/>
              <a:ahLst/>
              <a:rect l="l" t="t" r="r" b="b"/>
              <a:pathLst>
                <a:path w="803" h="739">
                  <a:moveTo>
                    <a:pt x="790" y="344"/>
                  </a:moveTo>
                  <a:lnTo>
                    <a:pt x="244" y="0"/>
                  </a:lnTo>
                  <a:lnTo>
                    <a:pt x="0" y="386"/>
                  </a:lnTo>
                  <a:lnTo>
                    <a:pt x="559" y="739"/>
                  </a:lnTo>
                  <a:lnTo>
                    <a:pt x="803" y="352"/>
                  </a:lnTo>
                  <a:lnTo>
                    <a:pt x="790" y="3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96000" y="4790880"/>
              <a:ext cx="571320" cy="519120"/>
            </a:xfrm>
            <a:custGeom>
              <a:avLst/>
              <a:gdLst/>
              <a:ahLst/>
              <a:rect l="l" t="t" r="r" b="b"/>
              <a:pathLst>
                <a:path w="719" h="654">
                  <a:moveTo>
                    <a:pt x="719" y="319"/>
                  </a:moveTo>
                  <a:lnTo>
                    <a:pt x="714" y="326"/>
                  </a:lnTo>
                  <a:lnTo>
                    <a:pt x="706" y="339"/>
                  </a:lnTo>
                  <a:lnTo>
                    <a:pt x="696" y="357"/>
                  </a:lnTo>
                  <a:lnTo>
                    <a:pt x="682" y="378"/>
                  </a:lnTo>
                  <a:lnTo>
                    <a:pt x="667" y="402"/>
                  </a:lnTo>
                  <a:lnTo>
                    <a:pt x="650" y="430"/>
                  </a:lnTo>
                  <a:lnTo>
                    <a:pt x="631" y="457"/>
                  </a:lnTo>
                  <a:lnTo>
                    <a:pt x="614" y="486"/>
                  </a:lnTo>
                  <a:lnTo>
                    <a:pt x="595" y="516"/>
                  </a:lnTo>
                  <a:lnTo>
                    <a:pt x="577" y="544"/>
                  </a:lnTo>
                  <a:lnTo>
                    <a:pt x="560" y="571"/>
                  </a:lnTo>
                  <a:lnTo>
                    <a:pt x="545" y="596"/>
                  </a:lnTo>
                  <a:lnTo>
                    <a:pt x="531" y="616"/>
                  </a:lnTo>
                  <a:lnTo>
                    <a:pt x="521" y="635"/>
                  </a:lnTo>
                  <a:lnTo>
                    <a:pt x="512" y="648"/>
                  </a:lnTo>
                  <a:lnTo>
                    <a:pt x="508" y="654"/>
                  </a:lnTo>
                  <a:lnTo>
                    <a:pt x="499" y="649"/>
                  </a:lnTo>
                  <a:lnTo>
                    <a:pt x="480" y="637"/>
                  </a:lnTo>
                  <a:lnTo>
                    <a:pt x="454" y="621"/>
                  </a:lnTo>
                  <a:lnTo>
                    <a:pt x="421" y="600"/>
                  </a:lnTo>
                  <a:lnTo>
                    <a:pt x="385" y="577"/>
                  </a:lnTo>
                  <a:lnTo>
                    <a:pt x="343" y="551"/>
                  </a:lnTo>
                  <a:lnTo>
                    <a:pt x="299" y="523"/>
                  </a:lnTo>
                  <a:lnTo>
                    <a:pt x="254" y="494"/>
                  </a:lnTo>
                  <a:lnTo>
                    <a:pt x="208" y="467"/>
                  </a:lnTo>
                  <a:lnTo>
                    <a:pt x="164" y="439"/>
                  </a:lnTo>
                  <a:lnTo>
                    <a:pt x="123" y="412"/>
                  </a:lnTo>
                  <a:lnTo>
                    <a:pt x="86" y="389"/>
                  </a:lnTo>
                  <a:lnTo>
                    <a:pt x="54" y="369"/>
                  </a:lnTo>
                  <a:lnTo>
                    <a:pt x="27" y="353"/>
                  </a:lnTo>
                  <a:lnTo>
                    <a:pt x="9" y="341"/>
                  </a:lnTo>
                  <a:lnTo>
                    <a:pt x="0" y="335"/>
                  </a:lnTo>
                  <a:lnTo>
                    <a:pt x="4" y="328"/>
                  </a:lnTo>
                  <a:lnTo>
                    <a:pt x="12" y="316"/>
                  </a:lnTo>
                  <a:lnTo>
                    <a:pt x="24" y="297"/>
                  </a:lnTo>
                  <a:lnTo>
                    <a:pt x="37" y="276"/>
                  </a:lnTo>
                  <a:lnTo>
                    <a:pt x="53" y="252"/>
                  </a:lnTo>
                  <a:lnTo>
                    <a:pt x="70" y="225"/>
                  </a:lnTo>
                  <a:lnTo>
                    <a:pt x="87" y="197"/>
                  </a:lnTo>
                  <a:lnTo>
                    <a:pt x="106" y="167"/>
                  </a:lnTo>
                  <a:lnTo>
                    <a:pt x="124" y="138"/>
                  </a:lnTo>
                  <a:lnTo>
                    <a:pt x="141" y="110"/>
                  </a:lnTo>
                  <a:lnTo>
                    <a:pt x="159" y="83"/>
                  </a:lnTo>
                  <a:lnTo>
                    <a:pt x="175" y="59"/>
                  </a:lnTo>
                  <a:lnTo>
                    <a:pt x="187" y="38"/>
                  </a:lnTo>
                  <a:lnTo>
                    <a:pt x="199" y="19"/>
                  </a:lnTo>
                  <a:lnTo>
                    <a:pt x="207" y="7"/>
                  </a:lnTo>
                  <a:lnTo>
                    <a:pt x="212" y="0"/>
                  </a:lnTo>
                  <a:lnTo>
                    <a:pt x="221" y="6"/>
                  </a:lnTo>
                  <a:lnTo>
                    <a:pt x="239" y="17"/>
                  </a:lnTo>
                  <a:lnTo>
                    <a:pt x="266" y="33"/>
                  </a:lnTo>
                  <a:lnTo>
                    <a:pt x="298" y="54"/>
                  </a:lnTo>
                  <a:lnTo>
                    <a:pt x="335" y="77"/>
                  </a:lnTo>
                  <a:lnTo>
                    <a:pt x="376" y="104"/>
                  </a:lnTo>
                  <a:lnTo>
                    <a:pt x="420" y="131"/>
                  </a:lnTo>
                  <a:lnTo>
                    <a:pt x="465" y="159"/>
                  </a:lnTo>
                  <a:lnTo>
                    <a:pt x="511" y="188"/>
                  </a:lnTo>
                  <a:lnTo>
                    <a:pt x="555" y="215"/>
                  </a:lnTo>
                  <a:lnTo>
                    <a:pt x="595" y="242"/>
                  </a:lnTo>
                  <a:lnTo>
                    <a:pt x="633" y="265"/>
                  </a:lnTo>
                  <a:lnTo>
                    <a:pt x="666" y="286"/>
                  </a:lnTo>
                  <a:lnTo>
                    <a:pt x="691" y="302"/>
                  </a:lnTo>
                  <a:lnTo>
                    <a:pt x="710" y="313"/>
                  </a:lnTo>
                  <a:lnTo>
                    <a:pt x="719" y="3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14800" y="4776480"/>
              <a:ext cx="113040" cy="114480"/>
            </a:xfrm>
            <a:custGeom>
              <a:avLst/>
              <a:gdLst/>
              <a:ahLst/>
              <a:rect l="l" t="t" r="r" b="b"/>
              <a:pathLst>
                <a:path w="142" h="144">
                  <a:moveTo>
                    <a:pt x="88" y="144"/>
                  </a:moveTo>
                  <a:lnTo>
                    <a:pt x="0" y="89"/>
                  </a:lnTo>
                  <a:lnTo>
                    <a:pt x="56" y="0"/>
                  </a:lnTo>
                  <a:lnTo>
                    <a:pt x="142" y="56"/>
                  </a:lnTo>
                  <a:lnTo>
                    <a:pt x="88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40360" y="4889160"/>
              <a:ext cx="112680" cy="114480"/>
            </a:xfrm>
            <a:custGeom>
              <a:avLst/>
              <a:gdLst/>
              <a:ahLst/>
              <a:rect l="l" t="t" r="r" b="b"/>
              <a:pathLst>
                <a:path w="142" h="143">
                  <a:moveTo>
                    <a:pt x="88" y="143"/>
                  </a:moveTo>
                  <a:lnTo>
                    <a:pt x="0" y="89"/>
                  </a:lnTo>
                  <a:lnTo>
                    <a:pt x="55" y="0"/>
                  </a:lnTo>
                  <a:lnTo>
                    <a:pt x="142" y="56"/>
                  </a:lnTo>
                  <a:lnTo>
                    <a:pt x="8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853040" y="4863960"/>
              <a:ext cx="114480" cy="11268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88" y="143"/>
                  </a:moveTo>
                  <a:lnTo>
                    <a:pt x="0" y="88"/>
                  </a:lnTo>
                  <a:lnTo>
                    <a:pt x="56" y="0"/>
                  </a:lnTo>
                  <a:lnTo>
                    <a:pt x="143" y="55"/>
                  </a:lnTo>
                  <a:lnTo>
                    <a:pt x="8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878600" y="4976640"/>
              <a:ext cx="114120" cy="112680"/>
            </a:xfrm>
            <a:custGeom>
              <a:avLst/>
              <a:gdLst/>
              <a:ahLst/>
              <a:rect l="l" t="t" r="r" b="b"/>
              <a:pathLst>
                <a:path w="144" h="142">
                  <a:moveTo>
                    <a:pt x="87" y="142"/>
                  </a:moveTo>
                  <a:lnTo>
                    <a:pt x="0" y="86"/>
                  </a:lnTo>
                  <a:lnTo>
                    <a:pt x="55" y="0"/>
                  </a:lnTo>
                  <a:lnTo>
                    <a:pt x="144" y="54"/>
                  </a:lnTo>
                  <a:lnTo>
                    <a:pt x="8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992720" y="4951080"/>
              <a:ext cx="112680" cy="112680"/>
            </a:xfrm>
            <a:custGeom>
              <a:avLst/>
              <a:gdLst/>
              <a:ahLst/>
              <a:rect l="l" t="t" r="r" b="b"/>
              <a:pathLst>
                <a:path w="143" h="142">
                  <a:moveTo>
                    <a:pt x="87" y="142"/>
                  </a:moveTo>
                  <a:lnTo>
                    <a:pt x="0" y="87"/>
                  </a:lnTo>
                  <a:lnTo>
                    <a:pt x="55" y="0"/>
                  </a:lnTo>
                  <a:lnTo>
                    <a:pt x="143" y="56"/>
                  </a:lnTo>
                  <a:lnTo>
                    <a:pt x="8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16480" y="5063760"/>
              <a:ext cx="114480" cy="11448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87" y="144"/>
                  </a:moveTo>
                  <a:lnTo>
                    <a:pt x="0" y="89"/>
                  </a:lnTo>
                  <a:lnTo>
                    <a:pt x="55" y="0"/>
                  </a:lnTo>
                  <a:lnTo>
                    <a:pt x="144" y="57"/>
                  </a:lnTo>
                  <a:lnTo>
                    <a:pt x="8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5880" y="4916160"/>
              <a:ext cx="114480" cy="11448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87" y="143"/>
                  </a:moveTo>
                  <a:lnTo>
                    <a:pt x="0" y="89"/>
                  </a:lnTo>
                  <a:lnTo>
                    <a:pt x="55" y="0"/>
                  </a:lnTo>
                  <a:lnTo>
                    <a:pt x="143" y="55"/>
                  </a:lnTo>
                  <a:lnTo>
                    <a:pt x="87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51440" y="5028840"/>
              <a:ext cx="114480" cy="11448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87" y="144"/>
                  </a:moveTo>
                  <a:lnTo>
                    <a:pt x="0" y="88"/>
                  </a:lnTo>
                  <a:lnTo>
                    <a:pt x="55" y="0"/>
                  </a:lnTo>
                  <a:lnTo>
                    <a:pt x="144" y="55"/>
                  </a:lnTo>
                  <a:lnTo>
                    <a:pt x="8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765920" y="5003640"/>
              <a:ext cx="112680" cy="114120"/>
            </a:xfrm>
            <a:custGeom>
              <a:avLst/>
              <a:gdLst/>
              <a:ahLst/>
              <a:rect l="l" t="t" r="r" b="b"/>
              <a:pathLst>
                <a:path w="142" h="144">
                  <a:moveTo>
                    <a:pt x="86" y="144"/>
                  </a:moveTo>
                  <a:lnTo>
                    <a:pt x="0" y="88"/>
                  </a:lnTo>
                  <a:lnTo>
                    <a:pt x="55" y="0"/>
                  </a:lnTo>
                  <a:lnTo>
                    <a:pt x="142" y="56"/>
                  </a:lnTo>
                  <a:lnTo>
                    <a:pt x="86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789680" y="5117760"/>
              <a:ext cx="114120" cy="11448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86" y="144"/>
                  </a:moveTo>
                  <a:lnTo>
                    <a:pt x="0" y="88"/>
                  </a:lnTo>
                  <a:lnTo>
                    <a:pt x="54" y="0"/>
                  </a:lnTo>
                  <a:lnTo>
                    <a:pt x="143" y="56"/>
                  </a:lnTo>
                  <a:lnTo>
                    <a:pt x="86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03800" y="5092560"/>
              <a:ext cx="112680" cy="112680"/>
            </a:xfrm>
            <a:custGeom>
              <a:avLst/>
              <a:gdLst/>
              <a:ahLst/>
              <a:rect l="l" t="t" r="r" b="b"/>
              <a:pathLst>
                <a:path w="143" h="143">
                  <a:moveTo>
                    <a:pt x="87" y="143"/>
                  </a:moveTo>
                  <a:lnTo>
                    <a:pt x="0" y="88"/>
                  </a:lnTo>
                  <a:lnTo>
                    <a:pt x="55" y="0"/>
                  </a:lnTo>
                  <a:lnTo>
                    <a:pt x="143" y="55"/>
                  </a:lnTo>
                  <a:lnTo>
                    <a:pt x="87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27560" y="5205240"/>
              <a:ext cx="115920" cy="11268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88" y="143"/>
                  </a:moveTo>
                  <a:lnTo>
                    <a:pt x="0" y="87"/>
                  </a:lnTo>
                  <a:lnTo>
                    <a:pt x="55" y="0"/>
                  </a:lnTo>
                  <a:lnTo>
                    <a:pt x="144" y="55"/>
                  </a:lnTo>
                  <a:lnTo>
                    <a:pt x="8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4724280"/>
              <a:ext cx="320400" cy="492120"/>
            </a:xfrm>
            <a:custGeom>
              <a:avLst/>
              <a:gdLst/>
              <a:ahLst/>
              <a:rect l="l" t="t" r="r" b="b"/>
              <a:pathLst>
                <a:path w="403" h="621">
                  <a:moveTo>
                    <a:pt x="376" y="7"/>
                  </a:moveTo>
                  <a:lnTo>
                    <a:pt x="2" y="598"/>
                  </a:lnTo>
                  <a:lnTo>
                    <a:pt x="0" y="604"/>
                  </a:lnTo>
                  <a:lnTo>
                    <a:pt x="0" y="611"/>
                  </a:lnTo>
                  <a:lnTo>
                    <a:pt x="2" y="615"/>
                  </a:lnTo>
                  <a:lnTo>
                    <a:pt x="7" y="620"/>
                  </a:lnTo>
                  <a:lnTo>
                    <a:pt x="13" y="621"/>
                  </a:lnTo>
                  <a:lnTo>
                    <a:pt x="19" y="621"/>
                  </a:lnTo>
                  <a:lnTo>
                    <a:pt x="23" y="619"/>
                  </a:lnTo>
                  <a:lnTo>
                    <a:pt x="28" y="614"/>
                  </a:lnTo>
                  <a:lnTo>
                    <a:pt x="401" y="23"/>
                  </a:lnTo>
                  <a:lnTo>
                    <a:pt x="403" y="17"/>
                  </a:lnTo>
                  <a:lnTo>
                    <a:pt x="403" y="11"/>
                  </a:lnTo>
                  <a:lnTo>
                    <a:pt x="401" y="7"/>
                  </a:lnTo>
                  <a:lnTo>
                    <a:pt x="397" y="2"/>
                  </a:lnTo>
                  <a:lnTo>
                    <a:pt x="391" y="0"/>
                  </a:lnTo>
                  <a:lnTo>
                    <a:pt x="385" y="0"/>
                  </a:lnTo>
                  <a:lnTo>
                    <a:pt x="380" y="2"/>
                  </a:lnTo>
                  <a:lnTo>
                    <a:pt x="37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369-E667-4D8E-954C-670D4F48E2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DBMS Tabl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2438280"/>
            <a:ext cx="1447920" cy="38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819520"/>
            <a:ext cx="144792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3200400"/>
            <a:ext cx="1447920" cy="3808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581280"/>
            <a:ext cx="1447920" cy="381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2057400"/>
            <a:ext cx="1447920" cy="380880"/>
          </a:xfrm>
          <a:prstGeom prst="rect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514600" y="1701720"/>
          <a:ext cx="5486400" cy="2556000"/>
        </p:xfrm>
        <a:graphic>
          <a:graphicData uri="http://schemas.openxmlformats.org/drawingml/2006/table">
            <a:tbl>
              <a:tblPr/>
              <a:tblGrid>
                <a:gridCol w="1219320"/>
                <a:gridCol w="914400"/>
                <a:gridCol w="1752480"/>
                <a:gridCol w="160020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ar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M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ece Pullo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ppy Sun H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uxe Travel Ba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tton Dress Shi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r favorite shirt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916-768B-4AAB-8897-8C13F59F15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ample XML Fil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00040" y="1371600"/>
            <a:ext cx="4876920" cy="4952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catalog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duc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dep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MN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umb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57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umb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ece Pullov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duc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duc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dep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umb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63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umb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oppy Sun Ha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duc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duc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dep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umb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43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umb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uxe Travel Bag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duc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duct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dep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umb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84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umber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tton Dress Shir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desc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r favorite shirt!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desc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product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catalog</a:t>
            </a: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7520" y="144792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atalog2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476-09A5-4CB3-815B-9C02F444A3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ample XML Fil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00040" y="1371600"/>
            <a:ext cx="4876920" cy="49528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atalog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product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dep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MN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numbe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7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numbe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languag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eece Pullove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olorChoices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vy black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olorChoices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produc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product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dep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numbe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63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numbe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languag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ppy Sun Ha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produc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product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dep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numbe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3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numbe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languag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uxe Travel Bag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produc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product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dep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N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numbe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84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number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languag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tton Dress Shir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olorChoices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 gray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olorChoices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desc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te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hirt!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desc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product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atalog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447920"/>
            <a:ext cx="3048120" cy="4267080"/>
          </a:xfrm>
          <a:custGeom>
            <a:avLst/>
            <a:gdLst>
              <a:gd name="textAreaLeft" fmla="*/ 1947600 w 3048120"/>
              <a:gd name="textAreaRight" fmla="*/ 3048480 w 304812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04"/>
                </a:lnTo>
                <a:cubicBezTo>
                  <a:pt x="10800" y="9804"/>
                  <a:pt x="5400" y="10704"/>
                  <a:pt x="0" y="10704"/>
                </a:cubicBezTo>
                <a:cubicBezTo>
                  <a:pt x="5400" y="10704"/>
                  <a:pt x="10800" y="11604"/>
                  <a:pt x="10800" y="125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65200" y="1676520"/>
            <a:ext cx="1044720" cy="838080"/>
          </a:xfrm>
          <a:custGeom>
            <a:avLst/>
            <a:gdLst>
              <a:gd name="textAreaLeft" fmla="*/ 667440 w 1044720"/>
              <a:gd name="textAreaRight" fmla="*/ 1045080 w 10447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04"/>
                </a:lnTo>
                <a:cubicBezTo>
                  <a:pt x="10800" y="9804"/>
                  <a:pt x="5400" y="10704"/>
                  <a:pt x="0" y="10704"/>
                </a:cubicBezTo>
                <a:cubicBezTo>
                  <a:pt x="5400" y="10704"/>
                  <a:pt x="10800" y="11604"/>
                  <a:pt x="10800" y="125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7440" y="2590920"/>
            <a:ext cx="10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 Narrow"/>
              </a:rPr>
              <a:t>Ma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 Narrow"/>
              </a:rPr>
              <a:t>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920" y="14479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atalog.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CE54-7C6C-47FB-A098-C786753D79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ML File system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7760" y="1143000"/>
            <a:ext cx="5638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 File system – a way of storing information in XML that can be quickly searc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drag and drop almost any files onto this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access it by using the Windows “My Network Places”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- You can query the file system like a relational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2133360" cy="1096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09480" y="3200400"/>
            <a:ext cx="1791000" cy="3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B99-AEA1-433B-9608-4A41A29BA1A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ML File System (continued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90760" y="1221840"/>
            <a:ext cx="43434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XML file systems have folders within folders to help you organize your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file operations are the same (copy, rename, delete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58452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0F1-334A-4938-8ACC-241D5F67C3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It is Easy to Import Data Into XQuery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data for all parent child relationships and repeating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 logical and physical ER di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table create a Data Definition File using a data definition language (DD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indexes using DD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one table for each set of repeating set of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DDL on database creating tables using the appropriate data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index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Insert stat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separate insert statements for each repeat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 Insert statements on primary structures in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primary keys of the first data inserts as foreign keys of dependant data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302840"/>
            <a:ext cx="40384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ag XML files into fol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ED56-7753-4DE8-B56F-5A367CFE85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It is as Easy to Query XML Data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82400"/>
            <a:ext cx="2971800" cy="11984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ECT COL1, Col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OM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ERE COL1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8320" y="1295280"/>
            <a:ext cx="3504960" cy="144792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$r in doc(‘t.xml’)//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col1=1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r/col1, $r/co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838080" y="2819520"/>
          <a:ext cx="2286000" cy="27126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</a:tblGrid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4648320" y="2971800"/>
            <a:ext cx="3063600" cy="35010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root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row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col1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/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col1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&lt;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col2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A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/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col2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/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row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row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col1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/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col1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&lt;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col2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B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/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col2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/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row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row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col1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/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col1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&lt;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col2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C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/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col2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/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row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row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col1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1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/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col1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col2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D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/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col2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 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/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row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lt;/</a:t>
            </a:r>
            <a:r>
              <a:rPr b="1" lang="en-US" sz="1600" spc="-1" strike="noStrike">
                <a:solidFill>
                  <a:srgbClr val="800000"/>
                </a:solidFill>
                <a:latin typeface="Arial Narrow"/>
                <a:ea typeface="Arial"/>
              </a:rPr>
              <a:t>root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41FA-ABE9-4CCB-8C73-5CC7BBB83B1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QL is similar to XQuery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0880" y="1905120"/>
          <a:ext cx="8229600" cy="2935080"/>
        </p:xfrm>
        <a:graphic>
          <a:graphicData uri="http://schemas.openxmlformats.org/drawingml/2006/table">
            <a:tbl>
              <a:tblPr/>
              <a:tblGrid>
                <a:gridCol w="2210040"/>
                <a:gridCol w="2514600"/>
                <a:gridCol w="350496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cting Distinct Valu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 DISTIN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$r in distinct-values($do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w Restr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ERE COL=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 $r/element=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r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ELECT C1, C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ROM 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DER BY C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 $r in $doc/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r by $r/e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F43-5400-4244-9B9A-FC42AC9DC6D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ass Objectiv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udent who completes the course will be capable of completing the following task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 and edit XML files in an XML text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fficient queries that answer researc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small web pages that enable our less-technical/non-technical staff to query XM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small applications that enable querying and editing knowledge by other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ubleshoot their work and make use of support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1D83-524E-4DA1-AA11-DB9BF7B5C7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It is Easy to Create A Web Servic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/JDBC/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 Java or find a Java 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 TomCat Web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 AXIS Java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a JDBC program that sends SQL queries to a 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the results back in Java Result Object stru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 through the Java Results Structures and use print statements to wrap XML tags around the strings in the result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ame your class files to .jws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he .jws files to the TomCat deploy fol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WSDL files will automatically be gener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WSDL tools to query the 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XQuery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e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4F9-21DF-42BE-A62F-F36258022A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Insert/Select/Publish Comparis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3200400"/>
            <a:ext cx="685800" cy="17524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4800600"/>
            <a:ext cx="685800" cy="152280"/>
          </a:xfrm>
          <a:prstGeom prst="rect">
            <a:avLst/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15840" y="510552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Ins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4640" y="5105520"/>
            <a:ext cx="66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Qu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362320" y="4724280"/>
            <a:ext cx="685800" cy="2286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4724280"/>
            <a:ext cx="685800" cy="228600"/>
          </a:xfrm>
          <a:prstGeom prst="rect">
            <a:avLst/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2514600"/>
            <a:ext cx="685800" cy="24382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4876920"/>
            <a:ext cx="685800" cy="75960"/>
          </a:xfrm>
          <a:prstGeom prst="rect">
            <a:avLst/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5105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Web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640" y="291456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680" y="44956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X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40440" y="44197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8480" y="441972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X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042080" y="3298680"/>
            <a:ext cx="72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Arial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Arial"/>
              </a:rPr>
              <a:t>Tom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Arial"/>
              </a:rPr>
              <a:t>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Arial"/>
              </a:rPr>
              <a:t>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27000" y="6172200"/>
            <a:ext cx="106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Total Eff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4267080"/>
            <a:ext cx="685800" cy="17528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72200" y="4038480"/>
            <a:ext cx="685800" cy="2286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4640" y="457200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X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1600200"/>
            <a:ext cx="685800" cy="24382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0" y="5867280"/>
            <a:ext cx="685800" cy="152640"/>
          </a:xfrm>
          <a:prstGeom prst="rect">
            <a:avLst/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0" y="5638680"/>
            <a:ext cx="685800" cy="228600"/>
          </a:xfrm>
          <a:prstGeom prst="rect">
            <a:avLst/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0" y="5562720"/>
            <a:ext cx="685800" cy="75960"/>
          </a:xfrm>
          <a:prstGeom prst="rect">
            <a:avLst/>
          </a:prstGeom>
          <a:solidFill>
            <a:srgbClr val="99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250680" y="1219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Arial"/>
              </a:rPr>
              <a:t>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360" y="51814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Arial"/>
              </a:rPr>
              <a:t>X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2E4-B769-4F7D-81D2-72AFC719D2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e Translation “Pain Chain”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389268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web forms to objects…to SQL inserts…to selects…to objects and back to web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format translat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962520" y="1676520"/>
            <a:ext cx="457200" cy="457200"/>
            <a:chOff x="3962520" y="1676520"/>
            <a:chExt cx="457200" cy="457200"/>
          </a:xfrm>
        </p:grpSpPr>
        <p:sp>
          <p:nvSpPr>
            <p:cNvPr id="186" name=""/>
            <p:cNvSpPr/>
            <p:nvPr/>
          </p:nvSpPr>
          <p:spPr>
            <a:xfrm>
              <a:off x="3962520" y="1676520"/>
              <a:ext cx="457200" cy="457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38840" y="1752840"/>
              <a:ext cx="304920" cy="3045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1120" y="16765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91120" y="20574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62520" y="1905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43760" y="19051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81280" y="2133720"/>
            <a:ext cx="457200" cy="457200"/>
            <a:chOff x="3581280" y="2133720"/>
            <a:chExt cx="457200" cy="457200"/>
          </a:xfrm>
        </p:grpSpPr>
        <p:sp>
          <p:nvSpPr>
            <p:cNvPr id="193" name=""/>
            <p:cNvSpPr/>
            <p:nvPr/>
          </p:nvSpPr>
          <p:spPr>
            <a:xfrm>
              <a:off x="3581280" y="2133720"/>
              <a:ext cx="457200" cy="457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57600" y="2210040"/>
              <a:ext cx="304920" cy="3045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09880" y="213372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0988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1280" y="23623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2520" y="23623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267080" y="2286000"/>
            <a:ext cx="457200" cy="457200"/>
            <a:chOff x="4267080" y="2286000"/>
            <a:chExt cx="457200" cy="457200"/>
          </a:xfrm>
        </p:grpSpPr>
        <p:sp>
          <p:nvSpPr>
            <p:cNvPr id="200" name=""/>
            <p:cNvSpPr/>
            <p:nvPr/>
          </p:nvSpPr>
          <p:spPr>
            <a:xfrm>
              <a:off x="4267080" y="2286000"/>
              <a:ext cx="457200" cy="457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43400" y="2362320"/>
              <a:ext cx="304920" cy="3045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956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95680" y="26668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267080" y="2514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8320" y="25146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733920" y="2743200"/>
            <a:ext cx="457200" cy="457200"/>
            <a:chOff x="3733920" y="2743200"/>
            <a:chExt cx="457200" cy="457200"/>
          </a:xfrm>
        </p:grpSpPr>
        <p:sp>
          <p:nvSpPr>
            <p:cNvPr id="207" name=""/>
            <p:cNvSpPr/>
            <p:nvPr/>
          </p:nvSpPr>
          <p:spPr>
            <a:xfrm>
              <a:off x="3733920" y="2743200"/>
              <a:ext cx="457200" cy="457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10240" y="2819520"/>
              <a:ext cx="304920" cy="3045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62520" y="27432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62520" y="31240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733920" y="29718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5160" y="29718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4343400" y="2895480"/>
            <a:ext cx="457200" cy="457200"/>
            <a:chOff x="4343400" y="2895480"/>
            <a:chExt cx="457200" cy="457200"/>
          </a:xfrm>
        </p:grpSpPr>
        <p:sp>
          <p:nvSpPr>
            <p:cNvPr id="214" name=""/>
            <p:cNvSpPr/>
            <p:nvPr/>
          </p:nvSpPr>
          <p:spPr>
            <a:xfrm>
              <a:off x="4343400" y="2895480"/>
              <a:ext cx="457200" cy="457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19720" y="2971800"/>
              <a:ext cx="304920" cy="3045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572000" y="32763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43400" y="31240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24640" y="312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648320" y="1828800"/>
            <a:ext cx="457200" cy="457200"/>
            <a:chOff x="4648320" y="1828800"/>
            <a:chExt cx="457200" cy="457200"/>
          </a:xfrm>
        </p:grpSpPr>
        <p:sp>
          <p:nvSpPr>
            <p:cNvPr id="221" name=""/>
            <p:cNvSpPr/>
            <p:nvPr/>
          </p:nvSpPr>
          <p:spPr>
            <a:xfrm>
              <a:off x="4648320" y="1828800"/>
              <a:ext cx="457200" cy="457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24640" y="1905120"/>
              <a:ext cx="304920" cy="3045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76920" y="18288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76920" y="2209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48320" y="20574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29560" y="20574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876920" y="2514600"/>
            <a:ext cx="457200" cy="457200"/>
            <a:chOff x="4876920" y="2514600"/>
            <a:chExt cx="457200" cy="457200"/>
          </a:xfrm>
        </p:grpSpPr>
        <p:sp>
          <p:nvSpPr>
            <p:cNvPr id="228" name=""/>
            <p:cNvSpPr/>
            <p:nvPr/>
          </p:nvSpPr>
          <p:spPr>
            <a:xfrm>
              <a:off x="4876920" y="2514600"/>
              <a:ext cx="457200" cy="4572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53240" y="2590920"/>
              <a:ext cx="304920" cy="3045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105520" y="25146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05520" y="28954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76920" y="2743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274320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514600" y="2057400"/>
            <a:ext cx="762120" cy="457200"/>
          </a:xfrm>
          <a:prstGeom prst="leftRightArrow">
            <a:avLst>
              <a:gd name="adj1" fmla="val 50000"/>
              <a:gd name="adj2" fmla="val 3318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486400" y="2057400"/>
            <a:ext cx="762120" cy="457200"/>
          </a:xfrm>
          <a:prstGeom prst="leftRightArrow">
            <a:avLst>
              <a:gd name="adj1" fmla="val 50000"/>
              <a:gd name="adj2" fmla="val 3318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53080" y="1981080"/>
            <a:ext cx="517680" cy="152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553080" y="2133720"/>
            <a:ext cx="5176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53080" y="2286000"/>
            <a:ext cx="5176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53080" y="2438280"/>
            <a:ext cx="51768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2590920"/>
            <a:ext cx="5176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7200720" y="209484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37" idx="3"/>
            <a:endCxn id="241" idx="0"/>
          </p:cNvCxnSpPr>
          <p:nvPr/>
        </p:nvCxnSpPr>
        <p:spPr>
          <a:xfrm flipV="1">
            <a:off x="7070400" y="2171160"/>
            <a:ext cx="168840" cy="3852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43" name=""/>
          <p:cNvSpPr/>
          <p:nvPr/>
        </p:nvSpPr>
        <p:spPr>
          <a:xfrm flipH="1" rot="5400000">
            <a:off x="7813080" y="2091960"/>
            <a:ext cx="222120" cy="152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391520" y="1981080"/>
            <a:ext cx="457200" cy="152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91520" y="2133720"/>
            <a:ext cx="45720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91520" y="2286000"/>
            <a:ext cx="45720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2438280"/>
            <a:ext cx="45720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391520" y="2590920"/>
            <a:ext cx="45720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29600" y="1981080"/>
            <a:ext cx="380880" cy="15264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29600" y="2133720"/>
            <a:ext cx="3808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229600" y="2286000"/>
            <a:ext cx="3808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229600" y="2438280"/>
            <a:ext cx="380880" cy="152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29600" y="2590920"/>
            <a:ext cx="380880" cy="152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43" idx="0"/>
            <a:endCxn id="250" idx="1"/>
          </p:cNvCxnSpPr>
          <p:nvPr/>
        </p:nvCxnSpPr>
        <p:spPr>
          <a:xfrm>
            <a:off x="8000640" y="2168640"/>
            <a:ext cx="229320" cy="4176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62120" y="1676520"/>
            <a:ext cx="1600200" cy="16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182880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6560" y="182880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213372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5840" y="2133720"/>
            <a:ext cx="55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ee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43828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33920" y="24382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it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2743200"/>
            <a:ext cx="6094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068840" y="274320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i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17280" y="350352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eb 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06960" y="35035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163640" y="350352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DB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6BC1-B0BF-43CD-BEF4-AE10016CC91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4191120" y="2666880"/>
            <a:ext cx="4267080" cy="3581640"/>
          </a:xfrm>
          <a:prstGeom prst="can">
            <a:avLst>
              <a:gd name="adj" fmla="val 1687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Form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Forms stores form data in native XML format in a browser-hosted model (MVC)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56080" y="2289960"/>
            <a:ext cx="748440" cy="51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54440" y="2986560"/>
            <a:ext cx="552240" cy="344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49080" y="3118320"/>
            <a:ext cx="565560" cy="344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b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9960" y="3815280"/>
            <a:ext cx="576000" cy="344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51720" y="4120200"/>
            <a:ext cx="537120" cy="344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la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"/>
          <p:cNvCxnSpPr>
            <a:stCxn id="270" idx="4"/>
            <a:endCxn id="271" idx="0"/>
          </p:cNvCxnSpPr>
          <p:nvPr/>
        </p:nvCxnSpPr>
        <p:spPr>
          <a:xfrm flipH="1">
            <a:off x="1331640" y="2811240"/>
            <a:ext cx="79920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0" idx="4"/>
            <a:endCxn id="272" idx="0"/>
          </p:cNvCxnSpPr>
          <p:nvPr/>
        </p:nvCxnSpPr>
        <p:spPr>
          <a:xfrm>
            <a:off x="2130120" y="2811240"/>
            <a:ext cx="602280" cy="30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4"/>
            <a:endCxn id="273" idx="0"/>
          </p:cNvCxnSpPr>
          <p:nvPr/>
        </p:nvCxnSpPr>
        <p:spPr>
          <a:xfrm flipH="1">
            <a:off x="2577600" y="3468600"/>
            <a:ext cx="15480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73" idx="5"/>
            <a:endCxn id="274" idx="2"/>
          </p:cNvCxnSpPr>
          <p:nvPr/>
        </p:nvCxnSpPr>
        <p:spPr>
          <a:xfrm>
            <a:off x="2784600" y="4113360"/>
            <a:ext cx="264240" cy="18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79" name=""/>
          <p:cNvGrpSpPr/>
          <p:nvPr/>
        </p:nvGrpSpPr>
        <p:grpSpPr>
          <a:xfrm>
            <a:off x="384480" y="4120200"/>
            <a:ext cx="2547720" cy="2097000"/>
            <a:chOff x="384480" y="4120200"/>
            <a:chExt cx="2547720" cy="2097000"/>
          </a:xfrm>
        </p:grpSpPr>
        <p:cxnSp>
          <p:nvCxnSpPr>
            <p:cNvPr id="280" name=""/>
            <p:cNvCxnSpPr>
              <a:stCxn id="281" idx="4"/>
              <a:endCxn id="282" idx="0"/>
            </p:cNvCxnSpPr>
            <p:nvPr/>
          </p:nvCxnSpPr>
          <p:spPr>
            <a:xfrm flipH="1">
              <a:off x="959760" y="4470120"/>
              <a:ext cx="586440" cy="25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3" name=""/>
            <p:cNvCxnSpPr>
              <a:stCxn id="281" idx="4"/>
              <a:endCxn id="284" idx="0"/>
            </p:cNvCxnSpPr>
            <p:nvPr/>
          </p:nvCxnSpPr>
          <p:spPr>
            <a:xfrm flipH="1">
              <a:off x="1099440" y="4470120"/>
              <a:ext cx="446760" cy="711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5" name=""/>
            <p:cNvCxnSpPr>
              <a:stCxn id="281" idx="4"/>
              <a:endCxn id="286" idx="0"/>
            </p:cNvCxnSpPr>
            <p:nvPr/>
          </p:nvCxnSpPr>
          <p:spPr>
            <a:xfrm>
              <a:off x="1546200" y="4470480"/>
              <a:ext cx="218160" cy="1016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81" idx="4"/>
              <a:endCxn id="288" idx="0"/>
            </p:cNvCxnSpPr>
            <p:nvPr/>
          </p:nvCxnSpPr>
          <p:spPr>
            <a:xfrm>
              <a:off x="1545840" y="4470120"/>
              <a:ext cx="1065960" cy="864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81" idx="4"/>
              <a:endCxn id="290" idx="0"/>
            </p:cNvCxnSpPr>
            <p:nvPr/>
          </p:nvCxnSpPr>
          <p:spPr>
            <a:xfrm>
              <a:off x="1546200" y="4470480"/>
              <a:ext cx="915120" cy="1397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1" name=""/>
            <p:cNvSpPr/>
            <p:nvPr/>
          </p:nvSpPr>
          <p:spPr>
            <a:xfrm>
              <a:off x="1145880" y="4120200"/>
              <a:ext cx="800280" cy="34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ers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4480" y="4729680"/>
              <a:ext cx="1151640" cy="34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First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5320" y="5186880"/>
              <a:ext cx="1128240" cy="34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LastN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98520" y="5491800"/>
              <a:ext cx="929880" cy="34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rojec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61720" y="5872680"/>
              <a:ext cx="797760" cy="34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Proje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9240" y="5339520"/>
              <a:ext cx="642960" cy="3445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Ro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56000" y="3520080"/>
            <a:ext cx="694440" cy="344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"/>
          <p:cNvCxnSpPr>
            <a:stCxn id="271" idx="4"/>
            <a:endCxn id="291" idx="0"/>
          </p:cNvCxnSpPr>
          <p:nvPr/>
        </p:nvCxnSpPr>
        <p:spPr>
          <a:xfrm flipH="1">
            <a:off x="1102680" y="3336840"/>
            <a:ext cx="229320" cy="1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"/>
          <p:cNvCxnSpPr>
            <a:stCxn id="291" idx="4"/>
            <a:endCxn id="281" idx="0"/>
          </p:cNvCxnSpPr>
          <p:nvPr/>
        </p:nvCxnSpPr>
        <p:spPr>
          <a:xfrm>
            <a:off x="1103400" y="3870000"/>
            <a:ext cx="443520" cy="244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5718960" y="27417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2209680"/>
            <a:ext cx="3505320" cy="426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4800" y="190512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D50-36C7-439E-B75C-75331350455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-5.66736E-007 L 0.48333 -0.08883 E">
                                      <p:cBhvr>
                                        <p:cTn id="6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hredding Is Bad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edding is the process of taking a single XML document and inserting different sections into tables of a relational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Study: Real Estate 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Bu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Sel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Peo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Organiz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Cou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Parc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Apprais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Property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Use Class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Agricultural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Agricultural Programs 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Tax Classif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Taxable Value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m = 45 distinct insert statements with 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line store() with X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609-5CED-4065-83A6-938B8A023B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Hands on Lab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have your own lap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exist from http://www.exist-db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 not have a lap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the XQuery sandbox on the classroom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to load some sample XRX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q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-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509-C05D-41A9-A86D-820743E10B7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Just Like Your File System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Query h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cu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just like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just like a 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0880" y="3200400"/>
            <a:ext cx="4953240" cy="82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xquery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version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Arial Narrow"/>
                <a:ea typeface="Arial"/>
              </a:rPr>
              <a:t>"1.0"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let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n-US" sz="1600" spc="-1" strike="noStrike">
                <a:solidFill>
                  <a:srgbClr val="a000a0"/>
                </a:solidFill>
                <a:latin typeface="Arial Narrow"/>
                <a:ea typeface="Arial"/>
              </a:rPr>
              <a:t>$terms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:= </a:t>
            </a:r>
            <a:r>
              <a:rPr b="1" lang="en-US" sz="1600" spc="-1" strike="noStrike">
                <a:solidFill>
                  <a:srgbClr val="666600"/>
                </a:solidFill>
                <a:latin typeface="Arial Narrow"/>
                <a:ea typeface="Arial"/>
              </a:rPr>
              <a:t>doc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(</a:t>
            </a:r>
            <a:r>
              <a:rPr b="1" lang="en-US" sz="1600" spc="-1" strike="noStrike">
                <a:solidFill>
                  <a:srgbClr val="cc6600"/>
                </a:solidFill>
                <a:latin typeface="Arial Narrow"/>
                <a:ea typeface="Arial"/>
              </a:rPr>
              <a:t>'/db/apps/terms/my-terms.xml'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/ro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4572000"/>
            <a:ext cx="4952880" cy="824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xquery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version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n-US" sz="1600" spc="-1" strike="noStrike">
                <a:solidFill>
                  <a:srgbClr val="cc6600"/>
                </a:solidFill>
                <a:latin typeface="Arial Narrow"/>
                <a:ea typeface="Arial"/>
              </a:rPr>
              <a:t>"1.0"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 Narrow"/>
                <a:ea typeface="Arial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</a:t>
            </a:r>
            <a:r>
              <a:rPr b="1" lang="en-US" sz="1600" spc="-1" strike="noStrike">
                <a:solidFill>
                  <a:srgbClr val="a000a0"/>
                </a:solidFill>
                <a:latin typeface="Arial Narrow"/>
                <a:ea typeface="Arial"/>
              </a:rPr>
              <a:t>$terms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 := </a:t>
            </a:r>
            <a:r>
              <a:rPr b="1" lang="en-US" sz="1600" spc="-1" strike="noStrike">
                <a:solidFill>
                  <a:srgbClr val="666600"/>
                </a:solidFill>
                <a:latin typeface="Arial Narrow"/>
                <a:ea typeface="Arial"/>
              </a:rPr>
              <a:t>collection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(</a:t>
            </a:r>
            <a:r>
              <a:rPr b="1" lang="en-US" sz="1600" spc="-1" strike="noStrike">
                <a:solidFill>
                  <a:srgbClr val="cc6600"/>
                </a:solidFill>
                <a:latin typeface="Arial Narrow"/>
                <a:ea typeface="Arial"/>
              </a:rPr>
              <a:t>'/db/apps/terms/data'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/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8360" y="4116240"/>
            <a:ext cx="203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Load a file into a 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03520" y="5486400"/>
            <a:ext cx="18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"/>
              </a:rPr>
              <a:t>Loop through all te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7DB6-B4EB-47C1-923B-9033F61F4AE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Query FLWOR Expression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XQuery FLWOR expression has five par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(zero to man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(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er (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(requir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E437-0C09-4DED-96B1-5997A75565D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Path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733920" y="1371600"/>
            <a:ext cx="461016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element selection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ly a sub-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d by: XSLT, XQuery, XForms, Schematron, BPML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he root node of the f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html/body/h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ll header level 1 elements in the body in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ll paragraphs ANYWHERE in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375200" y="1604160"/>
            <a:ext cx="748440" cy="5173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915840" y="2291040"/>
            <a:ext cx="690840" cy="43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9200" y="2291040"/>
            <a:ext cx="708120" cy="4312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948320" y="2976840"/>
            <a:ext cx="308520" cy="38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9560" y="3007080"/>
            <a:ext cx="162720" cy="38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"/>
          <p:cNvCxnSpPr>
            <a:stCxn id="311" idx="4"/>
            <a:endCxn id="312" idx="0"/>
          </p:cNvCxnSpPr>
          <p:nvPr/>
        </p:nvCxnSpPr>
        <p:spPr>
          <a:xfrm flipH="1">
            <a:off x="1261800" y="2125440"/>
            <a:ext cx="488160" cy="16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11" idx="4"/>
            <a:endCxn id="313" idx="0"/>
          </p:cNvCxnSpPr>
          <p:nvPr/>
        </p:nvCxnSpPr>
        <p:spPr>
          <a:xfrm>
            <a:off x="1749240" y="2125440"/>
            <a:ext cx="665640" cy="1609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3" idx="4"/>
            <a:endCxn id="314" idx="0"/>
          </p:cNvCxnSpPr>
          <p:nvPr/>
        </p:nvCxnSpPr>
        <p:spPr>
          <a:xfrm flipH="1">
            <a:off x="2103120" y="2727000"/>
            <a:ext cx="311760" cy="24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3" idx="4"/>
            <a:endCxn id="320" idx="0"/>
          </p:cNvCxnSpPr>
          <p:nvPr/>
        </p:nvCxnSpPr>
        <p:spPr>
          <a:xfrm>
            <a:off x="2414160" y="2727000"/>
            <a:ext cx="632520" cy="27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0" name=""/>
          <p:cNvSpPr/>
          <p:nvPr/>
        </p:nvSpPr>
        <p:spPr>
          <a:xfrm>
            <a:off x="2972160" y="3007080"/>
            <a:ext cx="146880" cy="388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"/>
          <p:cNvCxnSpPr>
            <a:stCxn id="313" idx="4"/>
            <a:endCxn id="315" idx="0"/>
          </p:cNvCxnSpPr>
          <p:nvPr/>
        </p:nvCxnSpPr>
        <p:spPr>
          <a:xfrm>
            <a:off x="2414520" y="2727000"/>
            <a:ext cx="177120" cy="275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7225-1F4C-4979-8528-667B30C5E39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Predicat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gs you add to an XPath expression to limit the selected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a SQL WHERE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ll the preferred terms in the glo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841040" y="3809880"/>
            <a:ext cx="5260320" cy="52056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term[published-indicator=‘true’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300680" y="4495680"/>
            <a:ext cx="623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all terms that have published-indicator set to be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5388-1C23-4D95-A988-21B95DD28FA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ass Evaluat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you leave on the last day please fill out a class evaluatio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helps us make this class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134-26CD-422F-964E-8AB069BC04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Query is Concis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Key "knight's tour"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s a knight's tour of the chess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6 non-comment lines in XSLT 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9 non-comment lines in XSLT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5 non-comment lines in XQu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758240" y="5486400"/>
            <a:ext cx="67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: http://www.stylusstudio.com/xquerytalk/200503/000537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7B6-FE51-49CF-B723-AB0EE598AC0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Query is a “Functional” Languag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Query (without the updates) does not chang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extract XML and creates new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highly parallelized like Google’s MapReduce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39120" y="4952880"/>
            <a:ext cx="41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MapRedu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064600" y="4495680"/>
            <a:ext cx="54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en.wikipedia.org/wiki/Functional_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40560" y="5334120"/>
            <a:ext cx="30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[Search YouTube Google Clas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DB58-778A-482D-9AB0-AEA642ED339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Data Types Returned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Query can retur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ize o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178680" y="205740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e Walmsley p 2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40320" y="4800600"/>
            <a:ext cx="716508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clare option exist:serialize "method=</a:t>
            </a:r>
            <a:r>
              <a:rPr b="1" lang="en-US" sz="1800" spc="-1" strike="noStrike">
                <a:solidFill>
                  <a:srgbClr val="0066ff"/>
                </a:solidFill>
                <a:latin typeface="Arial Narrow"/>
              </a:rPr>
              <a:t>html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media-type=text/</a:t>
            </a:r>
            <a:r>
              <a:rPr b="1" lang="en-US" sz="1800" spc="-1" strike="noStrike">
                <a:solidFill>
                  <a:srgbClr val="0066ff"/>
                </a:solidFill>
                <a:latin typeface="Arial Narrow"/>
              </a:rPr>
              <a:t>html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indent=yes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41760" y="5257800"/>
            <a:ext cx="701892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clare option exist:serialize "method=</a:t>
            </a:r>
            <a:r>
              <a:rPr b="1" lang="en-US" sz="1800" spc="-1" strike="noStrike">
                <a:solidFill>
                  <a:srgbClr val="0066ff"/>
                </a:solidFill>
                <a:latin typeface="Arial Narrow"/>
              </a:rPr>
              <a:t>xml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media-type=text/</a:t>
            </a:r>
            <a:r>
              <a:rPr b="1" lang="en-US" sz="1800" spc="-1" strike="noStrike">
                <a:solidFill>
                  <a:srgbClr val="0066ff"/>
                </a:solidFill>
                <a:latin typeface="Arial Narrow"/>
              </a:rPr>
              <a:t>xml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indent=yes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40680" y="5715000"/>
            <a:ext cx="7040520" cy="3682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clare option exist:serialize "method=</a:t>
            </a:r>
            <a:r>
              <a:rPr b="1" lang="en-US" sz="1800" spc="-1" strike="noStrike">
                <a:solidFill>
                  <a:srgbClr val="0066ff"/>
                </a:solidFill>
                <a:latin typeface="Arial Narrow"/>
              </a:rPr>
              <a:t>text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media-type=text/</a:t>
            </a:r>
            <a:r>
              <a:rPr b="1" lang="en-US" sz="1800" spc="-1" strike="noStrike">
                <a:solidFill>
                  <a:srgbClr val="0066ff"/>
                </a:solidFill>
                <a:latin typeface="Arial Narrow"/>
              </a:rPr>
              <a:t>text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indent=yes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621-6756-4CE6-B793-FF880EF94D4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eturning Items in an Ordered Lis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201312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ol&gt;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$term in collection($collection)/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$term/name/text(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&lt;/o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48BB-4A95-4011-B295-14FE18D3F70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Example of For Over Collect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121932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$term in collection('/db/apps/terms/data')/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3505320"/>
            <a:ext cx="8381880" cy="213336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t $collection := '/db/apps/terms/da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$term in collection($collection)/te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029200" y="3048120"/>
            <a:ext cx="380880" cy="60948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480280" y="2930400"/>
            <a:ext cx="33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his line may be omitted for clai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E288-FF22-493D-BF0D-634FC8B1413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XQuery’s Nested Structur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47239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Queries have a alternating neste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leave actual XML output and XQuery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33720" y="1219320"/>
            <a:ext cx="6248160" cy="3200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514600" y="1600200"/>
            <a:ext cx="5334120" cy="2590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80880" y="1523880"/>
            <a:ext cx="1219320" cy="6098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880" y="2286000"/>
            <a:ext cx="1219320" cy="6094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1905120"/>
            <a:ext cx="4191120" cy="1752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33920" y="2438280"/>
            <a:ext cx="3276360" cy="838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00200" y="17524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600200" y="19810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002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00200" y="274320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5863-C3C2-47B3-990C-A7145F77B40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Example of Nested Structur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1371600"/>
            <a:ext cx="6553080" cy="4724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847880" y="2209680"/>
            <a:ext cx="5594400" cy="35481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86160" y="2819520"/>
            <a:ext cx="4395600" cy="2514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048120" y="3429000"/>
            <a:ext cx="3741480" cy="1447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22440" y="1420920"/>
            <a:ext cx="3251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Query version “1.0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$collection := ‘/db/mycollection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09080" y="2235240"/>
            <a:ext cx="524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head&gt;&lt;title&gt;My Report&lt;/title&gt;&lt;/head&gt;&lt;body&gt;&lt;tab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14960" y="2843280"/>
            <a:ext cx="335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{for $i in collection($collection)/i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3505320"/>
            <a:ext cx="350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                                 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d&gt;                                 &lt;/t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3733920"/>
            <a:ext cx="16002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{$i/name/text(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16760" y="490212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905120" y="541008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able&gt;&lt;/body&gt;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09880" y="4038480"/>
            <a:ext cx="16765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{$i/defintion/text()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238400" y="6248520"/>
            <a:ext cx="67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 that the inner blue XQuery areas always start and end with curly braces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2E45-8DB7-4377-B67F-CF2E4EC0463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Sample XQuery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4" name=""/>
          <p:cNvSpPr/>
          <p:nvPr/>
        </p:nvSpPr>
        <p:spPr>
          <a:xfrm>
            <a:off x="233640" y="1676520"/>
            <a:ext cx="8762400" cy="39344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xque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ver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"1.0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: Example of report on all terms 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: make the output XML 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ecl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p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xist:serialize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"method=xhtml media-type=text/xml indent=yes"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erm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(: select only xml documents with “term” as the root element 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000a0"/>
                </a:solidFill>
                <a:latin typeface="Arial"/>
              </a:rPr>
              <a:t>$ter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6600"/>
                </a:solidFill>
                <a:latin typeface="Arial"/>
              </a:rPr>
              <a:t>coll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$coll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/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er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en-US" sz="1800" spc="-1" strike="noStrike">
                <a:solidFill>
                  <a:srgbClr val="a000a0"/>
                </a:solidFill>
                <a:latin typeface="Arial"/>
              </a:rPr>
              <a:t>$term/name/text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erm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erm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D81-4DF4-4144-BDA7-1D3DDDBD7E0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305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Sample XQuery that returns XML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"/>
          <p:cNvSpPr/>
          <p:nvPr/>
        </p:nvSpPr>
        <p:spPr>
          <a:xfrm>
            <a:off x="868320" y="1447920"/>
            <a:ext cx="7038720" cy="2466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query version "1.0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: make the output XML :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eclare option exist:serialize "method=xml media-type=text/xml indent=yes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terms&gt;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 $term in collection('/db/apps/terms/data/')/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et $name := $term/name/tex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term&gt;{$name}&lt;/term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&lt;/terms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809880" y="1905120"/>
            <a:ext cx="1067040" cy="45720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76920" y="1828800"/>
            <a:ext cx="1904760" cy="60948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rcRect l="826" t="23959" r="15956" b="10971"/>
          <a:stretch/>
        </p:blipFill>
        <p:spPr>
          <a:xfrm>
            <a:off x="2590920" y="4267080"/>
            <a:ext cx="4038480" cy="20196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1524600" y="43434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utpu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8640" y="59436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01-xml.x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F480-3D19-40A5-8FB3-74CBC0A74B7F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estricting Within an XPath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03848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a"/>
                </a:solidFill>
                <a:latin typeface="Arial"/>
              </a:rPr>
              <a:t>declare op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ist:serialize </a:t>
            </a:r>
            <a:r>
              <a:rPr b="1" lang="en-US" sz="2000" spc="-1" strike="noStrike">
                <a:solidFill>
                  <a:srgbClr val="640064"/>
                </a:solidFill>
                <a:latin typeface="Arial"/>
              </a:rPr>
              <a:t>"method=xml media-type=text/xml indent=yes"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ion </a:t>
            </a:r>
            <a:r>
              <a:rPr b="1" lang="en-US" sz="20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40064"/>
                </a:solidFill>
                <a:latin typeface="Arial"/>
              </a:rPr>
              <a:t>'/db/apps/terms/data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1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 </a:t>
            </a:r>
            <a:r>
              <a:rPr b="1" lang="en-US" sz="20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6400"/>
                </a:solidFill>
                <a:latin typeface="Arial"/>
              </a:rPr>
              <a:t>col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ion)</a:t>
            </a:r>
            <a:r>
              <a:rPr b="1" lang="en-US" sz="2000" spc="-1" strike="noStrike">
                <a:solidFill>
                  <a:srgbClr val="000096"/>
                </a:solidFill>
                <a:latin typeface="Arial"/>
              </a:rPr>
              <a:t>/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compare(substring($term/name/text(), 1), ‘a’)]</a:t>
            </a:r>
            <a:r>
              <a:rPr b="1" lang="en-US" sz="2000" spc="-1" strike="noStrike">
                <a:solidFill>
                  <a:srgbClr val="000096"/>
                </a:solidFill>
                <a:latin typeface="Arial"/>
              </a:rPr>
              <a:t>/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 by </a:t>
            </a:r>
            <a:r>
              <a:rPr b="1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fa"/>
                </a:solidFill>
                <a:latin typeface="Arial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1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82280" y="5902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Only find terms that begin with the letter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8D09-56E9-41CD-8B99-06C90705916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tudent Requirement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has their own laptop or desktop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has oXygen installed on thei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has a local copy of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2F89-3C1C-40A1-89E1-E9EB58CBDB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estricting Rows by Adding a “Where Clause”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311472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ody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 </a:t>
            </a: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6400"/>
                </a:solidFill>
                <a:latin typeface="Arial"/>
              </a:rPr>
              <a:t>coll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640064"/>
                </a:solidFill>
                <a:latin typeface="Arial"/>
              </a:rPr>
              <a:t>'/db/mdr/glossaries/data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edIndicator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40064"/>
                </a:solidFill>
                <a:latin typeface="Arial"/>
              </a:rPr>
              <a:t>‘true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Name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}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}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ody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66680" y="1600200"/>
            <a:ext cx="6172200" cy="68580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5334120"/>
            <a:ext cx="5086440" cy="6426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a"/>
                </a:solidFill>
                <a:latin typeface="Arial Narrow"/>
              </a:rPr>
              <a:t>for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000096"/>
                </a:solidFill>
                <a:latin typeface="Arial Narrow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rm </a:t>
            </a:r>
            <a:r>
              <a:rPr b="0" lang="en-US" sz="1800" spc="-1" strike="noStrike">
                <a:solidFill>
                  <a:srgbClr val="0000fa"/>
                </a:solidFill>
                <a:latin typeface="Arial Narrow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fa6400"/>
                </a:solidFill>
                <a:latin typeface="Arial Narrow"/>
              </a:rPr>
              <a:t>collection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1800" spc="-1" strike="noStrike">
                <a:solidFill>
                  <a:srgbClr val="640064"/>
                </a:solidFill>
                <a:latin typeface="Arial Narrow"/>
              </a:rPr>
              <a:t>'/db/apps/terms/data'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0" lang="en-US" sz="1800" spc="-1" strike="noStrike">
                <a:solidFill>
                  <a:srgbClr val="000096"/>
                </a:solidFill>
                <a:latin typeface="Arial Narro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0" lang="en-US" sz="1800" spc="-1" strike="noStrike">
                <a:solidFill>
                  <a:srgbClr val="0000fa"/>
                </a:solidFill>
                <a:latin typeface="Arial Narrow"/>
              </a:rPr>
              <a:t>[</a:t>
            </a:r>
            <a:r>
              <a:rPr b="0" lang="en-US" sz="1800" spc="-1" strike="noStrike">
                <a:solidFill>
                  <a:srgbClr val="000096"/>
                </a:solidFill>
                <a:latin typeface="Arial Narrow"/>
              </a:rPr>
              <a:t>$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rm</a:t>
            </a:r>
            <a:r>
              <a:rPr b="0" lang="en-US" sz="1800" spc="-1" strike="noStrike">
                <a:solidFill>
                  <a:srgbClr val="000096"/>
                </a:solidFill>
                <a:latin typeface="Arial Narrow"/>
              </a:rPr>
              <a:t>/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ublishedIndicator</a:t>
            </a:r>
            <a:r>
              <a:rPr b="0" lang="en-US" sz="1800" spc="-1" strike="noStrike">
                <a:solidFill>
                  <a:srgbClr val="000096"/>
                </a:solidFill>
                <a:latin typeface="Arial Narrow"/>
              </a:rPr>
              <a:t>/</a:t>
            </a:r>
            <a:r>
              <a:rPr b="0" lang="en-US" sz="1800" spc="-1" strike="noStrike">
                <a:solidFill>
                  <a:srgbClr val="646464"/>
                </a:solidFill>
                <a:latin typeface="Arial Narrow"/>
              </a:rPr>
              <a:t>text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() </a:t>
            </a:r>
            <a:r>
              <a:rPr b="0" lang="en-US" sz="1800" spc="-1" strike="noStrike">
                <a:solidFill>
                  <a:srgbClr val="000096"/>
                </a:solidFill>
                <a:latin typeface="Arial Narrow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800" spc="-1" strike="noStrike">
                <a:solidFill>
                  <a:srgbClr val="640064"/>
                </a:solidFill>
                <a:latin typeface="Arial Narrow"/>
              </a:rPr>
              <a:t>‘true‘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60" y="4800600"/>
            <a:ext cx="38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quare Bracket Notation (usually faste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6F0-A318-458E-9E34-7B8979080E5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Using Complex Logic in Where Clause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any number of and/or statements in the where cl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2590920"/>
            <a:ext cx="8229600" cy="320040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ody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 </a:t>
            </a: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6400"/>
                </a:solidFill>
                <a:latin typeface="Arial"/>
              </a:rPr>
              <a:t>colle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640064"/>
                </a:solidFill>
                <a:latin typeface="Arial"/>
              </a:rPr>
              <a:t>'/db/mdr/glossaries/data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ierCode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40064"/>
                </a:solidFill>
                <a:latin typeface="Arial"/>
              </a:rPr>
              <a:t>'System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edToCode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40064"/>
                </a:solidFill>
                <a:latin typeface="Arial"/>
              </a:rPr>
              <a:t>‘Dave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Name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}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}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d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ody</a:t>
            </a:r>
            <a:r>
              <a:rPr b="0" lang="en-US" sz="20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78A-03B8-4460-85E0-823812F279F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ontent Management “Macros”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319392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fa6400"/>
                </a:solidFill>
                <a:latin typeface="Arial"/>
              </a:rPr>
              <a:t>cms:import-css-tab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28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fa6400"/>
                </a:solidFill>
                <a:latin typeface="Arial"/>
              </a:rPr>
              <a:t>cms:head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2800" spc="-1" strike="noStrike">
                <a:solidFill>
                  <a:srgbClr val="fa6400"/>
                </a:solidFill>
                <a:latin typeface="Arial"/>
              </a:rPr>
              <a:t>cms:breadcrumb-gloss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04920" y="4572000"/>
            <a:ext cx="82296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Query macros are used to import snippets of canned XML or CSS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a single location and the entire web site look-and-feel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server-side incl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93E-5498-4377-B786-B267C86F897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electing Distinct Value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63120" cy="502920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declare nam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ist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http://exist.sourceforge.net/NS/exist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declare op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ist:serialize 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method=html media-type=text/html indent=yes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import modu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ames cms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http://cms.mdr.danmccreary.com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/db/mdr/cms/cms-module.xq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le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'My Report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le}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cms:import-css-tabl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cms:head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cms:breadcrumb-gloss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3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tinct ClassifierCode Values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3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er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distinct-valu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colle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'/db/mdr/glossaries/data/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erCod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er}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C40B-D1EC-4992-9441-F91720241EB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ample Result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27492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result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ssigned-to-cod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e-p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ssigned-to-cod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ssigned-to-cod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nnis-w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ssigned-to-cod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ssigned-to-cod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n-f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ssigned-to-cod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ssigned-to-cod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ek-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ssigned-to-cod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result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6071-DD7D-41C2-9A1C-037A754ECAE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ombine Outer Distinct Query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a"/>
                </a:solidFill>
                <a:latin typeface="Arial"/>
              </a:rPr>
              <a:t>declare nam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ist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640064"/>
                </a:solidFill>
                <a:latin typeface="Arial"/>
              </a:rPr>
              <a:t>"http://exist.sourceforge.net/NS/exist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a"/>
                </a:solidFill>
                <a:latin typeface="Arial"/>
              </a:rPr>
              <a:t>declare o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xist:serialize </a:t>
            </a:r>
            <a:r>
              <a:rPr b="0" lang="en-US" sz="1200" spc="-1" strike="noStrike">
                <a:solidFill>
                  <a:srgbClr val="640064"/>
                </a:solidFill>
                <a:latin typeface="Arial"/>
              </a:rPr>
              <a:t>"method=html media-type=text/html indent=yes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a"/>
                </a:solidFill>
                <a:latin typeface="Arial"/>
              </a:rPr>
              <a:t>import modu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ames cms 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640064"/>
                </a:solidFill>
                <a:latin typeface="Arial"/>
              </a:rPr>
              <a:t>"http://cms.metadata.danmccreary.com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lang="en-US" sz="1200" spc="-1" strike="noStrike">
                <a:solidFill>
                  <a:srgbClr val="640064"/>
                </a:solidFill>
                <a:latin typeface="Arial"/>
              </a:rPr>
              <a:t>"/db/mdr/cms/cms-module.xq"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640064"/>
                </a:solidFill>
                <a:latin typeface="Arial"/>
              </a:rPr>
              <a:t>'My Report'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}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200" spc="-1" strike="noStrike">
                <a:solidFill>
                  <a:srgbClr val="fa6400"/>
                </a:solidFill>
                <a:latin typeface="Arial"/>
              </a:rPr>
              <a:t>cms:import-css-tab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)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200" spc="-1" strike="noStrike">
                <a:solidFill>
                  <a:srgbClr val="fa6400"/>
                </a:solidFill>
                <a:latin typeface="Arial"/>
              </a:rPr>
              <a:t>cms:hea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)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200" spc="-1" strike="noStrike">
                <a:solidFill>
                  <a:srgbClr val="fa6400"/>
                </a:solidFill>
                <a:latin typeface="Arial"/>
              </a:rPr>
              <a:t>cms:breadcrumb-gloss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)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or </a:t>
            </a:r>
            <a:r>
              <a:rPr b="0" lang="en-US" sz="12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a6400"/>
                </a:solidFill>
                <a:latin typeface="Arial"/>
              </a:rPr>
              <a:t>distinct-valu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fa6400"/>
                </a:solidFill>
                <a:latin typeface="Arial"/>
              </a:rPr>
              <a:t>colle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640064"/>
                </a:solidFill>
                <a:latin typeface="Arial"/>
              </a:rPr>
              <a:t>'/db/mdr/glossaries/data/'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ignedToCode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gt;&l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or: 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or}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/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{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fa"/>
                </a:solidFill>
                <a:latin typeface="Arial"/>
              </a:rPr>
              <a:t>fo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 </a:t>
            </a:r>
            <a:r>
              <a:rPr b="0" lang="en-US" sz="1200" spc="-1" strike="noStrike">
                <a:solidFill>
                  <a:srgbClr val="0000fa"/>
                </a:solidFill>
                <a:latin typeface="Arial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a6400"/>
                </a:solidFill>
                <a:latin typeface="Arial"/>
              </a:rPr>
              <a:t>colle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640064"/>
                </a:solidFill>
                <a:latin typeface="Arial"/>
              </a:rPr>
              <a:t>'/db/mdr/glossaries/data/'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[AssignedToCode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=$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ilitato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Name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2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)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en-US" sz="12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620-9D88-4DAC-B4D9-03B3390B8DD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ubsequence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3" name=""/>
          <p:cNvSpPr/>
          <p:nvPr/>
        </p:nvSpPr>
        <p:spPr>
          <a:xfrm>
            <a:off x="1203480" y="2550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o do when you have over 500 items returned by a query but you only want the first 50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SELECT TOP in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2819520"/>
            <a:ext cx="8229600" cy="83808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000a0"/>
                </a:solidFill>
                <a:latin typeface="Arial"/>
              </a:rPr>
              <a:t>$te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00"/>
                </a:solidFill>
                <a:latin typeface="Arial"/>
              </a:rPr>
              <a:t>subsequ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a000a0"/>
                </a:solidFill>
                <a:latin typeface="Arial"/>
              </a:rPr>
              <a:t>$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1, 50)/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000a0"/>
                </a:solidFill>
                <a:latin typeface="Arial"/>
              </a:rPr>
              <a:t>$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3886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is the starting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is the number of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57200" y="5105520"/>
            <a:ext cx="8229600" cy="838080"/>
          </a:xfrm>
          <a:prstGeom prst="rect">
            <a:avLst/>
          </a:prstGeom>
          <a:solidFill>
            <a:srgbClr val="eaea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000a0"/>
                </a:solidFill>
                <a:latin typeface="Arial"/>
              </a:rPr>
              <a:t>$te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6600"/>
                </a:solidFill>
                <a:latin typeface="Arial"/>
              </a:rPr>
              <a:t>subsequ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a000a0"/>
                </a:solidFill>
                <a:latin typeface="Arial"/>
              </a:rPr>
              <a:t>$coll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a000a0"/>
                </a:solidFill>
                <a:latin typeface="Arial"/>
              </a:rPr>
              <a:t>$st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a000a0"/>
                </a:solidFill>
                <a:latin typeface="Arial"/>
              </a:rPr>
              <a:t>$l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000a0"/>
                </a:solidFill>
                <a:latin typeface="Arial"/>
              </a:rPr>
              <a:t>$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41FC-9F82-4293-95F5-28A01C47E69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ry it ou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localhost:8080/exist/rest/db/apps/terms/index.x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D106-B8C9-41A8-BD93-31481BBF03C4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omputation and Transformat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22200"/>
            <a:ext cx="8229600" cy="48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mputation is a type of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high-level languages into machin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in input request into an outpu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input stimuli into concept recognition via pattern ma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On Intelligence by Jeff Hawk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0718-4E07-443D-910E-D6366A0F2E67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Sample Program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29564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esul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essag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m of 47 and 14 is 61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essag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esul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71600"/>
            <a:ext cx="8229600" cy="3352680"/>
          </a:xfrm>
          <a:prstGeom prst="rect">
            <a:avLst/>
          </a:prstGeom>
          <a:solidFill>
            <a:srgbClr val="eaeae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xquery vers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1.0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declare op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xist:serialize 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"method=xml media-type=text/xml indent=yes"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n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do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'http://teacher:8080/exist/rest/db/home/dan/data.xml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do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640064"/>
                </a:solidFill>
                <a:latin typeface="Arial"/>
              </a:rPr>
              <a:t>'http://classroom:8080/exist/rest/db/home/dan/data.xml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646464"/>
                </a:solidFill>
                <a:latin typeface="Arial"/>
              </a:rPr>
              <a:t>tex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l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:=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n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a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um </a:t>
            </a:r>
            <a:r>
              <a:rPr b="0" lang="en-US" sz="1400" spc="-1" strike="noStrike">
                <a:solidFill>
                  <a:srgbClr val="fa6400"/>
                </a:solidFill>
                <a:latin typeface="Arial"/>
              </a:rPr>
              <a:t>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n}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} 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i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$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}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lt;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1400" spc="-1" strike="noStrike">
                <a:solidFill>
                  <a:srgbClr val="000096"/>
                </a:solidFill>
                <a:latin typeface="Arial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504C-B838-4F40-97B4-ED9F4D71C80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Dimensions of Clas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XQu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XQuery with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is XQuery, REST and XForms easi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s-on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 local eXist native XM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basic qu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XQuery syntax and FLOWR expr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Query and the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xt Encoding Initiative (TEI forma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rying XML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s on l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AAE9-3C09-4D6E-9478-08D2F10C3A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Lab#2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erson changes the format of the XML file to a non-standard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 out the changes and rerun the to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E571-8559-4058-B8D5-788A02C4877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Part 4: XQuery and Modeling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we store models in XM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re models used to gath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we add XML models to our metadata regis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f XM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at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S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P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04F2-E856-4CB3-BA5F-A4E4EC3B7CA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09480" y="1676520"/>
            <a:ext cx="32004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odel-Driven Developmen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44971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aspects of a system are derived by transformations of spec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tions are stored in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828800" y="1905120"/>
            <a:ext cx="91440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14400" y="2438280"/>
            <a:ext cx="914400" cy="3812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590920" y="2514600"/>
            <a:ext cx="91440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523880" y="3048120"/>
            <a:ext cx="914400" cy="380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105520" y="1676520"/>
            <a:ext cx="320040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858000" y="1981080"/>
            <a:ext cx="914400" cy="38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486400" y="2286000"/>
            <a:ext cx="9144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10280" y="2743200"/>
            <a:ext cx="9144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3048120"/>
            <a:ext cx="914400" cy="380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09880" y="2286000"/>
            <a:ext cx="1295640" cy="914400"/>
          </a:xfrm>
          <a:prstGeom prst="rightArrow">
            <a:avLst>
              <a:gd name="adj1" fmla="val 50000"/>
              <a:gd name="adj2" fmla="val 3542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Trans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C27-581B-4C9B-A59D-BBE6F8CDD5F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Gathering Requirement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46483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can be expressed in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non-machine readable models – easy to create – hard to verify correctness automatically - but fine for non-testable requirements with no measurable quality metr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machine-readable models – need tools and training but are easy to verify for correctness and consistency with a metadata registry.  Required if you desire the ability to measure requirements gathering quality and plan to use continuous improvement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5240" y="3886200"/>
            <a:ext cx="29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Non-Machine Readabl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ed To Captur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602720" y="1752480"/>
            <a:ext cx="727920" cy="657720"/>
            <a:chOff x="1602720" y="1752480"/>
            <a:chExt cx="727920" cy="657720"/>
          </a:xfrm>
        </p:grpSpPr>
        <p:pic>
          <p:nvPicPr>
            <p:cNvPr id="436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752480" y="17524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>
              <a:off x="1602720" y="2133720"/>
              <a:ext cx="72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S-W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457200" y="1523880"/>
            <a:ext cx="876240" cy="886320"/>
            <a:chOff x="457200" y="1523880"/>
            <a:chExt cx="876240" cy="886320"/>
          </a:xfrm>
        </p:grpSpPr>
        <p:pic>
          <p:nvPicPr>
            <p:cNvPr id="439" name="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457200" y="1523880"/>
              <a:ext cx="87624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"/>
            <p:cNvSpPr/>
            <p:nvPr/>
          </p:nvSpPr>
          <p:spPr>
            <a:xfrm>
              <a:off x="533520" y="21337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otep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3278880" y="1676520"/>
            <a:ext cx="738360" cy="733680"/>
            <a:chOff x="3278880" y="1676520"/>
            <a:chExt cx="738360" cy="733680"/>
          </a:xfrm>
        </p:grpSpPr>
        <p:pic>
          <p:nvPicPr>
            <p:cNvPr id="442" name="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3352680" y="1676520"/>
              <a:ext cx="48528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3278880" y="2133720"/>
              <a:ext cx="738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S-Exc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429000" y="2666880"/>
            <a:ext cx="380880" cy="3812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3278880" y="312408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S-Vis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5800" y="2743200"/>
            <a:ext cx="438120" cy="4287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04920" y="32004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343400" y="1447920"/>
            <a:ext cx="0" cy="289548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876920" y="1523880"/>
            <a:ext cx="666720" cy="56196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726800" y="2184480"/>
            <a:ext cx="14806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XM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XML 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SDL XM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PEL XM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XHTM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XForms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XML Bind stat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XPath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UML in XMI (comple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87240" y="3886200"/>
            <a:ext cx="29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chine Readabl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ed To Captur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172200" y="1600200"/>
            <a:ext cx="762120" cy="57168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6174720" y="226044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XML Met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Data E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7543800" y="1523880"/>
            <a:ext cx="876240" cy="657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7621560" y="2286000"/>
            <a:ext cx="90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usines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Rule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chemat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EDA6-D0F9-40DF-B742-9AE7C823EE6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143000" y="3581280"/>
            <a:ext cx="6477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achine Readable Model Spectrum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425772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file types have vastly different ability to be queried by a metadata/model registry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the document be transformed into XM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t be sent through a program to clean up the tags (HTML ti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verbose is the file form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re documentation avail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" descr="">
            <a:hlinkClick r:id="rId1"/>
          </p:cNvPr>
          <p:cNvPicPr/>
          <p:nvPr/>
        </p:nvPicPr>
        <p:blipFill>
          <a:blip r:embed="rId2"/>
          <a:srcRect l="0" t="8904" r="0" b="46703"/>
          <a:stretch/>
        </p:blipFill>
        <p:spPr>
          <a:xfrm>
            <a:off x="762120" y="1600200"/>
            <a:ext cx="7619760" cy="380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4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057400"/>
            <a:ext cx="876240" cy="8287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2286000"/>
            <a:ext cx="438120" cy="42876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20120" y="2133720"/>
            <a:ext cx="666720" cy="561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7469280" y="274320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XML Sche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73600" y="281952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ep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9000" y="281952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754640" y="2743200"/>
            <a:ext cx="8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Propri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981080" y="2133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1"/>
          <a:stretch/>
        </p:blipFill>
        <p:spPr>
          <a:xfrm>
            <a:off x="6172200" y="220968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6175440" y="281952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BPMN/BP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2"/>
          <a:stretch/>
        </p:blipFill>
        <p:spPr>
          <a:xfrm>
            <a:off x="4038480" y="2286000"/>
            <a:ext cx="381240" cy="3808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3964680" y="2743200"/>
            <a:ext cx="70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MS-Vis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749680" y="3429000"/>
            <a:ext cx="3506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ffort required to test for correct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4240" y="3352680"/>
            <a:ext cx="6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697160" y="3429000"/>
            <a:ext cx="68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Eff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3"/>
          <a:stretch/>
        </p:blipFill>
        <p:spPr>
          <a:xfrm>
            <a:off x="5105520" y="2209680"/>
            <a:ext cx="438120" cy="4381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5108040" y="27432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X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050-9409-4B7A-BA72-41F00E61E94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Many Processes Today Are Driven By…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533412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traints of yesterday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4943520" cy="21528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599400" y="4390920"/>
            <a:ext cx="7642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challeng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ourselves the ques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our current method of solving problems with tabular dat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the storage of the 1950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ou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siness requirem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tructures reflect the actual business probl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3372-EAFE-4CC3-95C3-28F15599133F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ass Evaluation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fill out a class evaluation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elps us find out how to make this clas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3F10-2CA1-42F5-B541-04EA75CB4074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Questions?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70C1-F7BE-4655-969F-B96191D67DE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Why This Clas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Query is a great way to store complex document in a machine-readable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of our movement away from using flat-structures to store hierarch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Query is a new and innovative standard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several advances in Query Language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and WebDAV interfaces make it VERY easy to use compared to traditional RDBMS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import any XML data (drag and dro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reate web servers (each XQuery is a web serv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B0CF-6EA7-4D62-B50F-089E6741F5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ass Materials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file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anmccreary.com/training/xquery/index.x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copy of eXist 1.2 (with new builtin atomic wik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exist-db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o not install in C:\Program Files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:/ex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a copy of the oXygen editor (30 day tr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oxygenxml.com/download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 sampl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to your desktop or hom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WebDav folder using MyNetworkPlaces for /db/a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g and drop the faq and terms into apps fol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ECC5-6C61-4749-92C3-5A532E5B63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Reference Book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90920" y="1302840"/>
            <a:ext cx="502920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Qu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Priscilla Walms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perback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510 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sh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'Reilly Media, Inc. (March 30, 200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BN-10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059600634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BN-1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78-059600634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6F17-1DB6-4080-A3C6-68FF41F1BE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1T13:09:12Z</dcterms:created>
  <dc:creator>Dan McCreary</dc:creator>
  <dc:description/>
  <dc:language>en-US</dc:language>
  <cp:lastModifiedBy>HP Authorized Customer</cp:lastModifiedBy>
  <dcterms:modified xsi:type="dcterms:W3CDTF">2008-11-13T15:28:22Z</dcterms:modified>
  <cp:revision>20</cp:revision>
  <dc:subject/>
  <dc:title>XQuery A Foundation of a SOA-Driven Metadata Strategy</dc:title>
</cp:coreProperties>
</file>