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585-1B6C-443F-997F-76C67AFD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3FFE-BB7C-4787-9237-13FE3036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DD08-D9A0-43FD-94C8-9EA8F1D9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19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19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88E-EE09-4D22-90DD-FA1710BC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F8C4-BD7F-4230-9331-21E1651C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7767-6971-4CA7-9D6F-B9D5269F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2545-E19B-4F6D-B387-1A3D788E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BB4-6CEF-408E-83FF-2B328926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D47-1C7B-4A9C-B6D1-683CD182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0A76-60D5-4E38-B258-410437DB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9FB5-B94D-45B5-9A5D-1C1638F6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9882-F39F-4BE5-AB43-FBAE6DE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28720" y="640080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D2E8-B244-4D5A-BACB-7B5B8D0DCD9E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143000"/>
            <a:ext cx="9144000" cy="75960"/>
            <a:chOff x="0" y="114300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21896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RX Basic CRUD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e, Read, Update, Delete and Search XML D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: 10/1/200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5780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2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53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3080" y="5143680"/>
            <a:ext cx="2209320" cy="1383120"/>
            <a:chOff x="343080" y="5143680"/>
            <a:chExt cx="2209320" cy="1383120"/>
          </a:xfrm>
        </p:grpSpPr>
        <p:sp>
          <p:nvSpPr>
            <p:cNvPr id="57" name=""/>
            <p:cNvSpPr/>
            <p:nvPr/>
          </p:nvSpPr>
          <p:spPr>
            <a:xfrm>
              <a:off x="808200" y="514368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89240" y="572436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7" idx="5"/>
              <a:endCxn id="58" idx="1"/>
            </p:cNvCxnSpPr>
            <p:nvPr/>
          </p:nvCxnSpPr>
          <p:spPr>
            <a:xfrm>
              <a:off x="1204560" y="5540040"/>
              <a:ext cx="253080" cy="25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343080" y="618948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5705-104B-4B9B-B276-1B3F1589D1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dit.xq Architectur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s an XHTML XForms on the f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s for both new items and updates to i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save-new.xq if it has a new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update.xq if it is updating an existing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1B3E-C504-4BBE-B6C6-C329A3DC5C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dit.xq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57480" y="2514600"/>
            <a:ext cx="6562440" cy="2886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714240" y="1600200"/>
            <a:ext cx="6497640" cy="337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ocalhost:8080/exist/rest/db/apps/item-manager/edit/edit.xq?id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15280" y="1486080"/>
            <a:ext cx="914400" cy="571320"/>
          </a:xfrm>
          <a:prstGeom prst="ellipse">
            <a:avLst/>
          </a:prstGeom>
          <a:noFill/>
          <a:ln w="1908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DF36-D170-47B0-B9FB-58094FED39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xcerpts from edit.xq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3080" y="1371240"/>
            <a:ext cx="8572320" cy="4343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request:get-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new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request:get-parame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id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new-instance.xml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-port,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/exist/rest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/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,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.xml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f:submission id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"save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hod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"post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on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"{if ($new='true') then ('save-new.xq') else ('update.xq')}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anc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"my-task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lace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"all"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4C7-0CBB-481D-9858-3E29FE87A8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New Instanc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971800" y="2057040"/>
            <a:ext cx="2857680" cy="29718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id&gt;&lt;/i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name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description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category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status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tag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ite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440" y="1371600"/>
            <a:ext cx="6863400" cy="337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ocalhost:8080/exist/rest/db/apps/item-manager/edit/new-instance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6040" y="5372280"/>
            <a:ext cx="43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tains initial values of default form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oleans must have true/false 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0D10-2317-4396-97A1-45BE457A63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Forms Controls for edit.xq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71880" y="1371600"/>
            <a:ext cx="4457520" cy="51436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input ref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name"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input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textarea ref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description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las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description"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textarea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select1 ref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category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clas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category"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tegory: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ite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valu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al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valu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ite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ite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valu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valu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ite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ite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valu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rg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valu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ite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f:select1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46C9-15D3-4000-A9F7-362C5AF295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ve-new.xq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41148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is is gets the data from the XForms submission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request:get-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is creates the new file with a still-empty id element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xmldb:sto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-collection,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,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is adds the correct ID to the new document we just saved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-id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update replace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do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-collection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/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)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 with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is updates the next-id.xml file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-next-id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update replace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do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-id-file-path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-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wi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6464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ml&gt;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84D-0B39-47DF-A2DD-B77EAED9DEE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pdate.xq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4578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Get the data from the XForms POST submission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request:get-d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is saves the new file and overwrites the old one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xmldb:sto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,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 Confirmation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ref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../index.xhtml"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 Home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gt;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ref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../views/list-items.xq"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all Item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gt;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ref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../views/view-item.xq?id={$id}"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Item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It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} has been updated.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05680" y="5943600"/>
            <a:ext cx="72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 that save and update do not take URL parameters.  They get all their data from the PO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FF0B-E424-48E7-A71F-A5E4698E62D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elete-confirm.xq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4578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request:get-param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id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ref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../index.xhtml"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 Home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&amp;gt;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href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../views/list-items.xq"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 Item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you sure you want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ete this Item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?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do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: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las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warn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ref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delete.xq?id={$id}"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elete This Item?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 clas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warn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ref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../views/view-item.xq?id={$id}"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Cance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Back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iew Item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19800" y="5943600"/>
            <a:ext cx="72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 that save and update do not take URL parameters.  They get all their data from the PO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20BB-BE49-4CBA-B24A-18AA077150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elete.xq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44578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/db/apps/manage-items/dat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is script takes the integer value of the id parameter passed via get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xs:integ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request:get-param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id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is logs you into the collection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n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xmldb:log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‘username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‘password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is constructs the filename from the id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.xml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is REALLY deletes the file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xmldb:remo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19800" y="5943600"/>
            <a:ext cx="721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 that save and update do not take URL parameters.  They get all their data from the PO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FD0-E7C7-4ECE-BB7A-20B40D1BED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72200" y="2400480"/>
            <a:ext cx="114480" cy="342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2400480"/>
            <a:ext cx="114480" cy="342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00880" y="2400480"/>
            <a:ext cx="114120" cy="342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How CRUD Applications Work Together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2525400" y="3209400"/>
            <a:ext cx="1149840" cy="337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ist-items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96920" y="3209400"/>
            <a:ext cx="717120" cy="337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dit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68240" y="2409480"/>
            <a:ext cx="1179000" cy="337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iew-item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53400" y="4352400"/>
            <a:ext cx="1567440" cy="337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ete-confirm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95760" y="5038200"/>
            <a:ext cx="903240" cy="337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ete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7" idx="3"/>
            <a:endCxn id="139" idx="1"/>
          </p:cNvCxnSpPr>
          <p:nvPr/>
        </p:nvCxnSpPr>
        <p:spPr>
          <a:xfrm flipV="1">
            <a:off x="3695400" y="2577240"/>
            <a:ext cx="1553400" cy="80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37" idx="3"/>
            <a:endCxn id="138" idx="1"/>
          </p:cNvCxnSpPr>
          <p:nvPr/>
        </p:nvCxnSpPr>
        <p:spPr>
          <a:xfrm>
            <a:off x="3695400" y="3377880"/>
            <a:ext cx="981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40" idx="1"/>
          </p:cNvCxnSpPr>
          <p:nvPr/>
        </p:nvCxnSpPr>
        <p:spPr>
          <a:xfrm>
            <a:off x="3695400" y="3377880"/>
            <a:ext cx="1438920" cy="11437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45" name=""/>
          <p:cNvCxnSpPr>
            <a:stCxn id="140" idx="2"/>
            <a:endCxn id="141" idx="0"/>
          </p:cNvCxnSpPr>
          <p:nvPr/>
        </p:nvCxnSpPr>
        <p:spPr>
          <a:xfrm>
            <a:off x="5936760" y="4708080"/>
            <a:ext cx="11880" cy="311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5" idx="2"/>
            <a:endCxn id="138" idx="0"/>
          </p:cNvCxnSpPr>
          <p:nvPr/>
        </p:nvCxnSpPr>
        <p:spPr>
          <a:xfrm flipH="1">
            <a:off x="5055480" y="2752560"/>
            <a:ext cx="602280" cy="439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4238280" y="1723680"/>
            <a:ext cx="959400" cy="337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arch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24320" y="1723680"/>
            <a:ext cx="1207800" cy="337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arch.x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8" idx="3"/>
            <a:endCxn id="147" idx="1"/>
          </p:cNvCxnSpPr>
          <p:nvPr/>
        </p:nvCxnSpPr>
        <p:spPr>
          <a:xfrm>
            <a:off x="3750840" y="1891800"/>
            <a:ext cx="46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7" idx="2"/>
            <a:endCxn id="139" idx="1"/>
          </p:cNvCxnSpPr>
          <p:nvPr/>
        </p:nvCxnSpPr>
        <p:spPr>
          <a:xfrm>
            <a:off x="4717800" y="2079720"/>
            <a:ext cx="531000" cy="498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5520" y="2409480"/>
            <a:ext cx="1105920" cy="33732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dex.x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3"/>
            <a:endCxn id="148" idx="1"/>
          </p:cNvCxnSpPr>
          <p:nvPr/>
        </p:nvCxnSpPr>
        <p:spPr>
          <a:xfrm flipV="1">
            <a:off x="1820520" y="1891440"/>
            <a:ext cx="685080" cy="686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1" idx="3"/>
            <a:endCxn id="137" idx="1"/>
          </p:cNvCxnSpPr>
          <p:nvPr/>
        </p:nvCxnSpPr>
        <p:spPr>
          <a:xfrm>
            <a:off x="1820520" y="2577600"/>
            <a:ext cx="685080" cy="80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9" idx="2"/>
            <a:endCxn id="140" idx="0"/>
          </p:cNvCxnSpPr>
          <p:nvPr/>
        </p:nvCxnSpPr>
        <p:spPr>
          <a:xfrm>
            <a:off x="5857920" y="2765160"/>
            <a:ext cx="79920" cy="1569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2"/>
            <a:endCxn id="140" idx="0"/>
          </p:cNvCxnSpPr>
          <p:nvPr/>
        </p:nvCxnSpPr>
        <p:spPr>
          <a:xfrm>
            <a:off x="5055840" y="3565080"/>
            <a:ext cx="881640" cy="7693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2743560" y="5486400"/>
            <a:ext cx="530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te: If you change a file name of an XQuer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ake sure that everything that links to it is also upd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09440" y="3095280"/>
            <a:ext cx="1172880" cy="337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ave-new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7" idx="0"/>
            <a:endCxn id="133" idx="2"/>
          </p:cNvCxnSpPr>
          <p:nvPr/>
        </p:nvCxnSpPr>
        <p:spPr>
          <a:xfrm flipH="1" flipV="1">
            <a:off x="6229080" y="2752200"/>
            <a:ext cx="767520" cy="324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38" idx="3"/>
            <a:endCxn id="157" idx="1"/>
          </p:cNvCxnSpPr>
          <p:nvPr/>
        </p:nvCxnSpPr>
        <p:spPr>
          <a:xfrm flipV="1">
            <a:off x="5433840" y="3263400"/>
            <a:ext cx="958320" cy="115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6410160" y="3666600"/>
            <a:ext cx="968760" cy="33732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date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60" idx="1"/>
            <a:endCxn id="134" idx="2"/>
          </p:cNvCxnSpPr>
          <p:nvPr/>
        </p:nvCxnSpPr>
        <p:spPr>
          <a:xfrm flipH="1" flipV="1">
            <a:off x="6000120" y="2752560"/>
            <a:ext cx="391320" cy="1083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38" idx="3"/>
            <a:endCxn id="160" idx="1"/>
          </p:cNvCxnSpPr>
          <p:nvPr/>
        </p:nvCxnSpPr>
        <p:spPr>
          <a:xfrm>
            <a:off x="5433840" y="3378240"/>
            <a:ext cx="95832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4002480" y="3429000"/>
            <a:ext cx="68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op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2D1-9992-43F6-B0B7-2CB0BC11EA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 XML records using X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ing sequential ids to each item (save-new.x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 list of current items (list-items.x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M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read-only views of items (view-item.x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ing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XQuery updates (update.x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delete with confirmation (delete-confirm.x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build custom search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9DC5-200A-41B1-BE5B-410C73D3E8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dditional reports for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ized dashbo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tatus codes to filte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quality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ize Forms for specific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role-based functions so each role has custom views and 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custom searches for specific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547D-C7CC-41F0-A51F-B57035B2E4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FD7F-9280-46CD-9DC9-5257AAA474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rchitecturally Significant Function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you learn the basics CRUDS functions you can start to customize the item-manager code (S is for Searc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functions don’t require you to learn any additional architectural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B33C-FCC0-4B8B-81D5-DFABA6FDE4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Item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our examples simple, we are going to use a very simple “item”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5520" y="2629080"/>
            <a:ext cx="8482680" cy="3020040"/>
          </a:xfrm>
          <a:prstGeom prst="rect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item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id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47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id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name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em Forty Seven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name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description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s is a detailed description of item 47.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description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category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dium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category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status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raft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status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tag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g-1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tag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Arial Narrow"/>
              </a:rPr>
              <a:t>item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32F-9982-4D78-B415-E56672AC8C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lder Structur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1600200"/>
            <a:ext cx="1028880" cy="457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3080" y="1371600"/>
            <a:ext cx="1028520" cy="457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/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0400" y="2057400"/>
            <a:ext cx="2171880" cy="457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em-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7480" y="2857680"/>
            <a:ext cx="914400" cy="457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57680" y="2857680"/>
            <a:ext cx="914400" cy="457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2857680"/>
            <a:ext cx="914400" cy="457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2857680"/>
            <a:ext cx="1028880" cy="4572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0" idx="6"/>
            <a:endCxn id="69" idx="2"/>
          </p:cNvCxnSpPr>
          <p:nvPr/>
        </p:nvCxnSpPr>
        <p:spPr>
          <a:xfrm>
            <a:off x="1371600" y="1599840"/>
            <a:ext cx="45792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9" idx="6"/>
            <a:endCxn id="71" idx="0"/>
          </p:cNvCxnSpPr>
          <p:nvPr/>
        </p:nvCxnSpPr>
        <p:spPr>
          <a:xfrm>
            <a:off x="2857680" y="1828440"/>
            <a:ext cx="142920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1" idx="4"/>
            <a:endCxn id="72" idx="7"/>
          </p:cNvCxnSpPr>
          <p:nvPr/>
        </p:nvCxnSpPr>
        <p:spPr>
          <a:xfrm flipH="1">
            <a:off x="2037960" y="2514600"/>
            <a:ext cx="2248560" cy="410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9" name=""/>
          <p:cNvCxnSpPr>
            <a:stCxn id="71" idx="4"/>
            <a:endCxn id="73" idx="0"/>
          </p:cNvCxnSpPr>
          <p:nvPr/>
        </p:nvCxnSpPr>
        <p:spPr>
          <a:xfrm flipH="1">
            <a:off x="3314520" y="2514240"/>
            <a:ext cx="972000" cy="3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71" idx="4"/>
            <a:endCxn id="75" idx="0"/>
          </p:cNvCxnSpPr>
          <p:nvPr/>
        </p:nvCxnSpPr>
        <p:spPr>
          <a:xfrm>
            <a:off x="4285800" y="2514240"/>
            <a:ext cx="1258200" cy="3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1" idx="4"/>
            <a:endCxn id="74" idx="0"/>
          </p:cNvCxnSpPr>
          <p:nvPr/>
        </p:nvCxnSpPr>
        <p:spPr>
          <a:xfrm>
            <a:off x="4285800" y="2514240"/>
            <a:ext cx="3258360" cy="3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82" name=""/>
          <p:cNvSpPr/>
          <p:nvPr/>
        </p:nvSpPr>
        <p:spPr>
          <a:xfrm>
            <a:off x="457200" y="35434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88620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57480" y="354348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7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7480" y="3886200"/>
            <a:ext cx="685800" cy="2286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9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9150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ave-new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53722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pdate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5434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ew-instance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40006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ext-id.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44578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dit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14600" y="58294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lete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0" y="35434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view-item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40006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ist-items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35434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arch.x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4000680"/>
            <a:ext cx="1600200" cy="34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earch.x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85C5-3CC0-4827-9FA6-619FA12994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st Item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 for loop for all items in the data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010040" cy="23144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A4D3-468F-4B29-AF55-A440C44B40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ist-items.xq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434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a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a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ody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ction)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ody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AEA-8B26-4564-AB2E-59AFA43481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tem Viewe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00280" y="491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vide a read-only viewer for your i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force a person to use a write/lock edit form to view a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auses unnecessary locking in the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38520" cy="2610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356040" y="1600200"/>
            <a:ext cx="7209360" cy="3373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localhost:8080/exist/rest/db/apps/item-manager/views/view-item.xq?id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1486080"/>
            <a:ext cx="914400" cy="571320"/>
          </a:xfrm>
          <a:prstGeom prst="ellipse">
            <a:avLst/>
          </a:prstGeom>
          <a:noFill/>
          <a:ln w="1908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CA3-D11E-4DBC-AAFC-5E65EFBB0A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view-item.xq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request:get-parame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640064"/>
                </a:solidFill>
                <a:latin typeface="Arial"/>
              </a:rPr>
              <a:t>'id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640064"/>
                </a:solidFill>
                <a:latin typeface="Arial"/>
              </a:rPr>
              <a:t>'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Item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)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[id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ody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q-category-i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: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: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tegory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: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: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g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ody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EFE0-4013-446B-8D24-C8D01D1FB8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3:59:55Z</dcterms:created>
  <dc:creator>HP Authorized Customer</dc:creator>
  <dc:description/>
  <dc:language>en-US</dc:language>
  <cp:lastModifiedBy>HP Authorized Customer</cp:lastModifiedBy>
  <dcterms:modified xsi:type="dcterms:W3CDTF">2008-11-08T20:14:00Z</dcterms:modified>
  <cp:revision>9</cp:revision>
  <dc:subject/>
  <dc:title>XRX CRUD Create, Read, Update and Delete XML Data Date: 10/1/2008</dc:title>
</cp:coreProperties>
</file>