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1D2D-7B35-47DD-8A7B-6A97392C3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611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3E5-2441-491C-9B66-C44D2399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611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611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673-506F-4A79-84A4-91C5AB7EF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371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3716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611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611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611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03D-53E5-45CE-B52D-B4F2D31CB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0BF5-6A74-48D0-9650-02E60802A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EC4-F8D4-44AB-8AA8-C4FC0E025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AD3-CB88-45F0-A1D2-2180BA9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C97-DE0C-4537-A666-191218F81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095E-4FEB-49EB-B1E6-A3E208BC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611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7F8D-DCBD-483C-9412-941B508F9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611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7051-A95E-4362-B985-F118A29A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6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611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A09-4F71-4DCD-9C5A-29F4798F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7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987A3-58E1-43F1-8FCA-26FA2F04056D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143000"/>
            <a:ext cx="9144000" cy="75960"/>
            <a:chOff x="0" y="11430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2189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Functions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using XQuery Cod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September, 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4368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14480" y="5257800"/>
            <a:ext cx="2209320" cy="1383480"/>
            <a:chOff x="114480" y="5257800"/>
            <a:chExt cx="2209320" cy="1383480"/>
          </a:xfrm>
        </p:grpSpPr>
        <p:sp>
          <p:nvSpPr>
            <p:cNvPr id="57" name=""/>
            <p:cNvSpPr/>
            <p:nvPr/>
          </p:nvSpPr>
          <p:spPr>
            <a:xfrm>
              <a:off x="579600" y="525780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60640" y="583884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975960" y="5654160"/>
              <a:ext cx="253080" cy="253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114480" y="630396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33E9-2883-4BF3-9604-EF6364455B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RI func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-uri, document-uri, static-base-uri, document-uri, iri-to-u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84A6-E814-49A6-8143-93AA3B3220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th and Set Func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-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-af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AD-075A-4645-A384-3159F4DF55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NGra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486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does a full-text string contain a specific st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rts-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nds-wi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does a full-text string start or end start with a str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ter-match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exclude specific results from a ma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57880" y="5600880"/>
            <a:ext cx="41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tp://exist-db.org/xquery/n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54D0-29CC-4193-9996-328B06E17D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to Define a Fun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086600" cy="3763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6400"/>
                </a:solidFill>
                <a:latin typeface="Arial"/>
              </a:rPr>
              <a:t>local:my-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 as </a:t>
            </a:r>
            <a:r>
              <a:rPr b="0" lang="en-US" sz="3200" spc="-1" strike="noStrike">
                <a:solidFill>
                  <a:srgbClr val="fa6400"/>
                </a:solidFill>
                <a:latin typeface="Arial"/>
              </a:rPr>
              <a:t>return-typ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 …</a:t>
            </a: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your code 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&lt;result/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20D8-4CFE-461E-9661-EDD02A7FF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ello Worl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086600" cy="3763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a6400"/>
                </a:solidFill>
                <a:latin typeface="Arial"/>
              </a:rPr>
              <a:t>local:hello-wor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 as </a:t>
            </a:r>
            <a:r>
              <a:rPr b="0" lang="en-US" sz="3200" spc="-1" strike="noStrike">
                <a:solidFill>
                  <a:srgbClr val="fa6400"/>
                </a:solidFill>
                <a:latin typeface="Arial"/>
              </a:rPr>
              <a:t>xs:st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40064"/>
                </a:solidFill>
                <a:latin typeface="Arial"/>
              </a:rPr>
              <a:t>'Hello World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6D3-5304-4023-8E4D-20852B8325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6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How to Call a Func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28520" y="1257480"/>
            <a:ext cx="7086600" cy="49147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local:hello-wor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as 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xs: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640064"/>
                </a:solidFill>
                <a:latin typeface="Arial"/>
              </a:rPr>
              <a:t>'Hello World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-variable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 := local:hello-wor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DEB6-AD91-48EB-A47E-D6CF9E2C4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Input and Output Parameter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2640" y="1371240"/>
            <a:ext cx="7086600" cy="30862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app-base-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 as xs:string) as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substring-befo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substring-af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,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exist/rest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views/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exist/rest/db/apps/faqs/views/my-query.xq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-collection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app-base-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-collection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5143680"/>
            <a:ext cx="7086600" cy="68580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resul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app-base-collection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db/apps/faq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app-base-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resul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97CD-5D5D-4937-8957-CC06C623C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7080"/>
            <a:ext cx="7772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Get the Base Collection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800280"/>
            <a:ext cx="7086600" cy="33145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app-base-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 as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onca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db/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substring-befo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substring-aft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request:get-u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,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exist/rest/db/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request:get-ur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ri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-collection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app-base-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-base-collection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97240" y="5829480"/>
            <a:ext cx="566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Note that this will not work from within oXygen, only from the web brows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4229280"/>
            <a:ext cx="5297400" cy="137268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resul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ur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/exist/rest/db/xrx-training/labs/02-functions/app-base-collection.x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/ur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app-base-collection&gt;</a:t>
            </a:r>
            <a:r>
              <a:rPr b="1" lang="en-US" sz="1400" spc="-1" strike="noStrike">
                <a:solidFill>
                  <a:srgbClr val="3333cc"/>
                </a:solidFill>
                <a:latin typeface="Arial Narrow"/>
              </a:rPr>
              <a:t>/db/xrx-training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/app-base-collection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/result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8880" y="4572000"/>
            <a:ext cx="10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23E6-3BF1-4D37-BB46-997FAFD49F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assing Paramete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6582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pass many parameters into any function but functions usually return only a simple type or a complex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arameter has a “cardinality” that describes if it is an optional parameter (may be null), or has more then one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notation is used to describe the cardinality of each parame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ingle required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 optional single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zero to many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e to many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38600" y="5584680"/>
            <a:ext cx="615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ote: checking parameters is a great way to test the data for your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BDF-17B6-44FC-9053-B483A0911D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0CF4-3726-43FB-8F53-CB36EC4B76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use fun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uery Built-i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-specific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fin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sign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B4E6-86C6-4EE0-BC65-12202108E8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Use Function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use snippets of your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code easier to maint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ke code easier to 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48D3-C4E5-45D9-9350-B87BBDF2FB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unction Laye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"/>
          <p:cNvSpPr/>
          <p:nvPr/>
        </p:nvSpPr>
        <p:spPr>
          <a:xfrm>
            <a:off x="1028880" y="5372280"/>
            <a:ext cx="6972120" cy="5713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ase XQuery 1.0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543480"/>
            <a:ext cx="11430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915080" y="3543480"/>
            <a:ext cx="1371600" cy="1143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date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3543480"/>
            <a:ext cx="194328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 built-i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3543480"/>
            <a:ext cx="1600200" cy="1143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ubl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371600"/>
            <a:ext cx="7086600" cy="571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our Custom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2400480"/>
            <a:ext cx="3200400" cy="6858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57480" y="194328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314880" y="1943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943280"/>
            <a:ext cx="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14600" y="3086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29280" y="30862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4686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01080" y="4686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29280" y="46864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6080" y="6172200"/>
            <a:ext cx="1028520" cy="34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779-7497-4BE1-875D-FD777D4A7A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Xist Function Document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 has around 384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for searching built in to each instal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7ED-9F5A-4780-B9E9-3748635F47C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eXist Function Documentation Too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950" t="22882" r="6313" b="5935"/>
          <a:stretch/>
        </p:blipFill>
        <p:spPr>
          <a:xfrm>
            <a:off x="800280" y="1028880"/>
            <a:ext cx="7429320" cy="4800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571680" y="4000680"/>
            <a:ext cx="1828800" cy="457200"/>
          </a:xfrm>
          <a:prstGeom prst="ellipse">
            <a:avLst/>
          </a:prstGeom>
          <a:noFill/>
          <a:ln w="284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29B-CD60-479C-9BAF-FD917E8000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ommon XQuery Built-in Funct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s for gett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c, coll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eric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s, avg, ceiling, floor, max, min, number, round, round-half-to-even, 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e and tim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rrent-dateTime, current-date, current-time, implicit-timez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inct-values, starts-with, deep-equal, empty, sub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string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cat, lower-case, substring, substring-before, substring-after, string-join, upper-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olean, not, false, 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ri-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se-uri, document-uri, namespace-uri, namespace-uri-for-pref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6577-2999-437F-A4C0-F41C68A35F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ommon eXist Built-in Extension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5712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processing incoming HTTP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-session, get-parameter, get-data, get-session, get-context-path, get –cookie-names, get-cookie-value, get-header, get-hostname, get-method, get-server-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Setting outgoing HTTP respo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irect, set-cookie, set-header, set-status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ml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collection, store, move, copy, change permissions, created, get-child-collections, remove, r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ert, update, replace, rename, de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 session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system status like build number, memory-free or index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filter, fuzzy-match-all, fuzzy-match-any, highlight-matches, kwic-display, match-all, match-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gra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full-text indexing contains, starts-with, ends-with, mat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– call, binary-doc, complie, eval, exclusive-lock, index-keys, log-system-out, rand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124-72CE-4ED3-A841-8E90F0D68A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ther eXist Extension Modu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end an e-mail to a person from the result of an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schedule reports to run at interv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compres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advanced mat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age Manag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enerate thumbnail images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ML Differenc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report on how XML files di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M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eography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1640" y="5600880"/>
            <a:ext cx="66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Note: These need to be configured by the eXist systems administ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A548-7393-4895-BD03-A17E9E9299B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20:36:56Z</dcterms:created>
  <dc:creator>HP Authorized Customer</dc:creator>
  <dc:description/>
  <dc:language>en-US</dc:language>
  <cp:lastModifiedBy>HP Authorized Customer</cp:lastModifiedBy>
  <dcterms:modified xsi:type="dcterms:W3CDTF">2008-10-03T14:02:21Z</dcterms:modified>
  <cp:revision>8</cp:revision>
  <dc:subject/>
  <dc:title>XQuery Functions Reusing XQuery Code Date: September, 2008</dc:title>
</cp:coreProperties>
</file>