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31480" y="690480"/>
            <a:ext cx="45975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6BA2-E03D-4337-9568-7273CFCE0138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5F34-0ED7-4607-9D83-E3948231FBF4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89DB3-2661-422D-906B-861CD9DFB648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7365-E662-47C6-B643-455F4221A2F1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061F-34AF-4D91-B88A-10CEB2C29203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218E-EBB1-489A-A2AC-62679D17DEC8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D554C-08DA-4420-BC0C-D59EEDC6E730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1A85-FD6E-4EC4-8873-0C04B6F25805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E0C2-593F-4720-9C7C-B31F16759AD0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1995F-EE6A-4E8E-93F3-9E24EBF2B870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1129-E20A-4C3B-B6FD-7CDD397F4BC1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217B-3207-4B18-B55B-AFAD7870C654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AA83-FFB3-4BB2-BACB-538CECA4AC0B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2C71-7E35-4421-A79C-C9A3261AD7D1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230A-19D7-4D51-AEDA-F1F7972853D7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8600" y="68904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70040"/>
            <a:ext cx="5486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5856-8BDA-4E78-A1A4-61E6EFC2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DD09-C597-4BC2-92BA-EFECA617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C9C-2D60-48C3-95D8-9DB606FF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43A-6078-43EE-97BA-C407168B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47D-79B1-4DEA-ACFA-1A890D3C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F81-E263-4CD7-B4DE-66728C2D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F816-B93C-4163-B0F6-E0FE0FE5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8FC6-FB83-4641-A1C4-4D24BD06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5245-6FA4-492E-AD6A-4D17D236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524-A338-4437-A29B-6ABC306A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9B1-AB85-4FE6-9BE4-C94F06C0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7E0-1957-4407-AB27-3348790E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2008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6C1C-A5CD-4DE7-A132-F968B440AF39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257480"/>
            <a:ext cx="9144000" cy="75960"/>
            <a:chOff x="0" y="125748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33344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25748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verview of XPath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an McCre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at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tober,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s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0.2 with TEI 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58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8" idx="5"/>
              <a:endCxn id="59" idx="1"/>
            </p:cNvCxnSpPr>
            <p:nvPr/>
          </p:nvCxnSpPr>
          <p:spPr>
            <a:xfrm>
              <a:off x="506520" y="6114240"/>
              <a:ext cx="219240" cy="221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476-F478-49A3-8C0F-915A015934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Path Also Provid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has functions for manipulation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and sets of nodes (elements-NameTest, KindTe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(substring, contains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s (position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s (and/or/not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6DB8-17F3-42AE-8B54-C67F1680FD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isclaimer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was chosen for teaching purposes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necessarily indicative of a full actual TEI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6691-B4BA-4696-BB36-5BFBAB5249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Xygen XPath Builder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15080" y="2743200"/>
            <a:ext cx="2523960" cy="28386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9440" y="1600200"/>
            <a:ext cx="51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erspective &gt; Show View &gt; XPath 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B855-9004-4769-B5F9-A0E7366115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XML Documen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TEI</a:t>
            </a:r>
            <a:r>
              <a:rPr b="0" lang="en-US" sz="1400" spc="-1" strike="noStrike">
                <a:solidFill>
                  <a:srgbClr val="f5844c"/>
                </a:solidFill>
                <a:latin typeface="Courier New"/>
              </a:rPr>
              <a:t> xmlns</a:t>
            </a:r>
            <a:r>
              <a:rPr b="0" lang="en-US" sz="1400" spc="-1" strike="noStrike">
                <a:solidFill>
                  <a:srgbClr val="ff804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Courier New"/>
              </a:rPr>
              <a:t>"http://www.tei-c.org/ns/1.0"</a:t>
            </a:r>
            <a:r>
              <a:rPr b="0" lang="en-US" sz="1400" spc="-1" strike="noStrike">
                <a:solidFill>
                  <a:srgbClr val="f5844c"/>
                </a:solidFill>
                <a:latin typeface="Courier New"/>
              </a:rPr>
              <a:t> xmlns:frus</a:t>
            </a:r>
            <a:r>
              <a:rPr b="0" lang="en-US" sz="1400" spc="-1" strike="noStrike">
                <a:solidFill>
                  <a:srgbClr val="ff804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Courier New"/>
              </a:rPr>
              <a:t>"http://history.state.gov/2008/frus"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tei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fileDesc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titleStm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title</a:t>
            </a:r>
            <a:r>
              <a:rPr b="0" lang="en-US" sz="1400" spc="-1" strike="noStrike">
                <a:solidFill>
                  <a:srgbClr val="f5844c"/>
                </a:solidFill>
                <a:latin typeface="Courier New"/>
              </a:rPr>
              <a:t> type</a:t>
            </a:r>
            <a:r>
              <a:rPr b="0" lang="en-US" sz="1400" spc="-1" strike="noStrike">
                <a:solidFill>
                  <a:srgbClr val="ff804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Courier New"/>
              </a:rPr>
              <a:t>"complete"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ign Relations of the United States, 1969-1976, Volu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-13: Documents on China, 1969-1972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title</a:t>
            </a:r>
            <a:r>
              <a:rPr b="0" lang="en-US" sz="1400" spc="-1" strike="noStrike">
                <a:solidFill>
                  <a:srgbClr val="f5844c"/>
                </a:solidFill>
                <a:latin typeface="Courier New"/>
              </a:rPr>
              <a:t> type</a:t>
            </a:r>
            <a:r>
              <a:rPr b="0" lang="en-US" sz="1400" spc="-1" strike="noStrike">
                <a:solidFill>
                  <a:srgbClr val="ff804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Courier New"/>
              </a:rPr>
              <a:t>"series"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ign Relations of the United States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title</a:t>
            </a:r>
            <a:r>
              <a:rPr b="0" lang="en-US" sz="1400" spc="-1" strike="noStrike">
                <a:solidFill>
                  <a:srgbClr val="f5844c"/>
                </a:solidFill>
                <a:latin typeface="Courier New"/>
              </a:rPr>
              <a:t> type</a:t>
            </a:r>
            <a:r>
              <a:rPr b="0" lang="en-US" sz="1400" spc="-1" strike="noStrike">
                <a:solidFill>
                  <a:srgbClr val="ff804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Courier New"/>
              </a:rPr>
              <a:t>"subseries"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969-1976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title</a:t>
            </a:r>
            <a:r>
              <a:rPr b="0" lang="en-US" sz="1400" spc="-1" strike="noStrike">
                <a:solidFill>
                  <a:srgbClr val="f5844c"/>
                </a:solidFill>
                <a:latin typeface="Courier New"/>
              </a:rPr>
              <a:t> type</a:t>
            </a:r>
            <a:r>
              <a:rPr b="0" lang="en-US" sz="1400" spc="-1" strike="noStrike">
                <a:solidFill>
                  <a:srgbClr val="ff804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Courier New"/>
              </a:rPr>
              <a:t>"volumenumber"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olume E-13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title</a:t>
            </a:r>
            <a:r>
              <a:rPr b="0" lang="en-US" sz="1400" spc="-1" strike="noStrike">
                <a:solidFill>
                  <a:srgbClr val="f5844c"/>
                </a:solidFill>
                <a:latin typeface="Courier New"/>
              </a:rPr>
              <a:t> type</a:t>
            </a:r>
            <a:r>
              <a:rPr b="0" lang="en-US" sz="1400" spc="-1" strike="noStrike">
                <a:solidFill>
                  <a:srgbClr val="ff804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Courier New"/>
              </a:rPr>
              <a:t>"volume"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cuments on China, 1969-1972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editor</a:t>
            </a:r>
            <a:r>
              <a:rPr b="0" lang="en-US" sz="1400" spc="-1" strike="noStrike">
                <a:solidFill>
                  <a:srgbClr val="f5844c"/>
                </a:solidFill>
                <a:latin typeface="Courier New"/>
              </a:rPr>
              <a:t> role</a:t>
            </a:r>
            <a:r>
              <a:rPr b="0" lang="en-US" sz="1400" spc="-1" strike="noStrike">
                <a:solidFill>
                  <a:srgbClr val="ff804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Courier New"/>
              </a:rPr>
              <a:t>"primary"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even E. Phillips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/edi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editor</a:t>
            </a:r>
            <a:r>
              <a:rPr b="0" lang="en-US" sz="1400" spc="-1" strike="noStrike">
                <a:solidFill>
                  <a:srgbClr val="f5844c"/>
                </a:solidFill>
                <a:latin typeface="Courier New"/>
              </a:rPr>
              <a:t> role</a:t>
            </a:r>
            <a:r>
              <a:rPr b="0" lang="en-US" sz="1400" spc="-1" strike="noStrike">
                <a:solidFill>
                  <a:srgbClr val="ff8040"/>
                </a:solidFill>
                <a:latin typeface="Courier New"/>
              </a:rPr>
              <a:t>=</a:t>
            </a:r>
            <a:r>
              <a:rPr b="0" lang="en-US" sz="1400" spc="-1" strike="noStrike">
                <a:solidFill>
                  <a:srgbClr val="993300"/>
                </a:solidFill>
                <a:latin typeface="Courier New"/>
              </a:rPr>
              <a:t>"general"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dward C. Keefer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/edit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400" spc="-1" strike="noStrike">
                <a:solidFill>
                  <a:srgbClr val="000096"/>
                </a:solidFill>
                <a:latin typeface="Courier New"/>
              </a:rPr>
              <a:t>&lt;/titleStmt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189-298E-4DC4-BD2C-11D8B8D789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17" name=""/>
          <p:cNvCxnSpPr>
            <a:endCxn id="118" idx="0"/>
          </p:cNvCxnSpPr>
          <p:nvPr/>
        </p:nvCxnSpPr>
        <p:spPr>
          <a:xfrm>
            <a:off x="3314880" y="4457880"/>
            <a:ext cx="3658320" cy="786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EI Tre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2400480" y="2286000"/>
            <a:ext cx="144756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 Narro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1486080"/>
            <a:ext cx="1143000" cy="5331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 Narrow"/>
              </a:rPr>
              <a:t>T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4"/>
            <a:endCxn id="120" idx="0"/>
          </p:cNvCxnSpPr>
          <p:nvPr/>
        </p:nvCxnSpPr>
        <p:spPr>
          <a:xfrm>
            <a:off x="2628720" y="2033280"/>
            <a:ext cx="495720" cy="238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3772080" y="1600200"/>
            <a:ext cx="106668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name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28880" y="2171880"/>
            <a:ext cx="1295280" cy="5331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 Narrow"/>
              </a:rPr>
              <a:t>tei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4"/>
            <a:endCxn id="124" idx="7"/>
          </p:cNvCxnSpPr>
          <p:nvPr/>
        </p:nvCxnSpPr>
        <p:spPr>
          <a:xfrm flipH="1">
            <a:off x="2134800" y="2033640"/>
            <a:ext cx="494640" cy="202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1" idx="6"/>
            <a:endCxn id="123" idx="2"/>
          </p:cNvCxnSpPr>
          <p:nvPr/>
        </p:nvCxnSpPr>
        <p:spPr>
          <a:xfrm>
            <a:off x="3214800" y="1752480"/>
            <a:ext cx="543600" cy="1152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914400" y="2971800"/>
            <a:ext cx="144792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 Narrow"/>
              </a:rPr>
              <a:t>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29080" y="3086280"/>
            <a:ext cx="1447560" cy="5331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 Narrow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0" idx="4"/>
            <a:endCxn id="128" idx="0"/>
          </p:cNvCxnSpPr>
          <p:nvPr/>
        </p:nvCxnSpPr>
        <p:spPr>
          <a:xfrm>
            <a:off x="3123720" y="2833560"/>
            <a:ext cx="229320" cy="239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0" idx="4"/>
            <a:endCxn id="127" idx="0"/>
          </p:cNvCxnSpPr>
          <p:nvPr/>
        </p:nvCxnSpPr>
        <p:spPr>
          <a:xfrm flipH="1">
            <a:off x="1637640" y="2833560"/>
            <a:ext cx="1486440" cy="124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943280" y="3886200"/>
            <a:ext cx="297180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 Narrow"/>
              </a:rPr>
              <a:t>div type="compilatio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28880" y="4800600"/>
            <a:ext cx="144756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 Narrow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28" idx="4"/>
            <a:endCxn id="131" idx="0"/>
          </p:cNvCxnSpPr>
          <p:nvPr/>
        </p:nvCxnSpPr>
        <p:spPr>
          <a:xfrm>
            <a:off x="3352680" y="3633480"/>
            <a:ext cx="76680" cy="238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2629080" y="4800600"/>
            <a:ext cx="91440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 Narrow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29080" y="5486400"/>
            <a:ext cx="274320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 Narrow"/>
              </a:rPr>
              <a:t>div type=“document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1" idx="4"/>
            <a:endCxn id="132" idx="0"/>
          </p:cNvCxnSpPr>
          <p:nvPr/>
        </p:nvCxnSpPr>
        <p:spPr>
          <a:xfrm flipH="1">
            <a:off x="1751760" y="4433400"/>
            <a:ext cx="1677240" cy="353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1" idx="4"/>
            <a:endCxn id="134" idx="0"/>
          </p:cNvCxnSpPr>
          <p:nvPr/>
        </p:nvCxnSpPr>
        <p:spPr>
          <a:xfrm flipH="1">
            <a:off x="3085920" y="4433400"/>
            <a:ext cx="343440" cy="353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1" idx="4"/>
            <a:endCxn id="135" idx="0"/>
          </p:cNvCxnSpPr>
          <p:nvPr/>
        </p:nvCxnSpPr>
        <p:spPr>
          <a:xfrm>
            <a:off x="3429000" y="4433760"/>
            <a:ext cx="572400" cy="103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4229280" y="4800600"/>
            <a:ext cx="91440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 Narrow"/>
              </a:rPr>
              <a:t>p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1" idx="4"/>
            <a:endCxn id="139" idx="1"/>
          </p:cNvCxnSpPr>
          <p:nvPr/>
        </p:nvCxnSpPr>
        <p:spPr>
          <a:xfrm>
            <a:off x="3428640" y="4433400"/>
            <a:ext cx="934200" cy="43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5600880" y="5257800"/>
            <a:ext cx="274320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 Narrow"/>
              </a:rPr>
              <a:t>div type=“document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B679-C6BB-43D1-9B73-38D4AADCD6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90/10 rule for XPath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of the time your XPath expressions will be very sim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will be just getting subsets of all the data in the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will use the default “child” se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31B-6FA1-4182-9E30-03E8C6D237F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XPath Child Expression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3080" y="148608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oot element of any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7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root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7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TE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TEI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7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TEI/teiHea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tex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7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TEI/text/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text body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7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TEI/text/body/div/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text body sub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17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/TEI/text/body/div/head/div/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1B9C-D9F4-4C0E-8374-F510E03B41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electing Attribut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select an attribute you must add the @ symbol to the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 select only the divs that have an attribute type="document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div[@type="document"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0FB-E40E-4940-8AA2-3E012ED58D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Getting Data with //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ll the person names in the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pers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ll the dates or notes in the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 all the notes of type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note[@type='summary'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FD38-3006-49F9-98F0-9FF8552724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Coun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of the number of paragraphs in the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(//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of the number of div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(//d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of the number of person n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(//persNa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F17-16B1-4870-BCE7-7DD7798611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bjectiv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 short overview of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be why knowledge of XPath is important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 analy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 develop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nstrate XPath using TEI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DCC-0F41-4C6E-A484-C954238F9F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at’s the Context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evaluates expressions relative to a cont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specified by one of the technologies that extend XPath, such as XSLT and XPoi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context node, context size, context positio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XSLT, the context node is the current node being evalu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987-5737-4E98-8C42-BB5375D61F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XPath Syntax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 for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=‘value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 ] – predicate, e.g. First in sequence: [1]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: las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- wild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@ -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- all children of the context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– context node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 – parent of the context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692-2649-496E-BF0D-7714E26B74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Path String Operation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s-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ds-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-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ring-bef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tring-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-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malize-uni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per-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-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-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c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-uri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D072-3F8D-4A43-BFFD-97FB7A0958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oolean Operator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oolean(1 and 1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turns 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1 and 0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turns fal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1 or 0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turns 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1 and 1 and (1 or 0))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returns tr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0C3-0834-4AF3-8E7B-D039C7B290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ontains(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1680" y="148608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s true if the first string passed contains the second string pa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p[contains(.,'President')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E35-0C2F-4DFA-80E8-F2F4956B33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enefits of XPath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analy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se specification of constraints, support for graphical representation of rules, easy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ject 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rten development cycle, easier to change business log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 develo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ttern matching language for routing of documents based on rules, platform and language neutr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available for manipulating nodes, sets of nodes, strings, numbers, or boolean. Based on regular expressions and mathematical model. Good for mapping and transforming documents from one type to an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69A2-10BB-4E76-AFF7-441CD02771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o Find Out Mor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2.0 Programmer's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Michael K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ve XSLT and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G. Ken Hol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SLT and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Robert Gardner and Zarella L. Rend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7D5-F7C9-4066-817D-290621F321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M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Managemen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AAF0-B50D-4C3A-BB98-AFB7348314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efinition XPath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Path: "A language for addressing parts of an XML document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milar to a DOS or UNIX "file system path" but with powerful expres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Path is to XML what the SQL "select" statement is to SQ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Path 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a full programming language or a query langu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D810-68FD-405C-9A90-A36CA5584E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Path Related Standard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XSLT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– XPath is used to tell XSLT how to match ta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XLink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mila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to HTML links &lt;a&gt; but more powerfu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XPointer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- a standard manner for identifying document frag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XQuery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– a newer, more comprehensive standard that includes XPath 2.0 and allows more complex searches and data types include relational database searches.  Includes clauses for "for, let, where, order-by, return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252B-7209-43C2-82FA-0522A21B2A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Version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3C Recommendation November, 16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w3.org/TR/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3C Working Draft October, 29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w3.org/TR/xpath20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A923-813E-41E7-9FCC-766908F88F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ther Familiar Path Nam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:\Program Files\Altova\XMLSPY2004\Examples\Tuto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ttp://www.google.com/search?hl=en&amp;lr=lang_en&amp;&amp;q=X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/usr/local/lib/mylib/myprogram.j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ilar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Absolute path starts with "/"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Relative paths express do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start with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"/"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614-6504-4167-98D7-716E074267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Path Has Relative Expression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"/>
          <p:cNvSpPr/>
          <p:nvPr/>
        </p:nvSpPr>
        <p:spPr>
          <a:xfrm>
            <a:off x="4457880" y="3276720"/>
            <a:ext cx="838080" cy="533160"/>
          </a:xfrm>
          <a:prstGeom prst="ellipse">
            <a:avLst/>
          </a:prstGeom>
          <a:solidFill>
            <a:srgbClr val="eaeaea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57880" y="4343400"/>
            <a:ext cx="83808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2" idx="4"/>
            <a:endCxn id="73" idx="0"/>
          </p:cNvCxnSpPr>
          <p:nvPr/>
        </p:nvCxnSpPr>
        <p:spPr>
          <a:xfrm>
            <a:off x="4876560" y="3838680"/>
            <a:ext cx="1080" cy="4910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4457880" y="2438280"/>
            <a:ext cx="83808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4"/>
            <a:endCxn id="72" idx="0"/>
          </p:cNvCxnSpPr>
          <p:nvPr/>
        </p:nvCxnSpPr>
        <p:spPr>
          <a:xfrm>
            <a:off x="4876560" y="2985840"/>
            <a:ext cx="1080" cy="26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4457880" y="1523880"/>
            <a:ext cx="83808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ce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77" idx="4"/>
            <a:endCxn id="75" idx="0"/>
          </p:cNvCxnSpPr>
          <p:nvPr/>
        </p:nvCxnSpPr>
        <p:spPr>
          <a:xfrm>
            <a:off x="4876560" y="2071440"/>
            <a:ext cx="1080" cy="35316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009960" y="3276720"/>
            <a:ext cx="838080" cy="5331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b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5" idx="3"/>
            <a:endCxn id="79" idx="7"/>
          </p:cNvCxnSpPr>
          <p:nvPr/>
        </p:nvCxnSpPr>
        <p:spPr>
          <a:xfrm flipH="1">
            <a:off x="3725640" y="2908080"/>
            <a:ext cx="854640" cy="432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4457880" y="5410080"/>
            <a:ext cx="106668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sce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73" idx="4"/>
            <a:endCxn id="81" idx="0"/>
          </p:cNvCxnSpPr>
          <p:nvPr/>
        </p:nvCxnSpPr>
        <p:spPr>
          <a:xfrm>
            <a:off x="4876560" y="4890600"/>
            <a:ext cx="114840" cy="505800"/>
          </a:xfrm>
          <a:prstGeom prst="straightConnector1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905440" y="3352680"/>
            <a:ext cx="83844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ib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75" idx="5"/>
            <a:endCxn id="83" idx="1"/>
          </p:cNvCxnSpPr>
          <p:nvPr/>
        </p:nvCxnSpPr>
        <p:spPr>
          <a:xfrm>
            <a:off x="5173200" y="2908080"/>
            <a:ext cx="855000" cy="508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2170440" y="1600200"/>
            <a:ext cx="980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ece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01160" y="1600200"/>
            <a:ext cx="913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oll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05440" y="2095560"/>
            <a:ext cx="83844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ce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76440" y="2133720"/>
            <a:ext cx="838440" cy="5331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ces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77" idx="3"/>
            <a:endCxn id="88" idx="7"/>
          </p:cNvCxnSpPr>
          <p:nvPr/>
        </p:nvCxnSpPr>
        <p:spPr>
          <a:xfrm flipH="1">
            <a:off x="3192120" y="1994040"/>
            <a:ext cx="1388160" cy="203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7" idx="5"/>
            <a:endCxn id="87" idx="1"/>
          </p:cNvCxnSpPr>
          <p:nvPr/>
        </p:nvCxnSpPr>
        <p:spPr>
          <a:xfrm>
            <a:off x="5173200" y="1994040"/>
            <a:ext cx="855000" cy="16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2171880" y="1943280"/>
            <a:ext cx="1904760" cy="205740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2057400"/>
              <a:gd name="textAreaBottom" fmla="*/ 1964520 h 2057400"/>
            </a:gdLst>
            <a:ahLst/>
            <a:rect l="textAreaLeft" t="textAreaTop" r="textAreaRight" b="textAreaBottom"/>
            <a:pathLst>
              <a:path w="21600" h="23331">
                <a:moveTo>
                  <a:pt x="3600" y="0"/>
                </a:moveTo>
                <a:arcTo wR="3600" hR="3600" stAng="16200000" swAng="-5400000"/>
                <a:lnTo>
                  <a:pt x="0" y="19731"/>
                </a:lnTo>
                <a:arcTo wR="3600" hR="3600" stAng="10800000" swAng="-5400000"/>
                <a:lnTo>
                  <a:pt x="18000" y="233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72280" y="1943280"/>
            <a:ext cx="1904760" cy="205740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2057400"/>
              <a:gd name="textAreaBottom" fmla="*/ 1964520 h 2057400"/>
            </a:gdLst>
            <a:ahLst/>
            <a:rect l="textAreaLeft" t="textAreaTop" r="textAreaRight" b="textAreaBottom"/>
            <a:pathLst>
              <a:path w="21600" h="23331">
                <a:moveTo>
                  <a:pt x="3600" y="0"/>
                </a:moveTo>
                <a:arcTo wR="3600" hR="3600" stAng="16200000" swAng="-5400000"/>
                <a:lnTo>
                  <a:pt x="0" y="19731"/>
                </a:lnTo>
                <a:arcTo wR="3600" hR="3600" stAng="10800000" swAng="-5400000"/>
                <a:lnTo>
                  <a:pt x="18000" y="233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629400" y="377172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43880" y="4838760"/>
            <a:ext cx="1504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following-sib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86280" y="4343400"/>
            <a:ext cx="83808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53160" y="4419720"/>
            <a:ext cx="838080" cy="53316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hi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72" idx="3"/>
            <a:endCxn id="95" idx="7"/>
          </p:cNvCxnSpPr>
          <p:nvPr/>
        </p:nvCxnSpPr>
        <p:spPr>
          <a:xfrm flipH="1">
            <a:off x="3801240" y="3760920"/>
            <a:ext cx="778680" cy="646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2" idx="5"/>
            <a:endCxn id="96" idx="1"/>
          </p:cNvCxnSpPr>
          <p:nvPr/>
        </p:nvCxnSpPr>
        <p:spPr>
          <a:xfrm>
            <a:off x="5173200" y="3760920"/>
            <a:ext cx="702360" cy="722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6058080" y="5486400"/>
            <a:ext cx="106668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sce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6" idx="4"/>
            <a:endCxn id="99" idx="0"/>
          </p:cNvCxnSpPr>
          <p:nvPr/>
        </p:nvCxnSpPr>
        <p:spPr>
          <a:xfrm>
            <a:off x="6172200" y="4967280"/>
            <a:ext cx="419760" cy="505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2933640" y="5486400"/>
            <a:ext cx="1067040" cy="533520"/>
          </a:xfrm>
          <a:prstGeom prst="ellipse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descend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73" idx="3"/>
            <a:endCxn id="101" idx="0"/>
          </p:cNvCxnSpPr>
          <p:nvPr/>
        </p:nvCxnSpPr>
        <p:spPr>
          <a:xfrm flipH="1">
            <a:off x="3466800" y="4813200"/>
            <a:ext cx="1113120" cy="65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flipV="1">
            <a:off x="2286000" y="3657240"/>
            <a:ext cx="83808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2600" y="4572000"/>
            <a:ext cx="1572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preceding-sib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209-F4A4-47DE-8D43-6240B3627E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7480" y="457200"/>
            <a:ext cx="6743520" cy="606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06AC-9617-4493-B21E-3E9E1DA0B4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ocation Step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XPath expression contains one or more "location steps", separated by slashes. Each location step has the following unabbreviated for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s-name :: node-test [predicate]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breviated form is more commonly used, so that is what this example uses. It refers to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hi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x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-test [predicate]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BCC9-470E-42D7-A52D-BD8E88CCC5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9:11:48Z</dcterms:created>
  <dc:creator>HP Authorized Customer</dc:creator>
  <dc:description/>
  <dc:language>en-US</dc:language>
  <cp:lastModifiedBy>HP Authorized Customer</cp:lastModifiedBy>
  <dcterms:modified xsi:type="dcterms:W3CDTF">2008-10-02T21:49:38Z</dcterms:modified>
  <cp:revision>2</cp:revision>
  <dc:subject/>
  <dc:title>Overview of XPath</dc:title>
</cp:coreProperties>
</file>