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4FDE-4633-4631-BF0A-26513B1C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61548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A22B-E930-4A01-8192-32322D66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61548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61548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6EFB-7A1B-4C3B-AEFE-F441BA0D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61548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61548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61548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1D02-6148-4136-844F-AB9FEDD4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D5D2-732F-42CA-9146-5CCBC4EB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258C-E4B7-413F-A0A3-13C095D6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140F-EC49-44A0-8D89-9C35B69C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FD4F-5AAF-41CA-9D13-208F2305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14120"/>
            <a:ext cx="77724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5E70-1150-4B3A-8A07-BF868CF6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61548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8B2E-F2C7-4167-A68E-E55B8A81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61548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DC89-3380-400B-8F1C-6808BC0F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1548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AC19-85AF-4C7D-8E23-6ADD20AD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560" y="62485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2008 Dan McCreary &amp; Assoc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AB30-2686-41C9-97AA-9F81048ED8FD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5829480"/>
            <a:ext cx="774720" cy="790560"/>
            <a:chOff x="228600" y="5829480"/>
            <a:chExt cx="774720" cy="790560"/>
          </a:xfrm>
        </p:grpSpPr>
        <p:sp>
          <p:nvSpPr>
            <p:cNvPr id="6" name=""/>
            <p:cNvSpPr/>
            <p:nvPr/>
          </p:nvSpPr>
          <p:spPr>
            <a:xfrm>
              <a:off x="228600" y="5829480"/>
              <a:ext cx="325440" cy="333360"/>
            </a:xfrm>
            <a:prstGeom prst="ellipse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77880" y="6286680"/>
              <a:ext cx="325440" cy="33336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" name=""/>
            <p:cNvCxnSpPr/>
            <p:nvPr/>
          </p:nvCxnSpPr>
          <p:spPr>
            <a:xfrm>
              <a:off x="506520" y="6127920"/>
              <a:ext cx="219600" cy="194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" name=""/>
          <p:cNvGrpSpPr/>
          <p:nvPr/>
        </p:nvGrpSpPr>
        <p:grpSpPr>
          <a:xfrm>
            <a:off x="0" y="1257480"/>
            <a:ext cx="9144000" cy="75960"/>
            <a:chOff x="0" y="1257480"/>
            <a:chExt cx="9144000" cy="75960"/>
          </a:xfrm>
        </p:grpSpPr>
        <p:sp>
          <p:nvSpPr>
            <p:cNvPr id="10" name=""/>
            <p:cNvSpPr/>
            <p:nvPr/>
          </p:nvSpPr>
          <p:spPr>
            <a:xfrm>
              <a:off x="0" y="1333440"/>
              <a:ext cx="914400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1257480"/>
              <a:ext cx="9144000" cy="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tyling XForms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sing CSS to make your forms look grea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e: 10/9/200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57800" y="457164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n McCr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n McCreary &amp; Associ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n@danmccrea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952) 931-91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20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673520" y="2546280"/>
            <a:ext cx="9360" cy="9360"/>
            <a:chOff x="4673520" y="2546280"/>
            <a:chExt cx="9360" cy="9360"/>
          </a:xfrm>
        </p:grpSpPr>
        <p:grpSp>
          <p:nvGrpSpPr>
            <p:cNvPr id="52" name=""/>
            <p:cNvGrpSpPr/>
            <p:nvPr/>
          </p:nvGrpSpPr>
          <p:grpSpPr>
            <a:xfrm>
              <a:off x="4678200" y="2550960"/>
              <a:ext cx="360" cy="360"/>
              <a:chOff x="4678200" y="2550960"/>
              <a:chExt cx="360" cy="360"/>
            </a:xfrm>
          </p:grpSpPr>
          <p:sp>
            <p:nvSpPr>
              <p:cNvPr id="53" name=""/>
              <p:cNvSpPr/>
              <p:nvPr/>
            </p:nvSpPr>
            <p:spPr>
              <a:xfrm>
                <a:off x="4678200" y="25509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78200" y="2550960"/>
                <a:ext cx="36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4673520" y="2546280"/>
              <a:ext cx="9360" cy="9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3080" y="5143680"/>
            <a:ext cx="2209320" cy="1383120"/>
            <a:chOff x="343080" y="5143680"/>
            <a:chExt cx="2209320" cy="1383120"/>
          </a:xfrm>
        </p:grpSpPr>
        <p:sp>
          <p:nvSpPr>
            <p:cNvPr id="57" name=""/>
            <p:cNvSpPr/>
            <p:nvPr/>
          </p:nvSpPr>
          <p:spPr>
            <a:xfrm>
              <a:off x="808200" y="5143680"/>
              <a:ext cx="464400" cy="464400"/>
            </a:xfrm>
            <a:prstGeom prst="ellipse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89240" y="5724360"/>
              <a:ext cx="465120" cy="46512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"/>
            <p:cNvCxnSpPr>
              <a:stCxn id="57" idx="5"/>
              <a:endCxn id="58" idx="1"/>
            </p:cNvCxnSpPr>
            <p:nvPr/>
          </p:nvCxnSpPr>
          <p:spPr>
            <a:xfrm>
              <a:off x="1204560" y="5540040"/>
              <a:ext cx="253080" cy="252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"/>
            <p:cNvSpPr/>
            <p:nvPr/>
          </p:nvSpPr>
          <p:spPr>
            <a:xfrm>
              <a:off x="343080" y="6189480"/>
              <a:ext cx="22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etadata 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BBC8-9C58-4B95-B9F6-41904902639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Block Control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71680" y="1714680"/>
            <a:ext cx="7772400" cy="36576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c00"/>
                </a:solidFill>
                <a:latin typeface="Times New Roman"/>
              </a:rPr>
              <a:t>/* All form controls appear on their own line with a 5px margin above and below between controls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f|</a:t>
            </a:r>
            <a:r>
              <a:rPr b="0" lang="en-US" sz="2800" spc="-1" strike="noStrike">
                <a:solidFill>
                  <a:srgbClr val="000096"/>
                </a:solidFill>
                <a:latin typeface="Times New Roman"/>
              </a:rPr>
              <a:t>inp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xf|</a:t>
            </a:r>
            <a:r>
              <a:rPr b="0" lang="en-US" sz="2800" spc="-1" strike="noStrike">
                <a:solidFill>
                  <a:srgbClr val="000096"/>
                </a:solidFill>
                <a:latin typeface="Times New Roman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xf|select1, xf|</a:t>
            </a:r>
            <a:r>
              <a:rPr b="0" lang="en-US" sz="2800" spc="-1" strike="noStrike">
                <a:solidFill>
                  <a:srgbClr val="000096"/>
                </a:solidFill>
                <a:latin typeface="Times New Roman"/>
              </a:rPr>
              <a:t>text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afaf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af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d4"/>
                </a:solidFill>
                <a:latin typeface="Times New Roman"/>
              </a:rPr>
              <a:t>display</a:t>
            </a:r>
            <a:r>
              <a:rPr b="0" lang="en-US" sz="2800" spc="-1" strike="noStrike">
                <a:solidFill>
                  <a:srgbClr val="980000"/>
                </a:solidFill>
                <a:latin typeface="Times New Roman"/>
              </a:rPr>
              <a:t>:block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d4"/>
                </a:solidFill>
                <a:latin typeface="Times New Roman"/>
              </a:rPr>
              <a:t>width</a:t>
            </a:r>
            <a:r>
              <a:rPr b="0" lang="en-US" sz="2800" spc="-1" strike="noStrike">
                <a:solidFill>
                  <a:srgbClr val="98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%</a:t>
            </a:r>
            <a:r>
              <a:rPr b="0" lang="en-US" sz="2800" spc="-1" strike="noStrike">
                <a:solidFill>
                  <a:srgbClr val="98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d4"/>
                </a:solidFill>
                <a:latin typeface="Times New Roman"/>
              </a:rPr>
              <a:t>margin</a:t>
            </a:r>
            <a:r>
              <a:rPr b="0" lang="en-US" sz="2800" spc="-1" strike="noStrike">
                <a:solidFill>
                  <a:srgbClr val="98000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px 0</a:t>
            </a:r>
            <a:r>
              <a:rPr b="0" lang="en-US" sz="2800" spc="-1" strike="noStrike">
                <a:solidFill>
                  <a:srgbClr val="98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faf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2514600" y="4686120"/>
            <a:ext cx="114480" cy="10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7640" y="571500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rgin above and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24000" y="5715000"/>
            <a:ext cx="26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rgin left and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3086280" y="4686120"/>
            <a:ext cx="2171520" cy="102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A241-3DFF-4C73-B612-7A25FBC594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Right Align Label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407664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f|</a:t>
            </a: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 xf|</a:t>
            </a: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f|</a:t>
            </a: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sel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 xf|</a:t>
            </a: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f|select1 &gt; xf|</a:t>
            </a: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f|</a:t>
            </a: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textare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 xf|</a:t>
            </a: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faf00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af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d4"/>
                </a:solidFill>
                <a:latin typeface="Arial"/>
              </a:rPr>
              <a:t>text-align</a:t>
            </a:r>
            <a:r>
              <a:rPr b="0" lang="en-US" sz="3200" spc="-1" strike="noStrike">
                <a:solidFill>
                  <a:srgbClr val="980000"/>
                </a:solidFill>
                <a:latin typeface="Arial"/>
              </a:rPr>
              <a:t>:righ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d4"/>
                </a:solidFill>
                <a:latin typeface="Arial"/>
              </a:rPr>
              <a:t>padding-right</a:t>
            </a:r>
            <a:r>
              <a:rPr b="0" lang="en-US" sz="3200" spc="-1" strike="noStrike">
                <a:solidFill>
                  <a:srgbClr val="98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px</a:t>
            </a:r>
            <a:r>
              <a:rPr b="0" lang="en-US" sz="3200" spc="-1" strike="noStrike">
                <a:solidFill>
                  <a:srgbClr val="98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faf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F8B0-57C2-48B1-9920-5A4C00CBDA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elect1 and Input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adjust the vertical s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943600" cy="173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601C-8B8E-4F67-A130-009FA82476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Required Field Option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40766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c00"/>
                </a:solidFill>
                <a:latin typeface="Arial"/>
              </a:rPr>
              <a:t>/* Differentiate between required fields and non-required fields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f|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input</a:t>
            </a:r>
            <a:r>
              <a:rPr b="0" lang="en-US" sz="2000" spc="-1" strike="noStrike">
                <a:solidFill>
                  <a:srgbClr val="98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</a:t>
            </a:r>
            <a:r>
              <a:rPr b="0" lang="en-US" sz="2000" spc="-1" strike="noStrike">
                <a:solidFill>
                  <a:srgbClr val="afaf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00d4"/>
                </a:solidFill>
                <a:latin typeface="Arial"/>
              </a:rPr>
              <a:t>font-weight</a:t>
            </a:r>
            <a:r>
              <a:rPr b="0" lang="en-US" sz="2000" spc="-1" strike="noStrike">
                <a:solidFill>
                  <a:srgbClr val="98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80000"/>
                </a:solidFill>
                <a:latin typeface="Arial"/>
              </a:rPr>
              <a:t>bold;</a:t>
            </a:r>
            <a:r>
              <a:rPr b="0" lang="en-US" sz="2000" spc="-1" strike="noStrike">
                <a:solidFill>
                  <a:srgbClr val="afaf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f|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input</a:t>
            </a:r>
            <a:r>
              <a:rPr b="0" lang="en-US" sz="2000" spc="-1" strike="noStrike">
                <a:solidFill>
                  <a:srgbClr val="98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</a:t>
            </a:r>
            <a:r>
              <a:rPr b="0" lang="en-US" sz="2000" spc="-1" strike="noStrike">
                <a:solidFill>
                  <a:srgbClr val="98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f-value </a:t>
            </a:r>
            <a:r>
              <a:rPr b="0" lang="en-US" sz="2000" spc="-1" strike="noStrike">
                <a:solidFill>
                  <a:srgbClr val="afaf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00d4"/>
                </a:solidFill>
                <a:latin typeface="Arial"/>
              </a:rPr>
              <a:t>background-color: </a:t>
            </a:r>
            <a:r>
              <a:rPr b="0" lang="en-US" sz="2000" spc="-1" strike="noStrike">
                <a:solidFill>
                  <a:srgbClr val="980000"/>
                </a:solidFill>
                <a:latin typeface="Arial"/>
              </a:rPr>
              <a:t>yellow;</a:t>
            </a:r>
            <a:r>
              <a:rPr b="0" lang="en-US" sz="2000" spc="-1" strike="noStrike">
                <a:solidFill>
                  <a:srgbClr val="afaf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c00"/>
                </a:solidFill>
                <a:latin typeface="Arial"/>
              </a:rPr>
              <a:t>/* This adds a red asterisk after the required input fields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98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2000" spc="-1" strike="noStrike">
                <a:solidFill>
                  <a:srgbClr val="980000"/>
                </a:solidFill>
                <a:latin typeface="Arial"/>
              </a:rPr>
              <a:t>: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lang="en-US" sz="2000" spc="-1" strike="noStrike">
                <a:solidFill>
                  <a:srgbClr val="afaf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00d4"/>
                </a:solidFill>
                <a:latin typeface="Arial"/>
              </a:rPr>
              <a:t>font-weight</a:t>
            </a:r>
            <a:r>
              <a:rPr b="0" lang="en-US" sz="2000" spc="-1" strike="noStrike">
                <a:solidFill>
                  <a:srgbClr val="980000"/>
                </a:solidFill>
                <a:latin typeface="Arial"/>
              </a:rPr>
              <a:t>:bold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d4"/>
                </a:solidFill>
                <a:latin typeface="Arial"/>
              </a:rPr>
              <a:t>font-size</a:t>
            </a:r>
            <a:r>
              <a:rPr b="0" lang="en-US" sz="2000" spc="-1" strike="noStrike">
                <a:solidFill>
                  <a:srgbClr val="98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98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em</a:t>
            </a:r>
            <a:r>
              <a:rPr b="0" lang="en-US" sz="2000" spc="-1" strike="noStrike">
                <a:solidFill>
                  <a:srgbClr val="98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d4"/>
                </a:solidFill>
                <a:latin typeface="Arial"/>
              </a:rPr>
              <a:t>content</a:t>
            </a:r>
            <a:r>
              <a:rPr b="0" lang="en-US" sz="2000" spc="-1" strike="noStrike">
                <a:solidFill>
                  <a:srgbClr val="98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595936"/>
                </a:solidFill>
                <a:latin typeface="Arial"/>
              </a:rPr>
              <a:t>"*"</a:t>
            </a:r>
            <a:r>
              <a:rPr b="0" lang="en-US" sz="2000" spc="-1" strike="noStrike">
                <a:solidFill>
                  <a:srgbClr val="980000"/>
                </a:solidFill>
                <a:latin typeface="Arial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d4"/>
                </a:solidFill>
                <a:latin typeface="Arial"/>
              </a:rPr>
              <a:t>color</a:t>
            </a:r>
            <a:r>
              <a:rPr b="0" lang="en-US" sz="2000" spc="-1" strike="noStrike">
                <a:solidFill>
                  <a:srgbClr val="98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80000"/>
                </a:solidFill>
                <a:latin typeface="Arial"/>
              </a:rPr>
              <a:t>red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afaf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E24D-A3D4-4351-B3BC-A24478F70F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hank You!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contact me for more infor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XML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 Regi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Oriented Archit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Intelligence and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n McCreary,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n McCreary &amp; Associ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tadata Strategy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n@danmccreary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952) 931-91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82D6-3F39-4579-BD27-4EEF5E9584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Outlin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use C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Forms namesp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alig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control dim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385A-6DB2-4597-8373-A23CFD90C9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Why CSS?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Forms is a w3c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S is a w3c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reinvent the whe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5493-7783-4336-B792-C301C93EF9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Background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form layout is different from paper form lay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per forms we designed to reduce the amount of paper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s were “den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users want clear labels, hints, examples and h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384A-FA80-457A-B8EE-8F6B3F4C92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halleng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most difficult part about learning XForms is learning C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: use someone else’s XForms styleshe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7378-7B1B-4006-AE0C-A42D3F6C70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XForms Namespac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@namespace xf </a:t>
            </a:r>
            <a:r>
              <a:rPr b="0" lang="en-US" sz="3200" spc="-1" strike="noStrike">
                <a:solidFill>
                  <a:srgbClr val="980000"/>
                </a:solidFill>
                <a:latin typeface="Times New Roman"/>
              </a:rPr>
              <a:t>ur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595936"/>
                </a:solidFill>
                <a:latin typeface="Times New Roman"/>
              </a:rPr>
              <a:t>"http://www.w3.org/2002/xforms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98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0000"/>
                </a:solidFill>
                <a:latin typeface="Times New Roman"/>
              </a:rPr>
              <a:t>xf|input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21720" y="4915080"/>
            <a:ext cx="38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te that the “:” is already in 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F620-E303-4423-802D-53B5B84778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erminology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3772080"/>
            <a:ext cx="777240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b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the text that identifies a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ol Va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the area that the user enters th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00200" y="2171880"/>
            <a:ext cx="5943600" cy="7966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V="1">
            <a:off x="1600200" y="2857680"/>
            <a:ext cx="571680" cy="799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3FB5-B15D-4FE1-8F40-7F00149205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imple Form Layou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71880" y="1828800"/>
            <a:ext cx="4000320" cy="244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286000" y="2171880"/>
            <a:ext cx="1600200" cy="2057400"/>
          </a:xfrm>
          <a:prstGeom prst="rect">
            <a:avLst/>
          </a:prstGeom>
          <a:noFill/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2171880"/>
            <a:ext cx="2171880" cy="2057400"/>
          </a:xfrm>
          <a:prstGeom prst="rect">
            <a:avLst/>
          </a:prstGeom>
          <a:noFill/>
          <a:ln w="381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C912-5398-42E3-BB26-4CE3B716DB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Layout issu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3885840"/>
            <a:ext cx="800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 full-text descri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ion 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371600" y="1486080"/>
            <a:ext cx="6858000" cy="188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CB48-B43D-4641-801B-F0B33583BA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5:28:23Z</dcterms:created>
  <dc:creator>HP Authorized Customer</dc:creator>
  <dc:description/>
  <dc:language>en-US</dc:language>
  <cp:lastModifiedBy>Dan McCreary</cp:lastModifiedBy>
  <dcterms:modified xsi:type="dcterms:W3CDTF">2008-10-09T11:49:19Z</dcterms:modified>
  <cp:revision>9</cp:revision>
  <dc:subject/>
  <dc:title>Importing XML Importing and Splitting XML Data Date: 9/30/2008</dc:title>
</cp:coreProperties>
</file>